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FFD3-10A7-4BE2-B354-9DD99705AF7A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54D5-16E7-434E-8518-1BEC28458535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9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χείριση αρχείων στην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SI 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χείριση αρχείων στο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Ροές δεδομένων εισόδου / εξόδου στη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χείριση καταλόγ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dirent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IR * opendir (const char * 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osedir (DIR * di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irent * readdir (DIR * di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υλοποίηση εντολής  </a:t>
            </a: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IR * dir = opendir ("/home/nickie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irent * d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(dp = readdir (dir))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s\n", dp-&gt;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osedir(di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δεδομένων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ιτουργίες εισόδου / εξόδου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ιούνται από κλάσεις της βιβλιο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είο επικεφαλίδων </a:t>
            </a:r>
            <a:r>
              <a:rPr b="1" lang="el-GR" sz="2800" spc="-1" strike="noStrike">
                <a:solidFill>
                  <a:srgbClr val="660066"/>
                </a:solidFill>
                <a:latin typeface="Courier New"/>
              </a:rPr>
              <a:t>&lt;iostream.h&gt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οί τελεστές:  </a:t>
            </a:r>
            <a:r>
              <a:rPr b="1" lang="el-GR" sz="2800" spc="-1" strike="noStrike">
                <a:solidFill>
                  <a:srgbClr val="660066"/>
                </a:solidFill>
                <a:latin typeface="Courier New"/>
              </a:rPr>
              <a:t>&gt;&gt;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και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&lt;&lt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κλά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ενικές ροές εισόδου / 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, ostream, iostre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Ροές αρχείων εισόδου / 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stream, ofstream, iofstre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Ροές εισόδου / εξόδου από συμβολοσειρ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stream, ostrstream, iostrstre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δεδομένων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55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login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login: 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in &gt;&gt; logi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code: 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in &gt;&gt; c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You gave " &lt;&lt; log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"and " &lt;&lt; code 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5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καθορισμένες ρο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, cin, cerr, c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άσ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stre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operator &lt;&lt; (ostream &amp;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 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put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write (const char * buf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flush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άση i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e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operator &gt;&gt; (ostream &amp;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 T &amp;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get (char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et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read (char * buf,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getline (char * buf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size, char delim = '\n'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eek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putback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NSI 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ός τύπ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stdio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5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p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ίκτης σε αρχείο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&amp; κλείσιμο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ope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reope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mode, FILE * oldf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dopen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lose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flush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NSI 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&amp; εγγραφ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c (int c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getc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s (const char * s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fgets (char * s, int n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rint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can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NSI 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&amp; εγγραφή δυαδικώ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write (const 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read (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έλο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eof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υχαία προσπέλαση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eek (FILE * fp, long offset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rig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ftell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ός τύπ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io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5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d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ριγραφή αρχείου (file descript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fcntl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mode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reat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ose (int f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&amp; εγγραφ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write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void * p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read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void * p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υχαία προσπέλαση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ff_t lseek (int fd, off_t po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whenc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κληροί σύνδεσμο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link (const char * cur_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new_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unlink (const char * cur_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ιχεία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at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struct stat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tat (int fd, struct stat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ιχεία που μπορούν να διαβαστού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της και ομάδ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ύπος αρχείου και δικαιώματα πρόσβα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Φυσική θέση στο σύστημα αρχεί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γεθος αρχεί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ός σκληρών συνδέσμ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όνος τελευταίας αλλαγής ή πρόσβα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καιώματα πρόσβασ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ccess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hmod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mode_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hmod (int fd, mode_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ήστης και ομάδ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how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uid_t uid, gid_t gi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hown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uid_t uid, gid_t gi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ικοί σύνδεσμο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ymlink (const char * cur_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new_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adlink (const char * cur_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har * buf,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καταλόγ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kdir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mode_t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4-05T09:22:29Z</dcterms:modified>
  <cp:revision>74</cp:revision>
  <dc:subject>ΛΟΓ201: Τεχνολογία Λογισμικού ΙΙ</dc:subject>
  <dc:title>Διαφάνειες παρουσίασης</dc:title>
</cp:coreProperties>
</file>