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DD46-56A2-4358-AC2B-C199D16DB32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EC04-2F6C-4AB0-9D21-E2F900722C7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SI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dirent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opendir (const char * 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read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υλοποίηση εντολής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dir = opendir ("/home/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d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dp = readdir (dir))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\n", dp-&gt;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osedir(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εισόδου / εξόδου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από κλάσεις τη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ο επικεφαλίδων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lt;iostream.h&g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οί τελεστές: 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gt;&gt;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και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&lt;&l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κλά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ές ροές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, ostream, io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αρχείων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, ofstream, iof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εισόδου / εξόδου από συμβολοσειρ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stream, ostrstream, iostr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5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login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login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log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ode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You gave " &lt;&lt; lo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and " &lt;&lt; code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αθορισμένες ρο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, cin, cerr, c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put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write (const 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flush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i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operator &gt;&g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&amp;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 (char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read (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line (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ize, char delim = '\n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ee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putback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ης σε αρχεί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&amp; 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re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, FILE * old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dope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flush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 δυαδικ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έλ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eek (FILE * fp, long offset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rig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ftell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ριγραφή αρχείου (file descript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cntl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re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f_t lseek (int fd, off_t po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whenc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unlink (const char * cur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tat (int fd,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που μπορούν να διαβαστού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ς και ομάδ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αρχείου και δικαιώματα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Φυσική θέση στο σύστημα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σκληρών συνδέσμ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τελευταίας αλλαγής ή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ccess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mod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mod (int fd,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ήστης και ομάδ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ow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ow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m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ad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kdir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05T09:22:29Z</dcterms:modified>
  <cp:revision>74</cp:revision>
  <dc:subject>ΛΟΓ201: Τεχνολογία Λογισμικού ΙΙ</dc:subject>
  <dc:title>Διαφάνειες παρουσίασης</dc:title>
</cp:coreProperties>
</file>