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18F4-BBC6-404C-8FB1-EDC658875E79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16760" y="457200"/>
            <a:ext cx="59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201: Τεχνολογία Λογισμικού Ι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201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F392-6379-4333-BAAA-C67F4556E289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9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ιαχείριση αρχείων στην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NSI C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ιαχείριση αρχείων στο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Uni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Ροές δεδομένων εισόδου / εξόδου στη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++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χείριση αρχείων στο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Unix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v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ιαχείριση καταλόγων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dirent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.h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IR * opendir (const char * nam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closedir (DIR * dir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dirent * readdir (DIR * dir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: υλοποίηση εντολής  </a:t>
            </a:r>
            <a:r>
              <a:rPr b="1" lang="en-US" sz="3200" spc="-1" strike="noStrike">
                <a:solidFill>
                  <a:srgbClr val="660066"/>
                </a:solidFill>
                <a:latin typeface="Courier New"/>
              </a:rPr>
              <a:t>l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IR * dir = opendir ("/home/nickie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dirent * d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(dp = readdir (dir)) !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s\n", dp-&gt;nam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losedir(dir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Ροές δεδομένων στη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++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ι λειτουργίες εισόδου / εξόδου στη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++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λοποιούνται από κλάσεις της βιβλιοθήκ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ρχείο επικεφαλίδων </a:t>
            </a:r>
            <a:r>
              <a:rPr b="1" lang="el-GR" sz="2800" spc="-1" strike="noStrike">
                <a:solidFill>
                  <a:srgbClr val="660066"/>
                </a:solidFill>
                <a:latin typeface="Courier New"/>
              </a:rPr>
              <a:t>&lt;iostream.h&gt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Βασικοί τελεστές:  </a:t>
            </a:r>
            <a:r>
              <a:rPr b="1" lang="el-GR" sz="2800" spc="-1" strike="noStrike">
                <a:solidFill>
                  <a:srgbClr val="660066"/>
                </a:solidFill>
                <a:latin typeface="Courier New"/>
              </a:rPr>
              <a:t>&gt;&gt;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 και 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&lt;&lt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Βασικές κλάσει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-27432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Γενικές ροές εισόδου / εξόδ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stream, ostream, iostrea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Ροές αρχείων εισόδου / εξόδ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stream, ofstream, iofstrea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Ροές εισόδου / εξόδου από συμβολοσειρέ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strstream, ostrstream, iostrstrea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Ροές δεδομένων στη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++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include &lt;iostream.h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55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login[1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cod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"login: 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in &gt;&gt; logi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"code: 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in &gt;&gt; cod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 &lt;&lt; "You gave " &lt;&lt; logi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&lt;&lt; "and " &lt;&lt; code &lt;&lt; end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5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Ροές εισόδου / εξόδου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ροκαθορισμένες ροέ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ut, cin, cerr, clo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λάση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ostrea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ostream &amp; operator &lt;&lt; (ostream &amp; s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       T 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ostream &amp; put (char 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ostream &amp; write (const char * buf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  int siz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ostream &amp; flush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Ροές εισόδου / εξόδου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λάση i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rea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stream &amp; operator &gt;&gt; (ostream &amp; s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         T &amp; 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stream &amp; get (char &amp; 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get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stream &amp; read (char * buf, int siz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stream &amp; getline (char * buf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int size, char delim = '\n'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peek (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stream &amp; putback (char 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χείριση αρχείων στην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ANSI C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Βασικός τύπος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&lt;stdio.h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5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LE * fp;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είκτης σε αρχείο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νοιγμα &amp; κλείσιμο αρχε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LE * fopen (const char * name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const char * mod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LE * freopen (const char * name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const char * mode, FILE * oldf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ILE * fdopen (int fd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const char * mod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close (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flush (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χείριση αρχείων στην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ANSI C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άγνωση &amp; εγγραφή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putc (int c, 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getc (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puts (const char * s, 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* fgets (char * s, int n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  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printf (FILE * fp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const char * format, ..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scanf (FILE * fp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const char * format, ..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χείριση αρχείων στην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ANSI C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άγνωση &amp; εγγραφή δυαδικών δεδομέν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ize_t fwrite (const void * p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ize_t size, size_t num, 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ize_t fread (void * p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ize_t size, size_t num, 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έλος αρ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eof (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υχαία προσπέλαση αρχε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seek (FILE * fp, long offset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origi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ong ftell (FILE * f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χείριση αρχείων στο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Unix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Βασικός τύπος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&lt;io.h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50000"/>
              </a:lnSpc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d;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περιγραφή αρχείου (file descripto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νοιγμα αρχείων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fcntl.h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open (const char * name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int mode, ..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creat (const char * name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int mod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λείσιμο αρχείων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unistd.h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close (int f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χείριση αρχείων στο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Unix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άγνωση &amp; εγγραφή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unistd.h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size_t write (int fd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const void * p, size_t siz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size_t read (int fd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void * p, size_t siz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υχαία προσπέλαση αρχείων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unistd.h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off_t lseek (int fd, off_t pos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whenc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κληροί σύνδεσμοι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unistd.h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link (const char * cur_name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const char * new_nam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unlink (const char * cur_nam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χείριση αρχείων στο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Unix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τοιχεία αρχείων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&lt;unistd.h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stat (const char * name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struct stat *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stat (int fd, struct stat *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τοιχεία που μπορούν να διαβαστού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ρήστης και ομάδ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ύπος αρχείου και δικαιώματα πρόσβα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Φυσική θέση στο σύστημα αρχεί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έγεθος αρχείο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ριθμός σκληρών συνδέσμ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ρόνος τελευταίας αλλαγής ή πρόσβα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χείριση αρχείων στο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Unix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ικαιώματα πρόσβασης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&lt;unistd.h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ccess (const char * name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int flag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chmod (const char * name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mode_t flag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chmod (int fd, mode_t flag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Χρήστης και ομάδα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&lt;unistd.h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chown (const char * name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uid_t uid, gid_t gi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chown (int fd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uid_t uid, gid_t gi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χείριση αρχείων στο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Unix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μβολικοί σύνδεσμοι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&lt;unistd.h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symlink (const char * cur_name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const char * new_nam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readlink (const char * cur_name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char * buf, int siz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ημιουργία καταλόγων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660066"/>
                </a:solidFill>
                <a:latin typeface="Courier New"/>
              </a:rPr>
              <a:t>&lt;unistd.h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0528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kdir (const char * name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mode_t mod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28T15:47:30Z</cp:lastPrinted>
  <dcterms:modified xsi:type="dcterms:W3CDTF">2000-04-05T09:22:29Z</dcterms:modified>
  <cp:revision>74</cp:revision>
  <dc:subject>ΛΟΓ201: Τεχνολογία Λογισμικού ΙΙ</dc:subject>
  <dc:title>Διαφάνειες παρουσίασης</dc:title>
</cp:coreProperties>
</file>