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76B0-9292-4C76-A891-B63C20803651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2039-4E64-4038-BC0D-9D6043D89F2E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8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Το σύστημα αρχείων του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ρχεί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Τύποι αρχεί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ύνδεσμο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καιώματα πρόσβαση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ο σύστημα αρχείων του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ε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Βασικά δομικά στοιχεία κάθε σύγχρονου λειτουργικού συστή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α σύγχρονα λειτουργικά συστήματα παρέχουν προγραμματιστικές διαπροσωπείες για τη διαχείριση αρχεί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ο σύστημα αρχείων του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ι αρχείων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x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λά αρχεί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άλογοι (directori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μβολικοί σύνδεσμοι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ymbolic link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ασωληνώσει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ip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σκευές χαρακτήρων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aracter devic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σκευές μπλοκ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lock devic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ύποι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λά αρχε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έχουν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εκτελέσιμα προγράμματ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ή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εδομέν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η διαχείριση των οποίων είναι ευθύνη των προγραμμάτ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τάλογο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έχουν απλά αρχεία ή καταλόγους, υλοποιώντας έτσι μι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ενδρική δομ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150000"/>
              </a:lnSpc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kdir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di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ημιουργία νέου κενού καταλόγο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mdir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di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ιαγραφή κενού καταλόγο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d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di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λλαγή τρέχοντος καταλόγο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ύποι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βολικοί σύνδεσμο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ναι δείκτες σε αρχεία ή καταλόγ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σωληνώ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ησιμοποιούνται ως προσωρινός αποθηκευτικός χώρος για την επικοινωνία μεταξύ διεργασι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σκευ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απαριστούν συσκευές που μεταδίδουν δεδομένα είτε ένα χαρακτήρα τη φορά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τε ένα μπλοκ τη φορ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ο σύστημα αρχείων του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όλυτα ονόμα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/et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/home/nickie/boo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/home/pau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/etc/passw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23680" y="1523880"/>
            <a:ext cx="4141800" cy="4552920"/>
            <a:chOff x="4423680" y="1523880"/>
            <a:chExt cx="4141800" cy="4552920"/>
          </a:xfrm>
        </p:grpSpPr>
        <p:sp>
          <p:nvSpPr>
            <p:cNvPr id="99" name=""/>
            <p:cNvSpPr/>
            <p:nvPr/>
          </p:nvSpPr>
          <p:spPr>
            <a:xfrm flipH="1">
              <a:off x="5715000" y="1981080"/>
              <a:ext cx="914400" cy="53352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9400" y="1981080"/>
              <a:ext cx="762120" cy="53352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67480" y="2971800"/>
              <a:ext cx="457200" cy="53352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15000" y="2971800"/>
              <a:ext cx="60948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876920" y="2971800"/>
              <a:ext cx="83808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410080" y="3962520"/>
              <a:ext cx="914400" cy="68580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24480" y="3962520"/>
              <a:ext cx="533520" cy="68580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400800" y="5029200"/>
              <a:ext cx="45720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0" y="5029200"/>
              <a:ext cx="38088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21400" y="1523880"/>
              <a:ext cx="25560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18960" y="3543480"/>
              <a:ext cx="117000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nicki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38080" y="2533680"/>
              <a:ext cx="80424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hom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90920" y="2533680"/>
              <a:ext cx="62136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etc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23680" y="3543480"/>
              <a:ext cx="80424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aul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75800" y="4591080"/>
              <a:ext cx="135288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courses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33520" y="4591080"/>
              <a:ext cx="80424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book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24240" y="5638680"/>
              <a:ext cx="62136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10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38640" y="5638680"/>
              <a:ext cx="62136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20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5480" y="3543480"/>
              <a:ext cx="117000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asswd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933960" y="3885840"/>
            <a:ext cx="2207520" cy="1511640"/>
            <a:chOff x="6933960" y="3885840"/>
            <a:chExt cx="2207520" cy="1511640"/>
          </a:xfrm>
        </p:grpSpPr>
        <p:sp>
          <p:nvSpPr>
            <p:cNvPr id="119" name=""/>
            <p:cNvSpPr/>
            <p:nvPr/>
          </p:nvSpPr>
          <p:spPr>
            <a:xfrm flipH="1" flipV="1">
              <a:off x="6933960" y="3885840"/>
              <a:ext cx="1066680" cy="76212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57560" y="457200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τρέχων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κατάλογο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85800" y="38098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χετικά ονόματ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boo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urses/20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./courses/10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../pau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../../etc/passw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ύνδεσμοι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links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790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κληροί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ard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Ένα αρχείο ανήκει σε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σσότερου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αλόγ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ln book courses/boo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809880"/>
            <a:ext cx="5638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βολικοί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ymboli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ιδικός τύπος αρχεί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ίκτης σε άλλο αρχεί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ln -s /etc/passwd courses/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226120" y="3809880"/>
            <a:ext cx="3155760" cy="2489400"/>
            <a:chOff x="5226120" y="3809880"/>
            <a:chExt cx="3155760" cy="2489400"/>
          </a:xfrm>
        </p:grpSpPr>
        <p:sp>
          <p:nvSpPr>
            <p:cNvPr id="126" name=""/>
            <p:cNvSpPr/>
            <p:nvPr/>
          </p:nvSpPr>
          <p:spPr>
            <a:xfrm flipH="1">
              <a:off x="5257440" y="4800600"/>
              <a:ext cx="1600200" cy="67644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26120" y="5419800"/>
              <a:ext cx="255600" cy="4381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10080" y="3809880"/>
              <a:ext cx="2971800" cy="2489400"/>
            </a:xfrm>
            <a:custGeom>
              <a:avLst/>
              <a:gdLst/>
              <a:ahLst/>
              <a:rect l="l" t="t" r="r" b="b"/>
              <a:pathLst>
                <a:path w="1848" h="1568">
                  <a:moveTo>
                    <a:pt x="0" y="1296"/>
                  </a:moveTo>
                  <a:cubicBezTo>
                    <a:pt x="360" y="1432"/>
                    <a:pt x="720" y="1568"/>
                    <a:pt x="1008" y="1536"/>
                  </a:cubicBezTo>
                  <a:cubicBezTo>
                    <a:pt x="1296" y="1504"/>
                    <a:pt x="1608" y="1360"/>
                    <a:pt x="1728" y="1104"/>
                  </a:cubicBezTo>
                  <a:cubicBezTo>
                    <a:pt x="1848" y="848"/>
                    <a:pt x="1788" y="424"/>
                    <a:pt x="1728" y="0"/>
                  </a:cubicBezTo>
                </a:path>
              </a:pathLst>
            </a:custGeom>
            <a:noFill/>
            <a:ln w="19080">
              <a:solidFill>
                <a:srgbClr val="333333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033520" y="3733920"/>
            <a:ext cx="1290960" cy="1066680"/>
            <a:chOff x="5033520" y="3733920"/>
            <a:chExt cx="1290960" cy="1066680"/>
          </a:xfrm>
        </p:grpSpPr>
        <p:sp>
          <p:nvSpPr>
            <p:cNvPr id="130" name=""/>
            <p:cNvSpPr/>
            <p:nvPr/>
          </p:nvSpPr>
          <p:spPr>
            <a:xfrm flipH="1">
              <a:off x="5410080" y="3733920"/>
              <a:ext cx="914400" cy="68580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33520" y="4362480"/>
              <a:ext cx="80424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book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851360" y="3733920"/>
            <a:ext cx="2006280" cy="2124000"/>
            <a:chOff x="4851360" y="3733920"/>
            <a:chExt cx="2006280" cy="2124000"/>
          </a:xfrm>
        </p:grpSpPr>
        <p:pic>
          <p:nvPicPr>
            <p:cNvPr id="133" name="χχχ" descr=""/>
            <p:cNvPicPr/>
            <p:nvPr/>
          </p:nvPicPr>
          <p:blipFill>
            <a:blip r:embed="rId2"/>
            <a:stretch/>
          </p:blipFill>
          <p:spPr>
            <a:xfrm>
              <a:off x="4851360" y="3733920"/>
              <a:ext cx="162576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 flipH="1">
              <a:off x="5257440" y="4800600"/>
              <a:ext cx="1600200" cy="67644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257440" y="3733920"/>
              <a:ext cx="1066680" cy="174312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80880" y="5419800"/>
              <a:ext cx="80424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book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23680" y="1295280"/>
            <a:ext cx="4717800" cy="4552920"/>
            <a:chOff x="4423680" y="1295280"/>
            <a:chExt cx="4717800" cy="4552920"/>
          </a:xfrm>
        </p:grpSpPr>
        <p:sp>
          <p:nvSpPr>
            <p:cNvPr id="138" name=""/>
            <p:cNvSpPr/>
            <p:nvPr/>
          </p:nvSpPr>
          <p:spPr>
            <a:xfrm flipH="1">
              <a:off x="5715000" y="1752480"/>
              <a:ext cx="914400" cy="53352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29400" y="1752480"/>
              <a:ext cx="762120" cy="53352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67480" y="2743200"/>
              <a:ext cx="457200" cy="53352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15000" y="2743200"/>
              <a:ext cx="60948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876920" y="2743200"/>
              <a:ext cx="83808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24480" y="3733920"/>
              <a:ext cx="533520" cy="68580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400800" y="4800600"/>
              <a:ext cx="45720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0" y="4800600"/>
              <a:ext cx="38088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21400" y="1295280"/>
              <a:ext cx="25560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8080" y="2305080"/>
              <a:ext cx="80424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hom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90920" y="2305080"/>
              <a:ext cx="62136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etc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3680" y="3314880"/>
              <a:ext cx="80424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aul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75800" y="4362480"/>
              <a:ext cx="135288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courses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24240" y="5410080"/>
              <a:ext cx="62136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10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38640" y="5410080"/>
              <a:ext cx="62136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20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95480" y="3314880"/>
              <a:ext cx="117000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asswd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6933960" y="3657240"/>
              <a:ext cx="1066680" cy="76212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57560" y="434340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τρέχων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κατάλογο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18960" y="3314880"/>
              <a:ext cx="117000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nicki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καιώματα πρόσβαση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αρχείο χαρακτηρίζεται από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ήστη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ser)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ον οποίο ανήκε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μάδα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roup)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στην οποία ανήκε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ά δικαιώματα πρόσβα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καιώματα χρήστ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καιώματα ομάδα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καιώματα υπολοίπ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495680" y="3505320"/>
            <a:ext cx="2210040" cy="2133360"/>
            <a:chOff x="4495680" y="3505320"/>
            <a:chExt cx="2210040" cy="2133360"/>
          </a:xfrm>
        </p:grpSpPr>
        <p:sp>
          <p:nvSpPr>
            <p:cNvPr id="160" name=""/>
            <p:cNvSpPr/>
            <p:nvPr/>
          </p:nvSpPr>
          <p:spPr>
            <a:xfrm>
              <a:off x="5943600" y="5105520"/>
              <a:ext cx="762120" cy="5331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24480" y="3505320"/>
              <a:ext cx="0" cy="1600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505320"/>
              <a:ext cx="18288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495680" y="3962520"/>
            <a:ext cx="3067200" cy="1676160"/>
            <a:chOff x="4495680" y="3962520"/>
            <a:chExt cx="3067200" cy="1676160"/>
          </a:xfrm>
        </p:grpSpPr>
        <p:sp>
          <p:nvSpPr>
            <p:cNvPr id="164" name=""/>
            <p:cNvSpPr/>
            <p:nvPr/>
          </p:nvSpPr>
          <p:spPr>
            <a:xfrm>
              <a:off x="6800760" y="5105520"/>
              <a:ext cx="762120" cy="53316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95680" y="3962520"/>
              <a:ext cx="26672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962520"/>
              <a:ext cx="0" cy="11430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029200" y="4343400"/>
            <a:ext cx="3390840" cy="1295280"/>
            <a:chOff x="5029200" y="4343400"/>
            <a:chExt cx="3390840" cy="1295280"/>
          </a:xfrm>
        </p:grpSpPr>
        <p:sp>
          <p:nvSpPr>
            <p:cNvPr id="168" name=""/>
            <p:cNvSpPr/>
            <p:nvPr/>
          </p:nvSpPr>
          <p:spPr>
            <a:xfrm>
              <a:off x="7658280" y="5105520"/>
              <a:ext cx="76176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9200" y="4343400"/>
              <a:ext cx="29718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01000" y="4343400"/>
              <a:ext cx="0" cy="762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473800" y="5105520"/>
            <a:ext cx="3134520" cy="1221480"/>
            <a:chOff x="5473800" y="5105520"/>
            <a:chExt cx="3134520" cy="1221480"/>
          </a:xfrm>
        </p:grpSpPr>
        <p:sp>
          <p:nvSpPr>
            <p:cNvPr id="172" name=""/>
            <p:cNvSpPr/>
            <p:nvPr/>
          </p:nvSpPr>
          <p:spPr>
            <a:xfrm>
              <a:off x="5473800" y="5105520"/>
              <a:ext cx="380880" cy="5331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90240" y="5867280"/>
              <a:ext cx="191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τύπος αρχείου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697360" y="609588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697360" y="5638680"/>
              <a:ext cx="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83880" y="51055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- rwx r-x r-x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4800600"/>
            <a:ext cx="7467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δικαίωμ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νάγνω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w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δικαίωμ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εγγραφ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x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δικαίωμ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εκτέλε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5:47:30Z</cp:lastPrinted>
  <dcterms:modified xsi:type="dcterms:W3CDTF">2000-03-29T08:15:54Z</dcterms:modified>
  <cp:revision>65</cp:revision>
  <dc:subject>ΛΟΓ201: Τεχνολογία Λογισμικού ΙΙ</dc:subject>
  <dc:title>Διαφάνειες παρουσίασης</dc:title>
</cp:coreProperties>
</file>