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4DC5-CFD7-47CE-B7AE-9FB494BE3CC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F46-FB70-49CF-9276-12E5F41331B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ο σύστημα αρχείων του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ύποι αρχεί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ύνδεσμ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καιώματα πρόσβασ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ασικά δομικά στοιχεία κάθε σύγχρονου λειτουργικού συστ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σύγχρονα λειτουργικά συστήματα παρέχουν προγραμματιστικές διαπροσωπείες για τη διαχείριση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ι αρχείων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λά 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λογοι (directori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μβολικοί σύνδεσμοι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ymbolic link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σωληνώσει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ip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σκευές χαρακτήρων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acter devic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σκευές μπλοκ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ock devic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ά αρ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ου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κτελέσιμα προγράμματ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ή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δομέν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η διαχείριση των οποίων είναι ευθύνη των προγραμ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τάλογ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έχουν απλά αρχεία ή καταλόγους, υλοποιώντας έτσι μ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νδρική δο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5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kdir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ημιουργία νέου κενού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mdir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αγραφή κενού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d </a:t>
            </a:r>
            <a:r>
              <a:rPr b="1" i="1" lang="en-US" sz="2400" spc="-1" strike="noStrike">
                <a:solidFill>
                  <a:srgbClr val="333333"/>
                </a:solidFill>
                <a:latin typeface="Courier New"/>
              </a:rPr>
              <a:t>dir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λαγή τρέχοντος καταλόγ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 σύνδεσμο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δείκτες σε αρχεία ή καταλόγ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σωληνώ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οποιούνται ως προσωρινός αποθηκευτικός χώρος για την επικοινωνία μεταξύ διεργασι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σκευ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παριστούν συσκευές που μεταδίδουν δεδομένα είτε ένα χαρακτήρα τη φορά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ένα μπλοκ τη φο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ο σύστημα αρχείων του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όλυτα ονό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et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home/nickie/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home/pau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etc/passw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23680" y="1523880"/>
            <a:ext cx="4141800" cy="4552920"/>
            <a:chOff x="4423680" y="1523880"/>
            <a:chExt cx="4141800" cy="4552920"/>
          </a:xfrm>
        </p:grpSpPr>
        <p:sp>
          <p:nvSpPr>
            <p:cNvPr id="99" name=""/>
            <p:cNvSpPr/>
            <p:nvPr/>
          </p:nvSpPr>
          <p:spPr>
            <a:xfrm flipH="1">
              <a:off x="5715000" y="1981080"/>
              <a:ext cx="9144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400" y="1981080"/>
              <a:ext cx="76212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2971800"/>
              <a:ext cx="4572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2971800"/>
              <a:ext cx="6094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920" y="2971800"/>
              <a:ext cx="8380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10080" y="3962520"/>
              <a:ext cx="91440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24480" y="3962520"/>
              <a:ext cx="53352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400800" y="5029200"/>
              <a:ext cx="45720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5029200"/>
              <a:ext cx="3808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21400" y="1523880"/>
              <a:ext cx="2556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18960" y="3543480"/>
              <a:ext cx="11700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ick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8080" y="25336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hom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0920" y="2533680"/>
              <a:ext cx="62136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et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23680" y="35434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5800" y="4591080"/>
              <a:ext cx="135288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urs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33520" y="459108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4240" y="56386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0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8640" y="56386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0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5480" y="3543480"/>
              <a:ext cx="117000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ssw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933960" y="3885840"/>
            <a:ext cx="2207520" cy="1511640"/>
            <a:chOff x="6933960" y="3885840"/>
            <a:chExt cx="2207520" cy="1511640"/>
          </a:xfrm>
        </p:grpSpPr>
        <p:sp>
          <p:nvSpPr>
            <p:cNvPr id="119" name=""/>
            <p:cNvSpPr/>
            <p:nvPr/>
          </p:nvSpPr>
          <p:spPr>
            <a:xfrm flipH="1" flipV="1">
              <a:off x="6933960" y="3885840"/>
              <a:ext cx="1066680" cy="7621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57560" y="45720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ρέχων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ατάλογο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" y="38098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ονόματ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rses/20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/courses/10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./pau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../../etc/passw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ύνδεσμοι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link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κληροί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d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 αρχείο ανήκει σε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σσότερου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αλόγ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n book courses/boo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809880"/>
            <a:ext cx="563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ymboli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δικός τύπος αρχεί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ίκτης σε άλλο αρχεί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ln -s /etc/passwd courses/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26120" y="3809880"/>
            <a:ext cx="3155760" cy="2489400"/>
            <a:chOff x="5226120" y="3809880"/>
            <a:chExt cx="3155760" cy="2489400"/>
          </a:xfrm>
        </p:grpSpPr>
        <p:sp>
          <p:nvSpPr>
            <p:cNvPr id="126" name=""/>
            <p:cNvSpPr/>
            <p:nvPr/>
          </p:nvSpPr>
          <p:spPr>
            <a:xfrm flipH="1">
              <a:off x="5257440" y="4800600"/>
              <a:ext cx="1600200" cy="67644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6120" y="5419800"/>
              <a:ext cx="255600" cy="4381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3809880"/>
              <a:ext cx="2971800" cy="2489400"/>
            </a:xfrm>
            <a:custGeom>
              <a:avLst/>
              <a:gdLst/>
              <a:ahLst/>
              <a:rect l="l" t="t" r="r" b="b"/>
              <a:pathLst>
                <a:path w="1848" h="1568">
                  <a:moveTo>
                    <a:pt x="0" y="1296"/>
                  </a:moveTo>
                  <a:cubicBezTo>
                    <a:pt x="360" y="1432"/>
                    <a:pt x="720" y="1568"/>
                    <a:pt x="1008" y="1536"/>
                  </a:cubicBezTo>
                  <a:cubicBezTo>
                    <a:pt x="1296" y="1504"/>
                    <a:pt x="1608" y="1360"/>
                    <a:pt x="1728" y="1104"/>
                  </a:cubicBezTo>
                  <a:cubicBezTo>
                    <a:pt x="1848" y="848"/>
                    <a:pt x="1788" y="424"/>
                    <a:pt x="1728" y="0"/>
                  </a:cubicBezTo>
                </a:path>
              </a:pathLst>
            </a:custGeom>
            <a:noFill/>
            <a:ln w="19080">
              <a:solidFill>
                <a:srgbClr val="333333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3520" y="3733920"/>
            <a:ext cx="1290960" cy="1066680"/>
            <a:chOff x="5033520" y="3733920"/>
            <a:chExt cx="1290960" cy="1066680"/>
          </a:xfrm>
        </p:grpSpPr>
        <p:sp>
          <p:nvSpPr>
            <p:cNvPr id="130" name=""/>
            <p:cNvSpPr/>
            <p:nvPr/>
          </p:nvSpPr>
          <p:spPr>
            <a:xfrm flipH="1">
              <a:off x="5410080" y="3733920"/>
              <a:ext cx="91440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33520" y="436248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51360" y="3733920"/>
            <a:ext cx="2006280" cy="2124000"/>
            <a:chOff x="4851360" y="3733920"/>
            <a:chExt cx="2006280" cy="2124000"/>
          </a:xfrm>
        </p:grpSpPr>
        <p:pic>
          <p:nvPicPr>
            <p:cNvPr id="133" name="χχχ" descr=""/>
            <p:cNvPicPr/>
            <p:nvPr/>
          </p:nvPicPr>
          <p:blipFill>
            <a:blip r:embed="rId2"/>
            <a:stretch/>
          </p:blipFill>
          <p:spPr>
            <a:xfrm>
              <a:off x="4851360" y="3733920"/>
              <a:ext cx="16257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flipH="1">
              <a:off x="5257440" y="4800600"/>
              <a:ext cx="1600200" cy="67644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257440" y="3733920"/>
              <a:ext cx="1066680" cy="17431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80880" y="5419800"/>
              <a:ext cx="80424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3680" y="1295280"/>
            <a:ext cx="4717800" cy="4552920"/>
            <a:chOff x="4423680" y="1295280"/>
            <a:chExt cx="4717800" cy="4552920"/>
          </a:xfrm>
        </p:grpSpPr>
        <p:sp>
          <p:nvSpPr>
            <p:cNvPr id="138" name=""/>
            <p:cNvSpPr/>
            <p:nvPr/>
          </p:nvSpPr>
          <p:spPr>
            <a:xfrm flipH="1">
              <a:off x="5715000" y="1752480"/>
              <a:ext cx="9144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752480"/>
              <a:ext cx="76212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2743200"/>
              <a:ext cx="457200" cy="53352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2743200"/>
              <a:ext cx="6094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76920" y="2743200"/>
              <a:ext cx="8380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3733920"/>
              <a:ext cx="533520" cy="68580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400800" y="4800600"/>
              <a:ext cx="45720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0" y="4800600"/>
              <a:ext cx="380880" cy="609480"/>
            </a:xfrm>
            <a:prstGeom prst="line">
              <a:avLst/>
            </a:prstGeom>
            <a:ln w="1908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1400" y="1295280"/>
              <a:ext cx="2556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/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080" y="23050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hom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90920" y="2305080"/>
              <a:ext cx="62136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et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3680" y="3314880"/>
              <a:ext cx="80424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5800" y="4362480"/>
              <a:ext cx="135288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urs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24240" y="54100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0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8640" y="5410080"/>
              <a:ext cx="62136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0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5480" y="3314880"/>
              <a:ext cx="1170000" cy="438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assw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933960" y="3657240"/>
              <a:ext cx="1066680" cy="7621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57560" y="43434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ρέχων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ατάλογο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8960" y="3314880"/>
              <a:ext cx="1170000" cy="4381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icki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καιώματα πρόσβασ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αρχείο χαρακτηρίζεται από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τη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ser)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ν οποίο ανήκ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μάδα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roup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στην οποία ανήκε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ά δικαιώματα πρόσβ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χρήσ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ομάδ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καιώματα υπολοίπ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95680" y="3505320"/>
            <a:ext cx="2210040" cy="2133360"/>
            <a:chOff x="4495680" y="3505320"/>
            <a:chExt cx="2210040" cy="2133360"/>
          </a:xfrm>
        </p:grpSpPr>
        <p:sp>
          <p:nvSpPr>
            <p:cNvPr id="160" name=""/>
            <p:cNvSpPr/>
            <p:nvPr/>
          </p:nvSpPr>
          <p:spPr>
            <a:xfrm>
              <a:off x="5943600" y="5105520"/>
              <a:ext cx="76212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4480" y="3505320"/>
              <a:ext cx="0" cy="160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505320"/>
              <a:ext cx="1828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962520"/>
            <a:ext cx="3067200" cy="1676160"/>
            <a:chOff x="4495680" y="3962520"/>
            <a:chExt cx="3067200" cy="1676160"/>
          </a:xfrm>
        </p:grpSpPr>
        <p:sp>
          <p:nvSpPr>
            <p:cNvPr id="164" name=""/>
            <p:cNvSpPr/>
            <p:nvPr/>
          </p:nvSpPr>
          <p:spPr>
            <a:xfrm>
              <a:off x="6800760" y="5105520"/>
              <a:ext cx="762120" cy="53316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3962520"/>
              <a:ext cx="2667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3962520"/>
              <a:ext cx="0" cy="11430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29200" y="4343400"/>
            <a:ext cx="3390840" cy="1295280"/>
            <a:chOff x="5029200" y="4343400"/>
            <a:chExt cx="3390840" cy="1295280"/>
          </a:xfrm>
        </p:grpSpPr>
        <p:sp>
          <p:nvSpPr>
            <p:cNvPr id="168" name=""/>
            <p:cNvSpPr/>
            <p:nvPr/>
          </p:nvSpPr>
          <p:spPr>
            <a:xfrm>
              <a:off x="7658280" y="5105520"/>
              <a:ext cx="76176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4343400"/>
              <a:ext cx="29718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01000" y="4343400"/>
              <a:ext cx="0" cy="762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73800" y="5105520"/>
            <a:ext cx="3134520" cy="1221480"/>
            <a:chOff x="5473800" y="5105520"/>
            <a:chExt cx="3134520" cy="1221480"/>
          </a:xfrm>
        </p:grpSpPr>
        <p:sp>
          <p:nvSpPr>
            <p:cNvPr id="172" name=""/>
            <p:cNvSpPr/>
            <p:nvPr/>
          </p:nvSpPr>
          <p:spPr>
            <a:xfrm>
              <a:off x="5473800" y="5105520"/>
              <a:ext cx="380880" cy="5331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0240" y="5867280"/>
              <a:ext cx="191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ύπος αρχείου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697360" y="6095880"/>
              <a:ext cx="990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97360" y="563868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3880" y="5105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- rwx r-x r-x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800600"/>
            <a:ext cx="746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ν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w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γγραφ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x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δικαίωμ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29T08:15:54Z</dcterms:modified>
  <cp:revision>65</cp:revision>
  <dc:subject>ΛΟΓ201: Τεχνολογία Λογισμικού ΙΙ</dc:subject>
  <dc:title>Διαφάνειες παρουσίασης</dc:title>
</cp:coreProperties>
</file>