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C7A1-0470-472E-96A4-96847540DDA1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16760" y="457200"/>
            <a:ext cx="59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201: Τεχνολογία Λογισμικού Ι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201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7142-0798-462E-A37C-C5BCF5999960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7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Templates συναρτήσε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emplates </a:t>
            </a: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κλάσε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Templates και κληρονομικότητα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emplates </a:t>
            </a: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και φίλες συναρτήσει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Χειρισμός εξαιρέσε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Templates 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λάσε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: ζεύγη ανομο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emplate &lt;class T1, class T2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Pai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vate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1 eFir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2 eSecond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air (const T1 &amp; a, const T2 &amp; b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1 fst () con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2 snd () con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Templates 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λάσε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emplate &lt;class T1, class T2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air&lt;T1, T2&gt;::Pair (const T1 &amp; a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T2 &amp; b)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First(a), eSecond(b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 /* nothing */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emplate &lt;class T1, class T2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1 Pair&lt;T1, T2&gt;::fst () cons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 return eFirst;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emplate &lt;class T1, class T2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2 Pair&lt;T1, T2&gt;::snd () cons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 return eSecond;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Templates 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ι κληρονομικότητ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: τριάδες ανομο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emplate &lt;class T1, class T2, class T3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Triple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 Pair&lt; T1, Pair&lt;T2, T3&gt; 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riple (const T1 &amp; a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T2 &amp; b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T3 &amp; 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2 snd () const;   // hides old sn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3 trd () con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Templates 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ι κληρονομικότητ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emplate &lt;class T1, class T2, class T3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riple&lt;T1, T2, T3&gt;::Triple (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T1 &amp; a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T2 &amp; b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T3 &amp; c)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air&lt; T1, Pair&lt;T2, T3&gt; &gt;(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, Pair&lt;T2, T3&gt;(b, c)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/ nothin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Templates 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ι κληρονομικότητ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emplate &lt;class T1, class T2, class T3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2 Triple&lt;T1, T2, T3&gt;::snd () cons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eSecond.fst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emplate &lt;class T1, class T2, class T3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3 Triple&lt;T1, T2, T3&gt;::trd () cons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eSecond.snd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Templates 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ι κληρονομικότητ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 (κύριο πρόγραμμ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air&lt;int, double&gt; p(42, 1.7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p.fst() &lt;&lt; ", "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lt;&lt; p.snd() &lt;&lt; ".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riple&lt;int, double, const char *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(42, 1.7, "hello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t.fst() &lt;&lt; ", 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lt;&lt; t.snd() &lt;&lt; ", 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lt;&lt; t.trd() &lt;&lt; ".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Templates 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ι φίλες συναρτή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emplate &lt;class T1, class T2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Pai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  // 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rien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air&lt;T1, T2&gt; operator + &lt;T1, T2&gt; (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Pair&lt;T1, T2&gt; &amp; p1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Pair&lt;T1, T2&gt; &amp; p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Templates 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ι φίλες συναρτή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emplate &lt;class T1, class T2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air&lt;T1, T2&gt; operator + (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Pair&lt;T1, T2&gt; &amp; p1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Pair&lt;T1, T2&gt; &amp; p2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Pair&lt;T1, T2&gt;(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1.eFirst + p2.eFirst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1.eSecond + p2.eSecon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Χειρισμός εξαιρέσε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ί είναι εξαιρέσει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άθε είδους ανωμαλίες ή σφάλματα που προκύπτουν κατά την εκτέλεση του προγράμματος και πρέπει να ξεπερασθούν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ε ειδικό τρόπ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.χ.  διαίρεση με το μηδέν, εξάντληση μνήμ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Χειρισμός εξαιρέσεων στη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++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ηχανισμός: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try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throw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catch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09480" y="1828800"/>
            <a:ext cx="3810240" cy="2288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Courier New"/>
              </a:rPr>
              <a:t>try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Χειρισμός εξαιρέσε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06360" y="2500200"/>
            <a:ext cx="237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... f () 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// somethin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4114800"/>
            <a:ext cx="3810240" cy="1572120"/>
          </a:xfrm>
          <a:prstGeom prst="rect">
            <a:avLst/>
          </a:prstGeom>
          <a:solidFill>
            <a:srgbClr val="bdd7e5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Courier New"/>
              </a:rPr>
              <a:t>catch (Exc e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// do somethin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2438280"/>
            <a:ext cx="3809880" cy="3751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void f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throw(Exc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if (wrong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Exc e(..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660066"/>
                </a:solidFill>
                <a:latin typeface="Courier New"/>
              </a:rPr>
              <a:t>throw</a:t>
            </a: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 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00600" y="1378080"/>
            <a:ext cx="3809880" cy="825480"/>
          </a:xfrm>
          <a:prstGeom prst="rect">
            <a:avLst/>
          </a:prstGeom>
          <a:solidFill>
            <a:srgbClr val="ffcc66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class Exc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{ ... 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3581280" y="4343400"/>
            <a:ext cx="2286000" cy="457200"/>
          </a:xfrm>
          <a:prstGeom prst="line">
            <a:avLst/>
          </a:prstGeom>
          <a:ln w="28440">
            <a:solidFill>
              <a:srgbClr val="004c2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81280" y="2666880"/>
            <a:ext cx="1219320" cy="0"/>
          </a:xfrm>
          <a:prstGeom prst="line">
            <a:avLst/>
          </a:prstGeom>
          <a:ln w="28440">
            <a:solidFill>
              <a:srgbClr val="004c2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209320" y="3009960"/>
            <a:ext cx="838800" cy="533520"/>
            <a:chOff x="2209320" y="3009960"/>
            <a:chExt cx="838800" cy="533520"/>
          </a:xfrm>
        </p:grpSpPr>
        <p:sp>
          <p:nvSpPr>
            <p:cNvPr id="131" name=""/>
            <p:cNvSpPr/>
            <p:nvPr/>
          </p:nvSpPr>
          <p:spPr>
            <a:xfrm>
              <a:off x="2209680" y="3009960"/>
              <a:ext cx="838440" cy="533520"/>
            </a:xfrm>
            <a:prstGeom prst="line">
              <a:avLst/>
            </a:prstGeom>
            <a:ln w="7632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2209320" y="3009960"/>
              <a:ext cx="838440" cy="533520"/>
            </a:xfrm>
            <a:prstGeom prst="line">
              <a:avLst/>
            </a:prstGeom>
            <a:ln w="7632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 flipH="1" flipV="1">
            <a:off x="3657600" y="3352680"/>
            <a:ext cx="1447920" cy="2286000"/>
          </a:xfrm>
          <a:prstGeom prst="line">
            <a:avLst/>
          </a:prstGeom>
          <a:ln w="28440">
            <a:solidFill>
              <a:srgbClr val="004c2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Templates 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άγκη αποφυγής περιττού κώδικ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1 = 3, i2 = 5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 = min(i1, i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in (int i1, int i2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(i1 &lt; i2) ? i1 : i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d1 = 1.4, d2 = 3.6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d = min(d1, d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ame n1("Antonius"), n2("Cleopatra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ame n = min(n1, n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Χειρισμός εξαιρέσε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in (int size, const int array[]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hrow (const char *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size &lt;= 0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hrow "ERROR: size &lt;= 0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array == NUL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hrow "ERROR: array == NULL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result = array[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nt i=1; i &lt; size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array[i] &lt; resul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 = array[i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Χειρισμός εξαιρέσε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v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 [] = {42, 34, 5, 99, 37, 2, 21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ry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"min(7, a) = 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lt;&lt; min(7, a) &lt;&lt; "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"min(4, a) = 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lt;&lt; min(4, a) &lt;&lt; "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"min(0, a) = 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lt;&lt; min(0, a) &lt;&lt; "\n";   // !!!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atch (const char * msg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"\nCaught exception:\n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lt;&lt; msg &lt;&lt; "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Templates 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ρισμό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emplate συνάρτη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emplate &lt;class T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 min (T t1, T t2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(t1 &lt; t2) ? t1 : t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ρμηνεί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Για κάθε τύπο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ρίζεται μια συνάρτησ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 min (T t1, T t2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 ορισμός της συνάρτησης γίνεται όταν αυτή χρησιμοποιηθεί για πρώτη φορά (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instantiatio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Templates 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περφόρτωση templat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emplate &lt;class T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 min (int size, const T array[]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 result = array[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nt i=1; i&lt;size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array[i] &lt; resul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 = array[i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Templates 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v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ξειδίκευση templat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emplate &lt;class T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 min (T t1, T t2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(t1 &lt; t2) ? t1 : t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* min (char * s1, char * s2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(strcmp(s1, s2) &lt; 0) ? s1 : s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Templates 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λάσε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άγκη αποφυγής περιττού κώδικ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airOfInt si(1, 5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si.fst() &lt;&lt; "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airOfDouble sd(3.5, -2.9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sd.fst() &lt;&lt; "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airOfName sn(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ame("Antony")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ame("Cleopatra"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sn.fst() &lt;&lt; "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Templates 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λάσε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ρισμό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emplate κλά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emplate &lt;class T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Pai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/ defini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ρμηνεί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Για κάθε τύπο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ρίζεται μια κλάσ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air&lt;T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 ορισμός της κλάσης γίνεται όταν αυτή χρησιμοποιηθεί για πρώτη φορά (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instantiatio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Templates 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λάσε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: ζεύγη ομο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emplate &lt;class T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Pai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vate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 eFirst, eSecond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air (const T &amp; a, const T &amp; b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 fst () con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 snd () con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Templates 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λάσε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emplate &lt;class T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air&lt;T&gt;::Pair (const T &amp; a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T &amp; b)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First(a), eSecond(b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 /* nothing */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emplate &lt;class T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 Pair&lt;T&gt;::fst () cons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 return eFirst;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emplate &lt;class T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 Pair&lt;T&gt;::snd () cons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 return eSecond;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28T15:47:30Z</cp:lastPrinted>
  <dcterms:modified xsi:type="dcterms:W3CDTF">2000-03-22T08:33:22Z</dcterms:modified>
  <cp:revision>47</cp:revision>
  <dc:subject>ΛΟΓ201: Τεχνολογία Λογισμικού ΙΙ</dc:subject>
  <dc:title>Διαφάνειες παρουσίασης</dc:title>
</cp:coreProperties>
</file>