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6287-2390-4F3C-ADF4-3F988D1ABD7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091-2780-4B2A-9259-83F04B0F78B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7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Templates συναρτή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mplates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λά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Templates και κληρονομικότη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mplates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φίλες συναρτ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Χειρισμός εξαιρέσε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ζεύγη αν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e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eSeco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 (const T1 &amp; a, const T2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fst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sn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::Pair (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First(a), eSecond(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/* nothing */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1 Pair&lt;T1, T2&gt;::fst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First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Pair&lt;T1, T2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Second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τριάδες αν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Tripl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 Pair&lt; T1, Pair&lt;T2, T3&gt; 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 (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3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snd () const;   // hides old s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3 tr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&lt;T1, T2, T3&gt;::Triple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1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2 &amp; b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3 &amp; c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 T1, Pair&lt;T2, T3&gt; &gt;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, Pair&lt;T2, T3&gt;(b, c)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no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2 Triple&lt;T1, T2, T3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eSecond.fst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, class T3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3 Triple&lt;T1, T2, T3&gt;::tr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eSecond.snd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κληρονομικότητ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κύριο πρόγραμμ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int, double&gt; p(42, 1.7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p.fst() &lt;&lt; ", "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p.snd() &lt;&lt; "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iple&lt;int, double, const char *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(42, 1.7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t.fst() &lt;&lt; ",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.snd() &lt;&lt; ",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t.trd() &lt;&lt; ".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φίλε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 //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rien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 operator + &lt;T1, T2&gt;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αι φίλες συναρτή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1, class T2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1, T2&gt; operator + 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1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Pair&lt;T1, T2&gt; &amp; p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Pair&lt;T1, T2&gt;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1.eFirst + p2.eFirst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1.eSecond + p2.eSecon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ί είναι εξαιρέ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είδους ανωμαλίες ή σφάλματα που προκύπτουν κατά την εκτέλεση του προγράμματος και πρέπει να ξεπερασθούν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ειδικό τρόπ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.χ.  διαίρεση με το μηδέν, εξάντληση μνήμ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ειρισμός εξαιρέσεων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ηχανισμός: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tr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throw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cat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1828800"/>
            <a:ext cx="38102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6360" y="2500200"/>
            <a:ext cx="237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 f ()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// some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114800"/>
            <a:ext cx="3810240" cy="1572120"/>
          </a:xfrm>
          <a:prstGeom prst="rect">
            <a:avLst/>
          </a:prstGeom>
          <a:solidFill>
            <a:srgbClr val="bdd7e5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catch (Exc e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// do someth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2438280"/>
            <a:ext cx="3809880" cy="3751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oid f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hrow(Ex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if (wrong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Exc e(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660066"/>
                </a:solidFill>
                <a:latin typeface="Courier New"/>
              </a:rPr>
              <a:t>throw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1378080"/>
            <a:ext cx="3809880" cy="825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4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class Ex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{ ...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581280" y="4343400"/>
            <a:ext cx="2286000" cy="45720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9320" y="3009960"/>
            <a:ext cx="838800" cy="533520"/>
            <a:chOff x="2209320" y="3009960"/>
            <a:chExt cx="838800" cy="533520"/>
          </a:xfrm>
        </p:grpSpPr>
        <p:sp>
          <p:nvSpPr>
            <p:cNvPr id="131" name=""/>
            <p:cNvSpPr/>
            <p:nvPr/>
          </p:nvSpPr>
          <p:spPr>
            <a:xfrm>
              <a:off x="2209680" y="3009960"/>
              <a:ext cx="838440" cy="5335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209320" y="3009960"/>
              <a:ext cx="838440" cy="533520"/>
            </a:xfrm>
            <a:prstGeom prst="line">
              <a:avLst/>
            </a:prstGeom>
            <a:ln w="7632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H="1" flipV="1">
            <a:off x="3657600" y="3352680"/>
            <a:ext cx="1447920" cy="2286000"/>
          </a:xfrm>
          <a:prstGeom prst="line">
            <a:avLst/>
          </a:prstGeom>
          <a:ln w="28440">
            <a:solidFill>
              <a:srgbClr val="004c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κη αποφυγής περιττού κώδι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1 = 3, i2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min(i1, i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in (int i1, int i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i1 &lt; i2) ? i1 : i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1 = 1.4, d2 = 3.6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 = min(d1, d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1("Antonius"), n2("Cleopatra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 n = min(n1, n2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in (int size, const int array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(const char *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size &lt;= 0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"ERROR: size &lt;= 0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hrow "ERROR: array == NULL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sult = array[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 &lt; size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[i] &lt; resul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array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ειρισμός εξαιρέ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 [] = {42, 34, 5, 99, 37, 2, 21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7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7, a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4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4, a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min(0, a) = 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in(0, a) &lt;&lt; "\n";   // !!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atch (const char * msg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\nCaught exception:\n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msg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mplate συνάρτ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t1 &lt; t2) ? t1 : t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ρμην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κάθε τύπο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ρίζεται μια συνάρτη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ορισμός της συνάρτησης γίνεται όταν αυτή χρησιμοποιηθεί για πρώτη φορά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stanti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ερφόρτωση templ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int size, const T array[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result = array[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nt i=1; i&lt;size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rray[i] &lt; resul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 = array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υναρτή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ειδίκευση templ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min (T t1, T t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t1 &lt; t2) ? t1 : t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min (char * s1, char * s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strcmp(s1, s2) &lt; 0) ? s1 : s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κη αποφυγής περιττού κώδι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Int si(1, 5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i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Double sd(3.5, -2.9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d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OfName sn(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("Antony"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ame("Cleopatra"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sn.fst() &lt;&lt; "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ισμό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mplate κλά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/ defini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ρμην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κάθε τύπο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ρίζεται μια κλάση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ορισμός της κλάσης γίνεται όταν αυτή χρησιμοποιηθεί για πρώτη φορά (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instantiatio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ζεύγη ομο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ass Pai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va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eFirst, eSecon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 (const T &amp; a, const T &amp; b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fst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snd () con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Templates 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λάσε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air&lt;T&gt;::Pair (const T &amp; 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T &amp; b)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First(a), eSecond(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/* nothing */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Pair&lt;T&gt;::fst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First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emplate &lt;class T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 Pair&lt;T&gt;::snd () con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 return eSecond; 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3-22T08:33:22Z</dcterms:modified>
  <cp:revision>47</cp:revision>
  <dc:subject>ΛΟΓ201: Τεχνολογία Λογισμικού ΙΙ</dc:subject>
  <dc:title>Διαφάνειες παρουσίασης</dc:title>
</cp:coreProperties>
</file>