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FC0-F404-4838-9612-E9394F40220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769-1249-4C21-8884-11833D8B550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6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έθοδ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nline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έση "είναι" και μετατροπές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πισκίαση μεθόδων και εικονικές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φηρημένες μέθοδοι και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υμορφισμό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κονικές κλ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Perso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new Studen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φηρημένες μέθοδοι και κλάσεις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81480" y="1219320"/>
            <a:ext cx="3787200" cy="1066680"/>
            <a:chOff x="5181480" y="1219320"/>
            <a:chExt cx="3787200" cy="1066680"/>
          </a:xfrm>
        </p:grpSpPr>
        <p:sp>
          <p:nvSpPr>
            <p:cNvPr id="149" name=""/>
            <p:cNvSpPr/>
            <p:nvPr/>
          </p:nvSpPr>
          <p:spPr>
            <a:xfrm>
              <a:off x="6250320" y="1219320"/>
              <a:ext cx="271836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φηρημένη μέθοδος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bstract method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81480" y="1600200"/>
              <a:ext cx="1067040" cy="6858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5486400"/>
            <a:ext cx="8001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Αφηρημένες κλάσεις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bstract classes)</a:t>
            </a:r>
            <a:r>
              <a:rPr b="0" lang="el-GR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εις που περιέχουν αφηρημένες μεθόδ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ίδια μέθοδος υλοποιείται διαφορετικά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διαφορετικές εξειδικεύσεις των αντικει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είται με χρήση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κονικών μεθόδ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ικτών ή αναφορώ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hild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freeTi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read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hild::freeTi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child is play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υμορφισμό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allFree (int n, Person * p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0; i&lt;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[i]-&gt;freeTime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[] =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ew Person, new Student, new Chil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llFree(3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219640" y="1828800"/>
            <a:ext cx="3733920" cy="2362320"/>
            <a:chOff x="5219640" y="1828800"/>
            <a:chExt cx="3733920" cy="2362320"/>
          </a:xfrm>
        </p:grpSpPr>
        <p:sp>
          <p:nvSpPr>
            <p:cNvPr id="161" name=""/>
            <p:cNvSpPr/>
            <p:nvPr/>
          </p:nvSpPr>
          <p:spPr>
            <a:xfrm>
              <a:off x="5219640" y="1828800"/>
              <a:ext cx="3733920" cy="23623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9600" y="190512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38880" y="2517840"/>
            <a:ext cx="1600200" cy="1444680"/>
            <a:chOff x="7238880" y="2517840"/>
            <a:chExt cx="1600200" cy="1444680"/>
          </a:xfrm>
        </p:grpSpPr>
        <p:sp>
          <p:nvSpPr>
            <p:cNvPr id="166" name=""/>
            <p:cNvSpPr/>
            <p:nvPr/>
          </p:nvSpPr>
          <p:spPr>
            <a:xfrm>
              <a:off x="7238880" y="2590920"/>
              <a:ext cx="152424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674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517840"/>
              <a:ext cx="160020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Employe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410080" y="2517840"/>
            <a:ext cx="1447920" cy="1444680"/>
            <a:chOff x="5410080" y="2517840"/>
            <a:chExt cx="1447920" cy="1444680"/>
          </a:xfrm>
        </p:grpSpPr>
        <p:sp>
          <p:nvSpPr>
            <p:cNvPr id="170" name=""/>
            <p:cNvSpPr/>
            <p:nvPr/>
          </p:nvSpPr>
          <p:spPr>
            <a:xfrm>
              <a:off x="5410080" y="2590920"/>
              <a:ext cx="1447920" cy="137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3200400"/>
              <a:ext cx="106704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1880" y="2517840"/>
              <a:ext cx="1290240" cy="11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κλ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Employe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WorkingStudent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Stud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Employe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172200" y="1371600"/>
            <a:ext cx="2751120" cy="4876920"/>
            <a:chOff x="6172200" y="1371600"/>
            <a:chExt cx="2751120" cy="4876920"/>
          </a:xfrm>
        </p:grpSpPr>
        <p:sp>
          <p:nvSpPr>
            <p:cNvPr id="176" name=""/>
            <p:cNvSpPr/>
            <p:nvPr/>
          </p:nvSpPr>
          <p:spPr>
            <a:xfrm>
              <a:off x="6408720" y="1371600"/>
              <a:ext cx="2514600" cy="4876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37320" y="2209680"/>
              <a:ext cx="106668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865920" y="4575240"/>
              <a:ext cx="1600200" cy="1444680"/>
              <a:chOff x="6865920" y="4575240"/>
              <a:chExt cx="160020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6865920" y="4648320"/>
                <a:ext cx="152424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94520" y="5257800"/>
                <a:ext cx="106704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865920" y="4575240"/>
                <a:ext cx="160020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865920" y="2971800"/>
              <a:ext cx="1447920" cy="1444680"/>
              <a:chOff x="6865920" y="2971800"/>
              <a:chExt cx="1447920" cy="144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6865920" y="3044880"/>
                <a:ext cx="1447920" cy="1371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94520" y="3654360"/>
                <a:ext cx="1066680" cy="53352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67720" y="2971800"/>
                <a:ext cx="1290240" cy="11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Student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   </a:t>
                </a:r>
                <a:r>
                  <a:rPr b="1" i="1" lang="en-US" sz="2400" spc="-1" strike="noStrike" u="sng">
                    <a:solidFill>
                      <a:srgbClr val="333333"/>
                    </a:solidFill>
                    <a:uFillTx/>
                    <a:latin typeface="Times New Roman"/>
                  </a:rPr>
                  <a:t>Person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6402600" y="1447920"/>
              <a:ext cx="236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Working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GB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72200" y="2514600"/>
              <a:ext cx="4572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2514600"/>
              <a:ext cx="0" cy="30481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55627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3962520"/>
              <a:ext cx="91440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nlin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    // in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mag ();    // normal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imag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Μέθοδοι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ons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al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1.set(1.0, 2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c2.real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2.set(1.0, 2.0);    // wrong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έση "είναι", μετατροπές αντικει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                 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  //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Base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g (Base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h (Base *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ase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b); g(b); h(&amp;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rived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(d); g(d); h(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g (double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Derived : public B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 (int x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f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86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47760" y="1835280"/>
            <a:ext cx="5523480" cy="1441440"/>
            <a:chOff x="3047760" y="1835280"/>
            <a:chExt cx="5523480" cy="1441440"/>
          </a:xfrm>
        </p:grpSpPr>
        <p:sp>
          <p:nvSpPr>
            <p:cNvPr id="97" name=""/>
            <p:cNvSpPr/>
            <p:nvPr/>
          </p:nvSpPr>
          <p:spPr>
            <a:xfrm>
              <a:off x="6027120" y="1835280"/>
              <a:ext cx="254412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ase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47760" y="2286000"/>
              <a:ext cx="28954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572000" y="2286000"/>
              <a:ext cx="1371600" cy="3049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029200" y="2286000"/>
              <a:ext cx="91440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105520" y="2286000"/>
              <a:ext cx="838080" cy="9907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80920" y="3429000"/>
            <a:ext cx="5151600" cy="2577960"/>
            <a:chOff x="3580920" y="3429000"/>
            <a:chExt cx="5151600" cy="2577960"/>
          </a:xfrm>
        </p:grpSpPr>
        <p:sp>
          <p:nvSpPr>
            <p:cNvPr id="103" name=""/>
            <p:cNvSpPr/>
            <p:nvPr/>
          </p:nvSpPr>
          <p:spPr>
            <a:xfrm>
              <a:off x="5798160" y="5181480"/>
              <a:ext cx="2934360" cy="825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Αντικείμενα της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erived </a:t>
              </a: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βλέπουν αυτά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580920" y="5181120"/>
              <a:ext cx="2133720" cy="3812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419720" y="5562720"/>
              <a:ext cx="129528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733560" y="5562720"/>
              <a:ext cx="1981080" cy="3808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8000" y="3429000"/>
              <a:ext cx="2070000" cy="2133720"/>
            </a:xfrm>
            <a:custGeom>
              <a:avLst/>
              <a:gdLst/>
              <a:ahLst/>
              <a:rect l="l" t="t" r="r" b="b"/>
              <a:pathLst>
                <a:path w="1304" h="1344">
                  <a:moveTo>
                    <a:pt x="576" y="1344"/>
                  </a:moveTo>
                  <a:cubicBezTo>
                    <a:pt x="288" y="1216"/>
                    <a:pt x="0" y="1088"/>
                    <a:pt x="96" y="1008"/>
                  </a:cubicBezTo>
                  <a:cubicBezTo>
                    <a:pt x="192" y="928"/>
                    <a:pt x="1000" y="960"/>
                    <a:pt x="1152" y="864"/>
                  </a:cubicBezTo>
                  <a:cubicBezTo>
                    <a:pt x="1304" y="768"/>
                    <a:pt x="1160" y="576"/>
                    <a:pt x="1008" y="432"/>
                  </a:cubicBezTo>
                  <a:cubicBezTo>
                    <a:pt x="856" y="288"/>
                    <a:pt x="548" y="144"/>
                    <a:pt x="240" y="0"/>
                  </a:cubicBezTo>
                </a:path>
              </a:pathLst>
            </a:custGeom>
            <a:noFill/>
            <a:ln w="28440">
              <a:solidFill>
                <a:srgbClr val="004c2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1424160"/>
            <a:ext cx="3731760" cy="1738080"/>
            <a:chOff x="1676520" y="1424160"/>
            <a:chExt cx="3731760" cy="1738080"/>
          </a:xfrm>
        </p:grpSpPr>
        <p:sp>
          <p:nvSpPr>
            <p:cNvPr id="109" name=""/>
            <p:cNvSpPr/>
            <p:nvPr/>
          </p:nvSpPr>
          <p:spPr>
            <a:xfrm>
              <a:off x="1676520" y="2095560"/>
              <a:ext cx="3504960" cy="10666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34200">
              <a:off x="3438000" y="1676520"/>
              <a:ext cx="19440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πισκιάζονται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person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a student is sleeping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πισκίαση μεθόδ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.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p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 = &amp;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p-&gt;sleep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15000" y="1981080"/>
            <a:ext cx="1536480" cy="1022400"/>
            <a:chOff x="6615000" y="1981080"/>
            <a:chExt cx="1536480" cy="1022400"/>
          </a:xfrm>
        </p:grpSpPr>
        <p:sp>
          <p:nvSpPr>
            <p:cNvPr id="116" name=""/>
            <p:cNvSpPr/>
            <p:nvPr/>
          </p:nvSpPr>
          <p:spPr>
            <a:xfrm>
              <a:off x="6629400" y="20890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5000" y="19810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18480" y="217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400800" y="3581280"/>
            <a:ext cx="1885680" cy="2130480"/>
            <a:chOff x="6400800" y="3581280"/>
            <a:chExt cx="1885680" cy="2130480"/>
          </a:xfrm>
        </p:grpSpPr>
        <p:sp>
          <p:nvSpPr>
            <p:cNvPr id="120" name=""/>
            <p:cNvSpPr/>
            <p:nvPr/>
          </p:nvSpPr>
          <p:spPr>
            <a:xfrm>
              <a:off x="6400800" y="365436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29400" y="426384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2600" y="358128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86960" y="3695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25720" y="3124080"/>
            <a:ext cx="1903320" cy="1600200"/>
            <a:chOff x="4725720" y="3124080"/>
            <a:chExt cx="1903320" cy="1600200"/>
          </a:xfrm>
        </p:grpSpPr>
        <p:sp>
          <p:nvSpPr>
            <p:cNvPr id="125" name=""/>
            <p:cNvSpPr/>
            <p:nvPr/>
          </p:nvSpPr>
          <p:spPr>
            <a:xfrm>
              <a:off x="5181480" y="3429000"/>
              <a:ext cx="1447560" cy="12952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25720" y="2514600"/>
            <a:ext cx="1903320" cy="1069200"/>
            <a:chOff x="4725720" y="2514600"/>
            <a:chExt cx="1903320" cy="1069200"/>
          </a:xfrm>
        </p:grpSpPr>
        <p:sp>
          <p:nvSpPr>
            <p:cNvPr id="128" name=""/>
            <p:cNvSpPr/>
            <p:nvPr/>
          </p:nvSpPr>
          <p:spPr>
            <a:xfrm>
              <a:off x="4725720" y="3124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181480" y="2514600"/>
              <a:ext cx="1447560" cy="91440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void sleep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person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tudent::sleep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a student is sleeping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392960" y="1295280"/>
            <a:ext cx="1081080" cy="1022400"/>
            <a:chOff x="7392960" y="1295280"/>
            <a:chExt cx="1081080" cy="1022400"/>
          </a:xfrm>
        </p:grpSpPr>
        <p:sp>
          <p:nvSpPr>
            <p:cNvPr id="133" name=""/>
            <p:cNvSpPr/>
            <p:nvPr/>
          </p:nvSpPr>
          <p:spPr>
            <a:xfrm>
              <a:off x="7407360" y="1403280"/>
              <a:ext cx="106668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2960" y="1295280"/>
              <a:ext cx="1078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62560" y="2517840"/>
            <a:ext cx="1524240" cy="2130480"/>
            <a:chOff x="7162560" y="2517840"/>
            <a:chExt cx="1524240" cy="2130480"/>
          </a:xfrm>
        </p:grpSpPr>
        <p:sp>
          <p:nvSpPr>
            <p:cNvPr id="136" name=""/>
            <p:cNvSpPr/>
            <p:nvPr/>
          </p:nvSpPr>
          <p:spPr>
            <a:xfrm>
              <a:off x="7238880" y="2590920"/>
              <a:ext cx="1447920" cy="2057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3200400"/>
              <a:ext cx="1067040" cy="91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40680" y="2517840"/>
              <a:ext cx="1290240" cy="21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1" i="1" lang="en-US" sz="24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lee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62560" y="3886200"/>
              <a:ext cx="5713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2920" y="3886200"/>
              <a:ext cx="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2920" y="4419720"/>
              <a:ext cx="342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κονικές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Student : public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irtual ~Studen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person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udent::~Studen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cout &lt;&lt; "destroying a student\n"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15T12:01:35Z</dcterms:modified>
  <cp:revision>36</cp:revision>
  <dc:subject>ΛΟΓ201: Τεχνολογία Λογισμικού ΙΙ</dc:subject>
  <dc:title>Διαφάνειες παρουσίασης</dc:title>
</cp:coreProperties>
</file>