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C39B-2777-47B1-8827-5BE7F40DA30F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070-1A8A-45A0-94C5-00D70A8F4A72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5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τατικά πεδία και μέθοδ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ή κληρονομι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τασκευαστές και καταστροφεί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ις και εμβέλε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ολλαπλή κληρονομι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 και καταστροφ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::LibraryItem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t, int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itle = new char [strlen(t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title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ear =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::~LibraryItem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titl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 και καταστροφ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k::Book (const char *t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p, int y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(t,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uthor = new char [strlen(a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author, 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sher = new char [strlen(p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publisher,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k::~Book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auth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publish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 και καταστροφ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JournalIssue::JournalIssue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t, int v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, Date d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(t, d.getYear()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ate(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lume = 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umber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δία και μέθοδοι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ατά απ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δία και μέθοδοι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ατά απ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ν υλοποίηση των μεθόδων της κλά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ν υλοποίηση των φιλικών συναρτήσ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δία και μέθοδοι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rotected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ατ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πως το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επιπλέον απ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ν υλοποίηση των μεθόδων των κλάσεων που τα κληρονομού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ηρονομικότητα με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πεδία και οι μέθοδοι της κληρονομούμενης κλάσης διατηρούν τους περιορισμούς εμβέλειας που έχου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ηρονομικότητα με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πεδία και οι μέθοδοι της κληρονομούμενης κλάσης γίνονται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iva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λ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κλάση κληρονομεί από περισσότερ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5200" y="3419640"/>
            <a:ext cx="1657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38080" y="2514600"/>
            <a:ext cx="1828800" cy="1219320"/>
            <a:chOff x="838080" y="2514600"/>
            <a:chExt cx="1828800" cy="1219320"/>
          </a:xfrm>
        </p:grpSpPr>
        <p:sp>
          <p:nvSpPr>
            <p:cNvPr id="145" name=""/>
            <p:cNvSpPr/>
            <p:nvPr/>
          </p:nvSpPr>
          <p:spPr>
            <a:xfrm>
              <a:off x="838080" y="2514600"/>
              <a:ext cx="1828800" cy="121932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itle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yea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whereIs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360" y="3276720"/>
              <a:ext cx="152424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953960" y="3419640"/>
            <a:ext cx="2167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ultimedia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705720" y="2438280"/>
            <a:ext cx="1828800" cy="1219320"/>
            <a:chOff x="6705720" y="2438280"/>
            <a:chExt cx="1828800" cy="1219320"/>
          </a:xfrm>
        </p:grpSpPr>
        <p:sp>
          <p:nvSpPr>
            <p:cNvPr id="149" name=""/>
            <p:cNvSpPr/>
            <p:nvPr/>
          </p:nvSpPr>
          <p:spPr>
            <a:xfrm>
              <a:off x="6705720" y="2438280"/>
              <a:ext cx="1828800" cy="121932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equipm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lay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360" y="3060720"/>
              <a:ext cx="152388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692520" y="3876840"/>
            <a:ext cx="1565280" cy="1297440"/>
            <a:chOff x="3692520" y="3876840"/>
            <a:chExt cx="1565280" cy="1297440"/>
          </a:xfrm>
        </p:grpSpPr>
        <p:sp>
          <p:nvSpPr>
            <p:cNvPr id="152" name=""/>
            <p:cNvSpPr/>
            <p:nvPr/>
          </p:nvSpPr>
          <p:spPr>
            <a:xfrm>
              <a:off x="4078440" y="4714560"/>
              <a:ext cx="75816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il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92520" y="3876840"/>
              <a:ext cx="650880" cy="84744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47960" y="3885840"/>
              <a:ext cx="609840" cy="8380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48320" y="4952880"/>
            <a:ext cx="1295280" cy="609840"/>
          </a:xfrm>
          <a:prstGeom prst="ellipse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irect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λ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Film: public LibraryItem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Multimedia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direct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m (const char *t, int y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ipment e, const char *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Film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λ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m::Film (const char *t, int y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ipment e, const char *d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(t, y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ultimediaItem(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irector = new char [strlen(d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director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m::~Film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direct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my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atic double Total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(double w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Person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rintWeight     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atic void printTotalWeight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Person::TotalWeight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Person (double w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yWeight = w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otalWeight += my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~Perso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otalWeight -= my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printWeight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I weigh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yWeight &lt;&lt; " kg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printTotalWeight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In total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TotalWeight &lt;&lt; " kg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x(65), y(10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.print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.printTotal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z = new Person(8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printTotal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.printTotal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00600" y="2057400"/>
            <a:ext cx="2990880" cy="762120"/>
            <a:chOff x="4800600" y="2057400"/>
            <a:chExt cx="2990880" cy="762120"/>
          </a:xfrm>
        </p:grpSpPr>
        <p:sp>
          <p:nvSpPr>
            <p:cNvPr id="97" name=""/>
            <p:cNvSpPr/>
            <p:nvPr/>
          </p:nvSpPr>
          <p:spPr>
            <a:xfrm>
              <a:off x="7245000" y="2057400"/>
              <a:ext cx="54648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6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800600" y="2286000"/>
              <a:ext cx="2362320" cy="5335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715000" y="2895480"/>
            <a:ext cx="2945160" cy="459720"/>
            <a:chOff x="5715000" y="2895480"/>
            <a:chExt cx="2945160" cy="459720"/>
          </a:xfrm>
        </p:grpSpPr>
        <p:sp>
          <p:nvSpPr>
            <p:cNvPr id="100" name=""/>
            <p:cNvSpPr/>
            <p:nvPr/>
          </p:nvSpPr>
          <p:spPr>
            <a:xfrm>
              <a:off x="7930800" y="2895480"/>
              <a:ext cx="729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6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5000" y="3124080"/>
              <a:ext cx="21337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781680" y="4257720"/>
            <a:ext cx="1878480" cy="459720"/>
            <a:chOff x="6781680" y="4257720"/>
            <a:chExt cx="1878480" cy="459720"/>
          </a:xfrm>
        </p:grpSpPr>
        <p:sp>
          <p:nvSpPr>
            <p:cNvPr id="103" name=""/>
            <p:cNvSpPr/>
            <p:nvPr/>
          </p:nvSpPr>
          <p:spPr>
            <a:xfrm>
              <a:off x="7930800" y="4257720"/>
              <a:ext cx="729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25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4495680"/>
              <a:ext cx="106704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715000" y="4876920"/>
            <a:ext cx="2945160" cy="459720"/>
            <a:chOff x="5715000" y="4876920"/>
            <a:chExt cx="2945160" cy="459720"/>
          </a:xfrm>
        </p:grpSpPr>
        <p:sp>
          <p:nvSpPr>
            <p:cNvPr id="106" name=""/>
            <p:cNvSpPr/>
            <p:nvPr/>
          </p:nvSpPr>
          <p:spPr>
            <a:xfrm>
              <a:off x="7930800" y="4876920"/>
              <a:ext cx="729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6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5000" y="5105520"/>
              <a:ext cx="21337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ειδίκευση και σχέση "είναι"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s-a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1880" y="2886120"/>
            <a:ext cx="1657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45120" y="3343320"/>
            <a:ext cx="1364760" cy="1297800"/>
            <a:chOff x="2445120" y="3343320"/>
            <a:chExt cx="1364760" cy="1297800"/>
          </a:xfrm>
        </p:grpSpPr>
        <p:sp>
          <p:nvSpPr>
            <p:cNvPr id="112" name=""/>
            <p:cNvSpPr/>
            <p:nvPr/>
          </p:nvSpPr>
          <p:spPr>
            <a:xfrm>
              <a:off x="2445120" y="4181400"/>
              <a:ext cx="84060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95480" y="3343320"/>
              <a:ext cx="914400" cy="8380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59200" y="3343320"/>
            <a:ext cx="2093760" cy="1297800"/>
            <a:chOff x="4759200" y="3343320"/>
            <a:chExt cx="2093760" cy="1297800"/>
          </a:xfrm>
        </p:grpSpPr>
        <p:sp>
          <p:nvSpPr>
            <p:cNvPr id="115" name=""/>
            <p:cNvSpPr/>
            <p:nvPr/>
          </p:nvSpPr>
          <p:spPr>
            <a:xfrm>
              <a:off x="5145120" y="4181400"/>
              <a:ext cx="170784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JournalIss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59200" y="3343320"/>
              <a:ext cx="914400" cy="8380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629400" y="3505320"/>
            <a:ext cx="1523880" cy="990360"/>
          </a:xfrm>
          <a:prstGeom prst="ellipse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volume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εξειδικευμένες κλάσεις κληρονομούν τα χαρακτηριστικά των γονέων του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00600" y="1981080"/>
            <a:ext cx="1828800" cy="1219320"/>
            <a:chOff x="4800600" y="1981080"/>
            <a:chExt cx="1828800" cy="1219320"/>
          </a:xfrm>
        </p:grpSpPr>
        <p:sp>
          <p:nvSpPr>
            <p:cNvPr id="120" name=""/>
            <p:cNvSpPr/>
            <p:nvPr/>
          </p:nvSpPr>
          <p:spPr>
            <a:xfrm>
              <a:off x="4800600" y="1981080"/>
              <a:ext cx="1828800" cy="121932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itle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yea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whereIs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2880" y="2743200"/>
              <a:ext cx="152424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90720" y="3429000"/>
            <a:ext cx="1676160" cy="1066680"/>
            <a:chOff x="990720" y="3429000"/>
            <a:chExt cx="1676160" cy="1066680"/>
          </a:xfrm>
        </p:grpSpPr>
        <p:sp>
          <p:nvSpPr>
            <p:cNvPr id="123" name=""/>
            <p:cNvSpPr/>
            <p:nvPr/>
          </p:nvSpPr>
          <p:spPr>
            <a:xfrm>
              <a:off x="990720" y="3429000"/>
              <a:ext cx="1676160" cy="106668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uthor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ublishe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lend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1160" y="4127400"/>
              <a:ext cx="129528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titl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  yea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 (const char *t, int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LibraryItem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cation whereIs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Book: public 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auth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publish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k (const char *t, const char *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p, int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Book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lend (Person &amp; p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ate d1, Date d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JournalIssue: public 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volume, numb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ate da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JournalIssue (const char *t, int v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, Date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08T09:00:53Z</dcterms:modified>
  <cp:revision>30</cp:revision>
  <dc:subject>ΛΟΓ201: Τεχνολογία Λογισμικού ΙΙ</dc:subject>
  <dc:title>Διαφάνειες παρουσίασης</dc:title>
</cp:coreProperties>
</file>