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1070-EE7A-4CCE-8819-E9B5F9F93490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5A0D-8DC9-4437-82AC-7102DD7475AA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5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τατικά πεδία και μέθοδοι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πλή κληρονομικότητ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ατασκευαστές και καταστροφεί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λάσεις και εμβέλει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ολλαπλή κληρονομικότητ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αστές και καταστροφεί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braryItem::LibraryItem 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t, int 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itle = new char [strlen(t)+1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cpy(title,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year =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braryItem::~LibraryItem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[] titl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αστές και καταστροφεί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k::Book (const char *t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p, int y)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braryItem(t, 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uthor = new char [strlen(a)+1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cpy(author, 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sher = new char [strlen(p)+1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cpy(publisher, 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k::~Book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[] autho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[] publishe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αστές και καταστροφεί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JournalIssue::JournalIssue 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t, int v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n, Date d)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braryItem(t, d.getYear()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ate(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lume = v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umber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εμβέλ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εδία και μέθοδοι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public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ατά από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λου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εδία και μέθοδοι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privat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ατά από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ν υλοποίηση των μεθόδων της κλά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ν υλοποίηση των φιλικών συναρτήσ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εδία και μέθοδοι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protected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ατά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όπως το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ivat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ι επιπλέον απ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ην υλοποίηση των μεθόδων των κλάσεων που τα κληρονομού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ις και εμβέλει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ηρονομικότητα με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public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α πεδία και οι μέθοδοι της κληρονομούμενης κλάσης διατηρούν τους περιορισμούς εμβέλειας που έχου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ηρονομικότητα με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privat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α πεδία και οι μέθοδοι της κληρονομούμενης κλάσης γίνονται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iva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λαπλή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α κλάση κληρονομεί από περισσότερ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5200" y="3419640"/>
            <a:ext cx="1657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ibraryIt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38080" y="2514600"/>
            <a:ext cx="1828800" cy="1219320"/>
            <a:chOff x="838080" y="2514600"/>
            <a:chExt cx="1828800" cy="1219320"/>
          </a:xfrm>
        </p:grpSpPr>
        <p:sp>
          <p:nvSpPr>
            <p:cNvPr id="145" name=""/>
            <p:cNvSpPr/>
            <p:nvPr/>
          </p:nvSpPr>
          <p:spPr>
            <a:xfrm>
              <a:off x="838080" y="2514600"/>
              <a:ext cx="1828800" cy="1219320"/>
            </a:xfrm>
            <a:prstGeom prst="ellipse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title</a:t>
              </a:r>
              <a:br>
                <a:rPr sz="2400"/>
              </a:b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yea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whereIs(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360" y="3276720"/>
              <a:ext cx="1524240" cy="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953960" y="3419640"/>
            <a:ext cx="21679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ultimediaIt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705720" y="2438280"/>
            <a:ext cx="1828800" cy="1219320"/>
            <a:chOff x="6705720" y="2438280"/>
            <a:chExt cx="1828800" cy="1219320"/>
          </a:xfrm>
        </p:grpSpPr>
        <p:sp>
          <p:nvSpPr>
            <p:cNvPr id="149" name=""/>
            <p:cNvSpPr/>
            <p:nvPr/>
          </p:nvSpPr>
          <p:spPr>
            <a:xfrm>
              <a:off x="6705720" y="2438280"/>
              <a:ext cx="1828800" cy="1219320"/>
            </a:xfrm>
            <a:prstGeom prst="ellipse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equipmen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play(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360" y="3060720"/>
              <a:ext cx="1523880" cy="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692520" y="3876840"/>
            <a:ext cx="1565280" cy="1297440"/>
            <a:chOff x="3692520" y="3876840"/>
            <a:chExt cx="1565280" cy="1297440"/>
          </a:xfrm>
        </p:grpSpPr>
        <p:sp>
          <p:nvSpPr>
            <p:cNvPr id="152" name=""/>
            <p:cNvSpPr/>
            <p:nvPr/>
          </p:nvSpPr>
          <p:spPr>
            <a:xfrm>
              <a:off x="4078440" y="4714560"/>
              <a:ext cx="758160" cy="459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Film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92520" y="3876840"/>
              <a:ext cx="650880" cy="84744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647960" y="3885840"/>
              <a:ext cx="609840" cy="83808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648320" y="4952880"/>
            <a:ext cx="1295280" cy="609840"/>
          </a:xfrm>
          <a:prstGeom prst="ellipse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irecto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λαπλή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Film: public LibraryItem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MultimediaIt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otected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directo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m (const char *t, int y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quipment e, const char *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~Film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ολλαπλή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m::Film (const char *t, int y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quipment e, const char *d)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braryItem(t, y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ultimediaItem(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irector = new char [strlen(d)+1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cpy(director, 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m::~Film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[] directo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τικά πεδία και μέθοδοι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ers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myWeigh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atic double TotalWeigh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 (double w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~Person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rintWeight     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atic void printTotalWeight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τικά πεδία και μέθοδοι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Person::TotalWeight = 0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::Person (double w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yWeight = w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otalWeight += myWeigh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::~Perso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otalWeight -= myWeigh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τικά πεδία και μέθοδοι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erson::printWeight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I weigh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myWeight &lt;&lt; " kg.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erson::printTotalWeight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In total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TotalWeight &lt;&lt; " kg.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τικά πεδία και μέθοδοι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 x(65), y(10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.printWeight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.printTotalWeight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 * z = new Person(85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erson::printTotalWeight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y.printTotalWeight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800600" y="2057400"/>
            <a:ext cx="2990880" cy="762120"/>
            <a:chOff x="4800600" y="2057400"/>
            <a:chExt cx="2990880" cy="762120"/>
          </a:xfrm>
        </p:grpSpPr>
        <p:sp>
          <p:nvSpPr>
            <p:cNvPr id="97" name=""/>
            <p:cNvSpPr/>
            <p:nvPr/>
          </p:nvSpPr>
          <p:spPr>
            <a:xfrm>
              <a:off x="7245000" y="2057400"/>
              <a:ext cx="546480" cy="459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6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800600" y="2286000"/>
              <a:ext cx="2362320" cy="53352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715000" y="2895480"/>
            <a:ext cx="2945160" cy="459720"/>
            <a:chOff x="5715000" y="2895480"/>
            <a:chExt cx="2945160" cy="459720"/>
          </a:xfrm>
        </p:grpSpPr>
        <p:sp>
          <p:nvSpPr>
            <p:cNvPr id="100" name=""/>
            <p:cNvSpPr/>
            <p:nvPr/>
          </p:nvSpPr>
          <p:spPr>
            <a:xfrm>
              <a:off x="7930800" y="2895480"/>
              <a:ext cx="72936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16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15000" y="3124080"/>
              <a:ext cx="213372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781680" y="4257720"/>
            <a:ext cx="1878480" cy="459720"/>
            <a:chOff x="6781680" y="4257720"/>
            <a:chExt cx="1878480" cy="459720"/>
          </a:xfrm>
        </p:grpSpPr>
        <p:sp>
          <p:nvSpPr>
            <p:cNvPr id="103" name=""/>
            <p:cNvSpPr/>
            <p:nvPr/>
          </p:nvSpPr>
          <p:spPr>
            <a:xfrm>
              <a:off x="7930800" y="4257720"/>
              <a:ext cx="72936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25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81680" y="4495680"/>
              <a:ext cx="106704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715000" y="4876920"/>
            <a:ext cx="2945160" cy="459720"/>
            <a:chOff x="5715000" y="4876920"/>
            <a:chExt cx="2945160" cy="459720"/>
          </a:xfrm>
        </p:grpSpPr>
        <p:sp>
          <p:nvSpPr>
            <p:cNvPr id="106" name=""/>
            <p:cNvSpPr/>
            <p:nvPr/>
          </p:nvSpPr>
          <p:spPr>
            <a:xfrm>
              <a:off x="7930800" y="4876920"/>
              <a:ext cx="72936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16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15000" y="5105520"/>
              <a:ext cx="2133720" cy="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ξειδίκευση και σχέση "είναι"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s-a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31880" y="2886120"/>
            <a:ext cx="1657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ibraryIt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445120" y="3343320"/>
            <a:ext cx="1364760" cy="1297800"/>
            <a:chOff x="2445120" y="3343320"/>
            <a:chExt cx="1364760" cy="1297800"/>
          </a:xfrm>
        </p:grpSpPr>
        <p:sp>
          <p:nvSpPr>
            <p:cNvPr id="112" name=""/>
            <p:cNvSpPr/>
            <p:nvPr/>
          </p:nvSpPr>
          <p:spPr>
            <a:xfrm>
              <a:off x="2445120" y="4181400"/>
              <a:ext cx="840600" cy="459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Book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95480" y="3343320"/>
              <a:ext cx="914400" cy="83808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759200" y="3343320"/>
            <a:ext cx="2093760" cy="1297800"/>
            <a:chOff x="4759200" y="3343320"/>
            <a:chExt cx="2093760" cy="1297800"/>
          </a:xfrm>
        </p:grpSpPr>
        <p:sp>
          <p:nvSpPr>
            <p:cNvPr id="115" name=""/>
            <p:cNvSpPr/>
            <p:nvPr/>
          </p:nvSpPr>
          <p:spPr>
            <a:xfrm>
              <a:off x="5145120" y="4181400"/>
              <a:ext cx="1707840" cy="459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JournalIssu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59200" y="3343320"/>
              <a:ext cx="914400" cy="838080"/>
            </a:xfrm>
            <a:prstGeom prst="line">
              <a:avLst/>
            </a:prstGeom>
            <a:ln w="2844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629400" y="3505320"/>
            <a:ext cx="1523880" cy="990360"/>
          </a:xfrm>
          <a:prstGeom prst="ellipse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volume</a:t>
            </a:r>
            <a:br>
              <a:rPr sz="2400"/>
            </a:b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952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 εξειδικευμένες κλάσεις κληρονομούν τα χαρακτηριστικά των γονέων του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800600" y="1981080"/>
            <a:ext cx="1828800" cy="1219320"/>
            <a:chOff x="4800600" y="1981080"/>
            <a:chExt cx="1828800" cy="1219320"/>
          </a:xfrm>
        </p:grpSpPr>
        <p:sp>
          <p:nvSpPr>
            <p:cNvPr id="120" name=""/>
            <p:cNvSpPr/>
            <p:nvPr/>
          </p:nvSpPr>
          <p:spPr>
            <a:xfrm>
              <a:off x="4800600" y="1981080"/>
              <a:ext cx="1828800" cy="1219320"/>
            </a:xfrm>
            <a:prstGeom prst="ellipse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title</a:t>
              </a:r>
              <a:br>
                <a:rPr sz="2400"/>
              </a:b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yea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whereIs(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52880" y="2743200"/>
              <a:ext cx="1524240" cy="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990720" y="3429000"/>
            <a:ext cx="1676160" cy="1066680"/>
            <a:chOff x="990720" y="3429000"/>
            <a:chExt cx="1676160" cy="1066680"/>
          </a:xfrm>
        </p:grpSpPr>
        <p:sp>
          <p:nvSpPr>
            <p:cNvPr id="123" name=""/>
            <p:cNvSpPr/>
            <p:nvPr/>
          </p:nvSpPr>
          <p:spPr>
            <a:xfrm>
              <a:off x="990720" y="3429000"/>
              <a:ext cx="1676160" cy="1066680"/>
            </a:xfrm>
            <a:prstGeom prst="ellipse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author</a:t>
              </a:r>
              <a:br>
                <a:rPr sz="2400"/>
              </a:b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publishe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lend(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81160" y="4127400"/>
              <a:ext cx="1295280" cy="0"/>
            </a:xfrm>
            <a:prstGeom prst="line">
              <a:avLst/>
            </a:prstGeom>
            <a:ln cap="rnd" w="936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ή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LibraryIt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otected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titl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   yea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ibraryItem (const char *t, int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~LibraryItem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cation whereIs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ή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Book: public LibraryIt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otected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autho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publishe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ook (const char *t, const char *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har *p, int y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~Book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lend (Person &amp; p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ate d1, Date d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λή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JournalIssue: public LibraryIt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otected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volume, numbe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ate dat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JournalIssue (const char *t, int v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n, Date 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5:47:30Z</cp:lastPrinted>
  <dcterms:modified xsi:type="dcterms:W3CDTF">2000-03-08T09:00:53Z</dcterms:modified>
  <cp:revision>30</cp:revision>
  <dc:subject>ΛΟΓ201: Τεχνολογία Λογισμικού ΙΙ</dc:subject>
  <dc:title>Διαφάνειες παρουσίασης</dc:title>
</cp:coreProperties>
</file>