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5F6-2B92-4480-A651-A49CA9EB396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2F76-0E1A-4793-AAF0-649FCD914FD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ατικά πεδία και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και καταστροφ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λ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LibraryItem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itle = new char [strlen(t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title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ear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~LibraryIte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Book (const char *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uthor = new char [strlen(a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author, 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sher = new char [strlen(p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publisher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~Book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::JournalIssu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d.getYear()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(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lume =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mber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ης κλά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φιλικών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otecte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επιπλέον απ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ων κλάσεων που τα κληρονομ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διατηρούν τους περιορισμούς εμβέλειας που έχ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γίνονται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κλάση κληρονομεί από περισσότε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5200" y="341964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080" y="2514600"/>
            <a:ext cx="1828800" cy="1219320"/>
            <a:chOff x="838080" y="2514600"/>
            <a:chExt cx="1828800" cy="1219320"/>
          </a:xfrm>
        </p:grpSpPr>
        <p:sp>
          <p:nvSpPr>
            <p:cNvPr id="145" name=""/>
            <p:cNvSpPr/>
            <p:nvPr/>
          </p:nvSpPr>
          <p:spPr>
            <a:xfrm>
              <a:off x="838080" y="251460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360" y="327672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53960" y="3419640"/>
            <a:ext cx="2167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705720" y="2438280"/>
            <a:ext cx="1828800" cy="1219320"/>
            <a:chOff x="6705720" y="2438280"/>
            <a:chExt cx="1828800" cy="1219320"/>
          </a:xfrm>
        </p:grpSpPr>
        <p:sp>
          <p:nvSpPr>
            <p:cNvPr id="149" name=""/>
            <p:cNvSpPr/>
            <p:nvPr/>
          </p:nvSpPr>
          <p:spPr>
            <a:xfrm>
              <a:off x="6705720" y="24382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equipm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lay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360" y="3060720"/>
              <a:ext cx="15238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92520" y="3876840"/>
            <a:ext cx="1565280" cy="1297440"/>
            <a:chOff x="3692520" y="3876840"/>
            <a:chExt cx="1565280" cy="1297440"/>
          </a:xfrm>
        </p:grpSpPr>
        <p:sp>
          <p:nvSpPr>
            <p:cNvPr id="152" name=""/>
            <p:cNvSpPr/>
            <p:nvPr/>
          </p:nvSpPr>
          <p:spPr>
            <a:xfrm>
              <a:off x="4078440" y="4714560"/>
              <a:ext cx="75816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il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92520" y="3876840"/>
              <a:ext cx="650880" cy="8474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47960" y="3885840"/>
              <a:ext cx="60984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48320" y="4952880"/>
            <a:ext cx="1295280" cy="60984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rec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Film: public LibraryIte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Fil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ultimediaItem(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ector = new char [strlen(d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director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~Fil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double Total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(double w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rintWeight     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void printTotalWeigh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erson::TotalWeigh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erson (double w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yWeight = w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+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-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 weig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y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Total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n total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otal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x(65), y(1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z = new Person(8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2057400"/>
            <a:ext cx="2990880" cy="762120"/>
            <a:chOff x="4800600" y="2057400"/>
            <a:chExt cx="2990880" cy="762120"/>
          </a:xfrm>
        </p:grpSpPr>
        <p:sp>
          <p:nvSpPr>
            <p:cNvPr id="97" name=""/>
            <p:cNvSpPr/>
            <p:nvPr/>
          </p:nvSpPr>
          <p:spPr>
            <a:xfrm>
              <a:off x="7245000" y="2057400"/>
              <a:ext cx="54648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0600" y="2286000"/>
              <a:ext cx="236232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715000" y="2895480"/>
            <a:ext cx="2945160" cy="459720"/>
            <a:chOff x="5715000" y="2895480"/>
            <a:chExt cx="2945160" cy="459720"/>
          </a:xfrm>
        </p:grpSpPr>
        <p:sp>
          <p:nvSpPr>
            <p:cNvPr id="100" name=""/>
            <p:cNvSpPr/>
            <p:nvPr/>
          </p:nvSpPr>
          <p:spPr>
            <a:xfrm>
              <a:off x="7930800" y="289548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312408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781680" y="4257720"/>
            <a:ext cx="1878480" cy="459720"/>
            <a:chOff x="6781680" y="4257720"/>
            <a:chExt cx="1878480" cy="459720"/>
          </a:xfrm>
        </p:grpSpPr>
        <p:sp>
          <p:nvSpPr>
            <p:cNvPr id="103" name=""/>
            <p:cNvSpPr/>
            <p:nvPr/>
          </p:nvSpPr>
          <p:spPr>
            <a:xfrm>
              <a:off x="7930800" y="42577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4495680"/>
              <a:ext cx="106704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5000" y="4876920"/>
            <a:ext cx="2945160" cy="459720"/>
            <a:chOff x="5715000" y="4876920"/>
            <a:chExt cx="2945160" cy="459720"/>
          </a:xfrm>
        </p:grpSpPr>
        <p:sp>
          <p:nvSpPr>
            <p:cNvPr id="106" name=""/>
            <p:cNvSpPr/>
            <p:nvPr/>
          </p:nvSpPr>
          <p:spPr>
            <a:xfrm>
              <a:off x="7930800" y="48769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10552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και σχέση "είναι"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-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1880" y="288612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45120" y="3343320"/>
            <a:ext cx="1364760" cy="1297800"/>
            <a:chOff x="2445120" y="3343320"/>
            <a:chExt cx="1364760" cy="1297800"/>
          </a:xfrm>
        </p:grpSpPr>
        <p:sp>
          <p:nvSpPr>
            <p:cNvPr id="112" name=""/>
            <p:cNvSpPr/>
            <p:nvPr/>
          </p:nvSpPr>
          <p:spPr>
            <a:xfrm>
              <a:off x="2445120" y="4181400"/>
              <a:ext cx="840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548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59200" y="3343320"/>
            <a:ext cx="2093760" cy="1297800"/>
            <a:chOff x="4759200" y="3343320"/>
            <a:chExt cx="2093760" cy="1297800"/>
          </a:xfrm>
        </p:grpSpPr>
        <p:sp>
          <p:nvSpPr>
            <p:cNvPr id="115" name=""/>
            <p:cNvSpPr/>
            <p:nvPr/>
          </p:nvSpPr>
          <p:spPr>
            <a:xfrm>
              <a:off x="5145120" y="4181400"/>
              <a:ext cx="170784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JournalIss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920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629400" y="3505320"/>
            <a:ext cx="1523880" cy="99036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olume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εξειδικευμένες κλάσεις κληρονομούν τα χαρακτηριστικά των γονέων του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1981080"/>
            <a:ext cx="1828800" cy="1219320"/>
            <a:chOff x="4800600" y="1981080"/>
            <a:chExt cx="1828800" cy="1219320"/>
          </a:xfrm>
        </p:grpSpPr>
        <p:sp>
          <p:nvSpPr>
            <p:cNvPr id="120" name=""/>
            <p:cNvSpPr/>
            <p:nvPr/>
          </p:nvSpPr>
          <p:spPr>
            <a:xfrm>
              <a:off x="4800600" y="19810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274320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3429000"/>
            <a:ext cx="1676160" cy="1066680"/>
            <a:chOff x="990720" y="3429000"/>
            <a:chExt cx="1676160" cy="1066680"/>
          </a:xfrm>
        </p:grpSpPr>
        <p:sp>
          <p:nvSpPr>
            <p:cNvPr id="123" name=""/>
            <p:cNvSpPr/>
            <p:nvPr/>
          </p:nvSpPr>
          <p:spPr>
            <a:xfrm>
              <a:off x="990720" y="3429000"/>
              <a:ext cx="1676160" cy="106668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uthor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ublishe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lend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4127400"/>
              <a:ext cx="12952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yea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 (const char *t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LibraryIte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cation whereIs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ook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 (const char *t, 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Boo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lend (Person &amp; 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1, Date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JournalIssue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volume, numb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a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 (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08T09:00:53Z</dcterms:modified>
  <cp:revision>30</cp:revision>
  <dc:subject>ΛΟΓ201: Τεχνολογία Λογισμικού ΙΙ</dc:subject>
  <dc:title>Διαφάνειες παρουσίασης</dc:title>
</cp:coreProperties>
</file>