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FFD8-5984-4F90-A151-4DDB7263FC9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FF07-2763-4890-840F-BC2FA5C30E4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4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τασκευαστές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structor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ταστροφεί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destructor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άφορο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τελεστ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φοροι τελεστ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tor []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&amp; name::operator [] (int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tor (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name::operator () (int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δείγ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[4] = 'a';  cout &lt;&lt; n(4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con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γαδικοί αριθμο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 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(const complex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2(1.0, 4.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3(c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con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ault constru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im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py constru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const complex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c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m =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con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οιποί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onstruc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double r, double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m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double 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m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de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λούνται όταν ένα αντικείμενο καταστρέφεται, δηλαδή παύει να υπάρχει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ολλές φορές απαραίτητοι για λειτουργίες εκκαθάρισης, π.χ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οδέσμευση μνήμ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είσιμο αρχεί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de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(const char *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na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::name (const char *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n &lt;&lt; " is copied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= new char [strlen(n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s,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de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::~na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 &lt;&lt; " is deleted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("nickie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5105520"/>
            <a:ext cx="426744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ickie is copi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ickie is delet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hi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ίχνει στο αντικείμενο επάνω στο οποίο εφαρμόζεται μια μέθοδ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χρήση του απαιτείται σπάνι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omplex::set (double r, double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is-&gt;re = r;  // re =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is-&gt;im = i;  // im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χρήση του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is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 παραπάνω παράδειγμα είναι περιτ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φοροι τελεστ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tor =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&amp; complex::operator =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omplex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c.re; im =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*thi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&amp; name::operator =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name &amp;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= new char [strlen(n.s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s, n.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*thi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2-28T15:47:36Z</dcterms:modified>
  <cp:revision>23</cp:revision>
  <dc:subject>ΛΟΓ201: Τεχνολογία Λογισμικού ΙΙ</dc:subject>
  <dc:title>Διαφάνειες παρουσίασης</dc:title>
</cp:coreProperties>
</file>