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617400" y="1066680"/>
            <a:ext cx="7917120" cy="76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8A8FD-492B-4F57-971D-D85C53621B8A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201: Τεχνολογία Λογισμικού Ι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7972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16760" y="457200"/>
            <a:ext cx="591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ahoma"/>
              </a:rPr>
              <a:t>ΛΟΓ201: Τεχνολογία Λογισμικού Ι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69920" y="205740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nickie@softlab.ntua.g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28520" y="1547640"/>
            <a:ext cx="528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Διδάσκων: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Νίκος Παπασπύρο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5960" y="914400"/>
            <a:ext cx="70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ahoma"/>
              </a:rPr>
              <a:t>http://www.softlab.ntua.gr/~nickie/TUC/log201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692F4-0282-468F-94C2-6193BA1DD43B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201: Τεχνολογία Λογισμικού Ι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άνειες παρουσίασης #4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Κατασκευαστές (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onstructors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Καταστροφείς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destructors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Δείκτης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Διάφοροι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τελεστέ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άφοροι τελεστέ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operator []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&amp; name::operator [] (int i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s[i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operator (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name::operator () (int i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s[i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αδείγματ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[4] = 'a';  cout &lt;&lt; n(4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ατασκευαστές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 (constructors)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Μιγαδικοί αριθμοί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complex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  // ..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(double r, double i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(const complex &amp; c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c1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c2(1.0, 4.0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c3(c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ατασκευαστές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 (constructors)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efault constructo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::complex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 = im = 0.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opy constructo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::complex (const complex &amp; c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 = c.r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m = c.im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ατασκευαστές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 (constructors)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Λοιποί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constructor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::complex (double r, double i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 = r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m = i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::complex (double r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 = r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m = 0.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αταστροφείς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 (destructors)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αλούνται όταν ένα αντικείμενο καταστρέφεται, δηλαδή παύει να υπάρχει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ame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// ..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ολλές φορές απαραίτητοι για λειτουργίες εκκαθάρισης, π.χ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ποδέσμευση μνήμη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λείσιμο αρχεί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αταστροφείς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 (destructors)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nam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vate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* s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ame (const char * n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~name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ame::name (const char * n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n &lt;&lt; " is copied\n"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 = new char [strlen(n)+1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cpy(s, n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αταστροφείς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 (destructors)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ame::~name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s &lt;&lt; " is deleted\n"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elete [] s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main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ame n("nickie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5105520"/>
            <a:ext cx="4267440" cy="825480"/>
          </a:xfrm>
          <a:prstGeom prst="rect">
            <a:avLst/>
          </a:prstGeom>
          <a:solidFill>
            <a:srgbClr val="ffcccc"/>
          </a:solidFill>
          <a:ln w="9360">
            <a:solidFill>
              <a:srgbClr val="004c2b"/>
            </a:solidFill>
            <a:miter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ickie is copie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ickie is delete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είκτης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this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είχνει στο αντικείμενο επάνω στο οποίο εφαρμόζεται μια μέθοδο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Η χρήση του απαιτείται σπάνι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complex::set (double r, double i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his-&gt;re = r;  // re = r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his-&gt;im = i;  // im = i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Η χρήση του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his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το παραπάνω παράδειγμα είναι περιττή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άφοροι τελεστέ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operator =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&amp; complex::operator = (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nst complex &amp; c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 = c.re; im = c.im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*this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ame &amp; name::operator = (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nst name &amp; n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elete [] s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 = new char [strlen(n.s)+1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cpy(s, n.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*this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6:28:41Z</dcterms:created>
  <dc:creator>Nikolaos S. Papaspyrou</dc:creator>
  <dc:description/>
  <dc:language>en-US</dc:language>
  <cp:lastModifiedBy>Nikolaos S. Papaspyrou</cp:lastModifiedBy>
  <cp:lastPrinted>2000-02-28T15:47:30Z</cp:lastPrinted>
  <dcterms:modified xsi:type="dcterms:W3CDTF">2000-02-28T15:47:36Z</dcterms:modified>
  <cp:revision>23</cp:revision>
  <dc:subject>ΛΟΓ201: Τεχνολογία Λογισμικού ΙΙ</dc:subject>
  <dc:title>Διαφάνειες παρουσίασης</dc:title>
</cp:coreProperties>
</file>