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56204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617400" y="1066680"/>
            <a:ext cx="7917120" cy="76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FE103-5CC4-49F9-BC19-BA09781485D4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ΛΟΓ201: Τεχνολογία Λογισμικού ΙΙ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7972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16760" y="457200"/>
            <a:ext cx="591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ahoma"/>
              </a:rPr>
              <a:t>ΛΟΓ201: Τεχνολογία Λογισμικού ΙΙ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69920" y="2057400"/>
            <a:ext cx="34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nickie@softlab.ntua.g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28520" y="1547640"/>
            <a:ext cx="528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Διδάσκων: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Νίκος Παπασπύρου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5960" y="914400"/>
            <a:ext cx="70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ahoma"/>
              </a:rPr>
              <a:t>http://www.softlab.ntua.gr/~nickie/TUC/log201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73E33-5A8C-41BC-92C5-C3AA078BB141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ΛΟΓ201: Τεχνολογία Λογισμικού ΙΙ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3344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75248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αφάνειες παρουσίασης #3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3430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Κλάσεις και αντικείμενα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Ορισμός κλάσεων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Ορισμός και χρήση αντικειμένων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Ορισμός μεθόδων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Κλάσεις και εμβέλεια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λάσεις και εμβέλεια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Οι μέθοδοι δεν επαρκούν πάντ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2895480"/>
            <a:ext cx="8001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lvl="1" marL="713160" indent="-274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lex complex::operator + (complex c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lex c1, c2, c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 = c1 + c2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lex complex::operator + (double d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d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 = c1 + d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 = d + c2;       // wrong!!!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05120" y="2124000"/>
            <a:ext cx="5867280" cy="510120"/>
          </a:xfrm>
          <a:prstGeom prst="rect">
            <a:avLst/>
          </a:prstGeom>
          <a:solidFill>
            <a:srgbClr val="ffcccc"/>
          </a:solidFill>
          <a:ln w="9360">
            <a:solidFill>
              <a:srgbClr val="004c2b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z</a:t>
            </a:r>
            <a:r>
              <a:rPr b="0" lang="en-US" sz="24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+ z</a:t>
            </a:r>
            <a:r>
              <a:rPr b="0" lang="en-US" sz="24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z + r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r + z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λάσεις και εμβέλεια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Με χρήση κοινών συναρτήσε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lex operator + (complex a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lex b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lex resul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sult.set(a.getRe() + b.getRe()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a.getIm() + b.getIm()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resul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lex operator + (double a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lex b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lex resul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sult.set(a + b.getRe(), b.getIm()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resul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λάσεις και εμβέλεια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Με χρήση φιλικών συναρτήσε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lass complex operato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riend complex operator + (double a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       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lex b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vate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re, im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lex operator + (double a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lex b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lex resul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sult.set(a + b.re, b.im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resul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λάσεις και αντικείμενα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ντί ορισμώ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ντικείμενο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=   δεδομένα + μέθοδοι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λάση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=   τύπος αντικειμένω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αλληλισμός με γνωστές έννοιε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ντικείμενο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800" spc="-1" strike="noStrike">
                <a:solidFill>
                  <a:srgbClr val="333333"/>
                </a:solidFill>
                <a:latin typeface="Symbol"/>
                <a:ea typeface="Symbol"/>
              </a:rPr>
              <a:t>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  μεταβλητή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λάση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800" spc="-1" strike="noStrike">
                <a:solidFill>
                  <a:srgbClr val="333333"/>
                </a:solidFill>
                <a:latin typeface="Symbol"/>
                <a:ea typeface="Symbol"/>
              </a:rPr>
              <a:t>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  τύπος δεδομένω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τη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++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Courier New"/>
              </a:rPr>
              <a:t>class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αι </a:t>
            </a:r>
            <a:r>
              <a:rPr b="1" lang="en-US" sz="2800" spc="-1" strike="noStrike">
                <a:solidFill>
                  <a:srgbClr val="333333"/>
                </a:solidFill>
                <a:latin typeface="Courier New"/>
              </a:rPr>
              <a:t>struct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είναι (σχεδόν) ισοδύναμα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δεν υπάρχει αντικείμενο χωρίς κλάση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Ορισμός κλάσεων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Μιγαδικοί αριθμοί, χωρίς κλάση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truct complex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re, im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set (complex &amp;c, double r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  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i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lex operator + (complex a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lex b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operator == (complex a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lex b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Ορισμός κλάσεων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Μιγαδικοί αριθμοί, μια πρώτη κλάση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lass complex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vate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re, im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ublic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set (double r, double i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lex operator + (complex c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operator == (complex c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Ορισμός και χρήση αντικειμένων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complex a, b, c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a.set(3, 4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b.set(1, 0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c = a + b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if (c == b + a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cout &lt;&lt; "correct.\n"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cout &lt;&lt; "mistake!\n"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Ορισμός και χρήση αντικειμένων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complex cneg (complex c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complex c[50], *pc, resul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for (int i=0, pc=&amp;c; i&lt;50, i++, pc++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pc-&gt;set(2*i, 3+i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result.set(0,0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for (int i=0; i&lt;50; i++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result += cneg(c[i]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Ορισμός μεθόδων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complex::set (double r, double i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 = r; im = i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lex complex::operator + (complex c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lex resul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sult.set(re + c.re, im + c.im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resul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complex::operator == (complex c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re == c.re &amp;&amp; im == c.im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676520" y="5626080"/>
            <a:ext cx="2361960" cy="304920"/>
          </a:xfrm>
          <a:prstGeom prst="roundRect">
            <a:avLst>
              <a:gd name="adj" fmla="val 42708"/>
            </a:avLst>
          </a:prstGeom>
          <a:solidFill>
            <a:srgbClr val="ffff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5295960"/>
            <a:ext cx="2361960" cy="304920"/>
          </a:xfrm>
          <a:prstGeom prst="roundRect">
            <a:avLst>
              <a:gd name="adj" fmla="val 42708"/>
            </a:avLst>
          </a:prstGeom>
          <a:solidFill>
            <a:srgbClr val="ffcc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14400" y="1981080"/>
            <a:ext cx="68580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" y="2666880"/>
            <a:ext cx="6858000" cy="990720"/>
          </a:xfrm>
          <a:prstGeom prst="rect">
            <a:avLst/>
          </a:prstGeom>
          <a:solidFill>
            <a:srgbClr val="ffcc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λάσεις και εμβέλεια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lass complex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vate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re, im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ublic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set (double r, double i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// ..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main 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lex c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.set(1, 0);    // correc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.re = 1;       // wrong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λάσεις και εμβέλεια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πόκρυψη πληροφοριώ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Ο προγραμματιστής ορίζει τα πεδία των αντικειμένων που θα είναι ορατά από τον υπόλοιπο κόσμο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αλύτερη δόμηση προγραμμάτω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νεξαρτησία διαπροσωπείας και υλοποίηση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Μειονεκτήματ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Πολλές φορές απαιτούνται συναρτήσεις πρόσβασης στα μη ορατά πεδία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complex::getRe (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3T16:28:41Z</dcterms:created>
  <dc:creator>Nikolaos S. Papaspyrou</dc:creator>
  <dc:description/>
  <dc:language>en-US</dc:language>
  <cp:lastModifiedBy>Nikolaos S. Papaspyrou</cp:lastModifiedBy>
  <cp:lastPrinted>2000-02-21T22:22:14Z</cp:lastPrinted>
  <dcterms:modified xsi:type="dcterms:W3CDTF">2000-02-22T14:56:36Z</dcterms:modified>
  <cp:revision>21</cp:revision>
  <dc:subject>ΛΟΓ201: Τεχνολογία Λογισμικού ΙΙ</dc:subject>
  <dc:title>Διαφάνειες παρουσίασης</dc:title>
</cp:coreProperties>
</file>