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6A6E-80E2-4D12-9FCC-C2F0C9D36A68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F4E1-89F6-4A8B-A1E0-5DC56D3BA22D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3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λάσεις και αντικείμεν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ός κλά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ός και χρήση αντικει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ός μεθόδ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λάσεις και εμβέλει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μέθοδοι δεν επαρκούν πάν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89548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omplex::operator + (complex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1, c2,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c1 + c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omplex::operator + (double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c1 +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d + c2;       // wrong!!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124000"/>
            <a:ext cx="5867280" cy="510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+ z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z + r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 + z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 χρήση κοινών συναρτήσε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complex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set(a.getRe() + b.getRe(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.getIm() + b.getIm(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double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set(a + b.getRe(), b.getIm(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 χρήση φιλικών συναρτήσε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 operat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iend complex operator + (double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double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set(a + b.re, b.im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αντικείμεν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ί ορισμ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τικείμενο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  δεδομένα + μέθοδο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λά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  τύπος αντικει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λληλισμός με γνωστές έννοι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τικείμενο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Symbol"/>
                <a:ea typeface="Symbol"/>
              </a:rPr>
              <a:t>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  μεταβλητ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λά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Symbol"/>
                <a:ea typeface="Symbol"/>
              </a:rPr>
              <a:t>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  τύπος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++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clas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ναι (σχεδόν) ισοδύνα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υπάρχει αντικείμενο χωρίς κλά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γαδικοί αριθμοί, χωρίς κλά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et (complex &amp;c, double 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complex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operator == (complex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γαδικοί αριθμοί, μια πρώτη κλά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et (double r, double 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complex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operator == (complex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και χρήση αντικει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mplex a, b,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a.set(3, 4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.set(1, 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 = a +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f (c == b + a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ut &lt;&lt; "correct.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ut &lt;&lt; "mistake!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και χρήση αντικει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mplex cneg (complex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mplex c[50], *pc,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or (int i=0, pc=&amp;c; i&lt;50, i++, pc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c-&gt;set(2*i, 3+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result.set(0,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or (int i=0; i&lt;5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result += cneg(c[i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μεθόδ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omplex::set (double r, double 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r; im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omplex::operator + (complex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set(re + c.re, im + c.im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omplex::operator == (complex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 == c.re &amp;&amp; im == c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76520" y="5626080"/>
            <a:ext cx="2361960" cy="304920"/>
          </a:xfrm>
          <a:prstGeom prst="roundRect">
            <a:avLst>
              <a:gd name="adj" fmla="val 42708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295960"/>
            <a:ext cx="2361960" cy="304920"/>
          </a:xfrm>
          <a:prstGeom prst="roundRect">
            <a:avLst>
              <a:gd name="adj" fmla="val 42708"/>
            </a:avLst>
          </a:prstGeom>
          <a:solidFill>
            <a:srgbClr val="ff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981080"/>
            <a:ext cx="68580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666880"/>
            <a:ext cx="6858000" cy="99072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et (double r, double 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.set(1, 0);    // correc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.re = 1;       // wro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όκρυψη πληροφορι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προγραμματιστής ορίζει τα πεδία των αντικειμένων που θα είναι ορατά από τον υπόλοιπο κόσμ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λύτερη δόμηση προγραμμάτ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εξαρτησία διαπροσωπείας και υλοποί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ιονεκτήμα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λλές φορές απαιτούνται συναρτήσεις πρόσβασης στα μη ορατά πεδ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complex::getRe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1T22:22:14Z</cp:lastPrinted>
  <dcterms:modified xsi:type="dcterms:W3CDTF">2000-02-22T14:56:36Z</dcterms:modified>
  <cp:revision>21</cp:revision>
  <dc:subject>ΛΟΓ201: Τεχνολογία Λογισμικού ΙΙ</dc:subject>
  <dc:title>Διαφάνειες παρουσίασης</dc:title>
</cp:coreProperties>
</file>