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FEF0-AC02-4C87-9E52-66BA2C23756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2988-DCAA-4100-8A38-5B525249B85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3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ις και αντικείμεν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κλ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και χρήση αντικει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μεθόδ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ις και εμβέλε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μέθοδοι δεν επαρκούν πάν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954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x::operator +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1, c2,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c1 + c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x::operator + (double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c1 +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d + c2;       // wrong!!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124000"/>
            <a:ext cx="5867280" cy="510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+ z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z + r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 + z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χρήση κοινών συναρτήσε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a.getRe() + b.getRe(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.getIm() + b.getIm(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double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a + b.getRe(), b.getIm(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 χρήση φιλικών συναρτήσε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 operat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 complex operator + (double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double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a + b.re, b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αντικείμεν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τί ορισμ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κείμενο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  δεδομένα + μέθοδο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ά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  τύπος αντικει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λληλισμός με γνωστές έννοι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τικείμενο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 μεταβλη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ά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 τύπος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ίναι (σχεδόν) ισοδύναμ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ν υπάρχει αντικείμενο χωρίς κλά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γαδικοί αριθμοί, χωρίς κλά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et (complex &amp;c, double 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rator == (complex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γαδικοί αριθμοί, μια πρώτη κλά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et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operator +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rator ==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αι χρήση αντικει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a, b,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a.set(3, 4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b.set(1, 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 = a +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if (c == b + 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correct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ut &lt;&lt; "mistake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και χρήση αντικειμέν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cneg (complex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mplex c[50], *pc,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or (int i=0, pc=&amp;c; i&lt;50, i++, pc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pc-&gt;set(2*i, 3+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result.set(0,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for (int i=0; i&lt;5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result += cneg(c[i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μεθόδ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omplex::set (double r, double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r; im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x::operator + (complex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set(re + c.re, im + c.im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omplex::operator == (complex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 == c.re &amp;&amp; im ==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76520" y="5626080"/>
            <a:ext cx="2361960" cy="304920"/>
          </a:xfrm>
          <a:prstGeom prst="roundRect">
            <a:avLst>
              <a:gd name="adj" fmla="val 42708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95960"/>
            <a:ext cx="2361960" cy="304920"/>
          </a:xfrm>
          <a:prstGeom prst="roundRect">
            <a:avLst>
              <a:gd name="adj" fmla="val 42708"/>
            </a:avLst>
          </a:prstGeom>
          <a:solidFill>
            <a:srgbClr val="ff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981080"/>
            <a:ext cx="68580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666880"/>
            <a:ext cx="685800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set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.set(1, 0);    // corre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.re = 1;       // wr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όκρυψη πληροφορι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προγραμματιστής ορίζει τα πεδία των αντικειμένων που θα είναι ορατά από τον υπόλοιπο κόσμ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λύτερη δόμηση προγραμμάτ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νεξαρτησία διαπροσωπείας και 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ιονεκτή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λλές φορές απαιτούνται συναρτήσεις πρόσβασης στα μη ορατά πεδί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complex::getR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1T22:22:14Z</cp:lastPrinted>
  <dcterms:modified xsi:type="dcterms:W3CDTF">2000-02-22T14:56:36Z</dcterms:modified>
  <cp:revision>21</cp:revision>
  <dc:subject>ΛΟΓ201: Τεχνολογία Λογισμικού ΙΙ</dc:subject>
  <dc:title>Διαφάνειες παρουσίασης</dc:title>
</cp:coreProperties>
</file>