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DA6C-E4FB-44F8-9A05-DD9628FACD0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2E1-05B0-4199-A985-C4F41CAE423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, σχόλια και ..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φορές μεταξύ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φο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ερφόρτωση συναρτήσεων και τελε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έρασμα με αναφορά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oUpper (char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 &gt;= 'a' &amp;&amp; c &lt;= 'z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-= 'a' - 'A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 = 'n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Uppe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συναρτή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με το ίδιο όνομα αλλά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ό αριθμό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ούς τύπους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, 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size, const int a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double a, doubl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int x, int y);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x.re + y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x.im + y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x.re == y.r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amp;&amp; (x.im == y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re = 1.0; a.im = 2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re = 4.0; b.im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a =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equal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different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w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δεδομέν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p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 = 0 ; i &lt; 10 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[]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πτύχθηκ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αρχές της δεκαετίας του 198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T&amp;T Bell Lab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ο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jarne Stroustru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ίζε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οποία επεκτείνει υποστηρίζοντα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 και χρήση αφηρημένων τύπ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ιμενοστρεφή σχεδίαση και προγραμ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βελτιώσεις χαρακτηριστικών τη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 και ...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My first program in C+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 is an old-style C commen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asy enough, wasn't i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These are new-style C++ comm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ές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5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(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μεταβλητών παντ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y = x +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y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g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ουν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λεύθερες ε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: 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enum </a:t>
            </a:r>
            <a:r>
              <a:rPr b="0" lang="el-GR" sz="32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ωτότυπα συναρτήσεων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άθο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ωστ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εμβέλειας  :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 &lt;&lt; ::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παραμέτ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f (int x = 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g (int a, int b =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1,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g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h (int a = 1, int b);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ναφορέ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ference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αρόμοιες με δείκτε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inter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με τις εξής διαφορές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ρειάζεται πάντα αρχικοποίη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 χρειάζεται ο τελεστή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=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&amp;z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1:38Z</cp:lastPrinted>
  <dcterms:modified xsi:type="dcterms:W3CDTF">2000-02-15T15:29:09Z</dcterms:modified>
  <cp:revision>17</cp:revision>
  <dc:subject>ΛΟΓ201: Τεχνολογία Λογισμικού ΙΙ</dc:subject>
  <dc:title>Διαφάνειες παρουσίασης</dc:title>
</cp:coreProperties>
</file>