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56204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617400" y="1066680"/>
            <a:ext cx="7917120" cy="76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8DB9C-A40A-4D47-9037-9BE34ACE4A93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ΛΟΓ201: Τεχνολογία Λογισμικού ΙΙ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7972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16760" y="457200"/>
            <a:ext cx="591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ahoma"/>
              </a:rPr>
              <a:t>ΛΟΓ201: Τεχνολογία Λογισμικού ΙΙ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69920" y="2057400"/>
            <a:ext cx="34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nickie@softlab.ntua.g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28520" y="1547640"/>
            <a:ext cx="528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Διδάσκων: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Νίκος Παπασπύρου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5960" y="914400"/>
            <a:ext cx="70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ahoma"/>
              </a:rPr>
              <a:t>http://www.softlab.ntua.gr/~nickie/TUC/log201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00966-23CF-4DA0-96C3-4D211B612939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ΛΟΓ201: Τεχνολογία Λογισμικού ΙΙ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3344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75248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αφάνειες παρουσίασης #2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3430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Εισαγωγή, σχόλια και ...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hello worl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Διαφορές μεταξύ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 </a:t>
            </a: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και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++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Αναφορέ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Υπερφόρτωση συναρτήσεων και τελεστών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Δυναμική παραχώρηση μνήμη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Αναφορέ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3366"/>
                </a:solidFill>
                <a:latin typeface="Times New Roman"/>
              </a:rPr>
              <a:t>Πέρασμα με αναφορά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toUpper (char &amp; c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c &gt;= 'a' &amp;&amp; c &lt;= 'z'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 -= 'a' - 'A'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main 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har c = 'n'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oUpper(c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ut &lt;&lt; c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0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Υπερφόρτωση συναρτήσεων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υναρτήσεις με το ίδιο όνομα αλλά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με διαφορετικό αριθμό παραμέτρω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με διαφορετικούς τύπους παραμέτρω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max (int a, int b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max (int a, int b, int c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max (int size, const int a[]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max (double a, double b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max (int x, int y);   // wrong!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Υπερφόρτωση τελεστών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truct complex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re, im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lex operator + (complex x, complex y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lex resul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sult.re = x.re + y.re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sult.im = x.im + y.im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resul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operator == (complex x, complex y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(x.re == y.re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&amp;&amp; (x.im == y.im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Υπερφόρτωση τελεστών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int main 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complex a, b, c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a.re = 1.0; a.im = 2.0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b.re = 4.0; b.im = 1.0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if (a == b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cout &lt;&lt; "they are equal\n"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cout &lt;&lt; "they are different\n"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c = a + b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return 0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υναμική παραχώρηση μνήμης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ελεστές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new 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και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delet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πλά δεδομέν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int * p = new in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*p = 1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delete p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ίνακε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int * p = new int [10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for (int i = 0 ; i &lt; 10 ; i++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p[i] = i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delete [] p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Εισαγωγή στη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++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ναπτύχθηκε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στις αρχές της δεκαετίας του 1980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στα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AT&amp;T Bell Lab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πό τον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Bjarne Stroustrup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Βασίζεται στη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, 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ην οποία επεκτείνει υποστηρίζοντας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δημιουργία και χρήση αφηρημένων τύπων δεδομένω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ντικειμενοστρεφή σχεδίαση και προγραμματισμό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άλλες βελτιώσεις χαρακτηριστικών της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χόλια και ...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h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ello world!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/* My first program in C++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his is an old-style C comment *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#include &lt;iostream.h&g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main 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ut &lt;&lt; "Hello world!\n"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0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// Easy enough, wasn't it?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// These are new-style C++ comment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αφορές μεταξύ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 και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++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Μετατροπές τύπ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(double) 5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(5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Δηλώσεις μεταβλητών παντού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f 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x = 0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ut &lt;&lt; x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y = x + 1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ut &lt;&lt; y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or (int i=1; i &lt; y; i++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ut &lt;&lt; i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αφορές μεταξύ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 και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++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τικέτες (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ags) 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ορίζουν τύπου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truct complex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re, im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lex z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λεύθερες ενώσει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union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i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d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τη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++:  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enum </a:t>
            </a:r>
            <a:r>
              <a:rPr b="0" lang="el-GR" sz="3200" spc="-1" strike="noStrike">
                <a:solidFill>
                  <a:srgbClr val="003366"/>
                </a:solidFill>
                <a:latin typeface="Symbol"/>
                <a:ea typeface="Symbol"/>
              </a:rPr>
              <a:t>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in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αφορές μεταξύ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 και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++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ρωτότυπα συναρτήσεων είναι απαραίτητ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Λάθος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f () { return g() + 1; 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g () { return 0; 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Σωστό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g (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f () { return g() + 1; 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g () { return 0; 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ύνταξη του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mai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main (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main (int argc, char * argv[]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αφορές μεταξύ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 και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++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ελεστής εμβέλειας  :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#include &lt;iostream.h&g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x = 1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main 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x = 2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ut &lt;&lt; x &lt;&lt; ::x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0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αφορές μεταξύ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 και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++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Default 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ιμές παραμέτρ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void f (int x = 1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void g (int a, int b = 0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int main 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f(5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f(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g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(1, 2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g(5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void h (int a = 1, int b);  // wrong!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Αναφορέ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3366"/>
                </a:solidFill>
                <a:latin typeface="Times New Roman"/>
              </a:rPr>
              <a:t>Αναφορές (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references) </a:t>
            </a:r>
            <a:r>
              <a:rPr b="0" lang="el-GR" sz="2800" spc="-1" strike="noStrike">
                <a:solidFill>
                  <a:srgbClr val="003366"/>
                </a:solidFill>
                <a:latin typeface="Times New Roman"/>
              </a:rPr>
              <a:t>παρόμοιες με δείκτες (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pointers) </a:t>
            </a:r>
            <a:r>
              <a:rPr b="0" lang="el-GR" sz="2800" spc="-1" strike="noStrike">
                <a:solidFill>
                  <a:srgbClr val="003366"/>
                </a:solidFill>
                <a:latin typeface="Times New Roman"/>
              </a:rPr>
              <a:t>με τις εξής διαφορές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χρειάζεται πάντα αρχικοποίηση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δε χρειάζεται ο τελεστής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*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main 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x=1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&amp;z = x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ut &lt;&lt; ++z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ut &lt;&lt; ++x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0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3T16:28:41Z</dcterms:created>
  <dc:creator>Nikolaos S. Papaspyrou</dc:creator>
  <dc:description/>
  <dc:language>en-US</dc:language>
  <cp:lastModifiedBy>Nikolaos S. Papaspyrou</cp:lastModifiedBy>
  <cp:lastPrinted>2000-02-14T22:11:38Z</cp:lastPrinted>
  <dcterms:modified xsi:type="dcterms:W3CDTF">2000-02-15T15:29:09Z</dcterms:modified>
  <cp:revision>17</cp:revision>
  <dc:subject>ΛΟΓ201: Τεχνολογία Λογισμικού ΙΙ</dc:subject>
  <dc:title>Διαφάνειες παρουσίασης</dc:title>
</cp:coreProperties>
</file>