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B645-4B3F-4AE4-9E36-78598D3D0C9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6A1C-2B86-4935-9FC9-5E0B40C816E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, σχόλια και ...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φορές μεταξύ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φο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Υπερφόρτωση συναρτήσεων και τελεστώ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ναμική παραχώρηση μνήμη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έρασμα με αναφορά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toUpper (char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c &gt;= 'a' &amp;&amp; c &lt;= 'z'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-= 'a' - 'A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 = 'n'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Upper(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συναρτήσε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αρτήσεις με το ίδιο όνομα αλλά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ό αριθμό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ιαφορετικούς τύπους παραμέτρ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a, int b, int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x (int size, const int a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double a, doubl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ax (int x, int y);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x.re + y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x.im + y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x, complex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x.re == y.r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amp;&amp; (x.im == y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περφόρτωση τελεστώ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re = 1.0; a.im = 2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re = 4.0; b.im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a =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equal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they are different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ναμική παραχώρηση μνήμη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ew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le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ά δεδομέν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p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ίνακ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* p = new int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 = 0 ; i &lt; 10 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delete []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πτύχθηκε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ις αρχές της δεκαετίας του 198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α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T&amp;T Bell Lab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 τον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jarne Stroustru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ίζεται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,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ην οποία επεκτείνει υποστηρίζοντα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ημιουργία και χρήση αφηρημένων τύπων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ιμενοστρεφή σχεδίαση και προγραμματισμ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άλλες βελτιώσεις χαρακτηριστικών της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 και ...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h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My first program in C++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 is an old-style C commen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asy enough, wasn't i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These are new-style C++ comm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τροπές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double) 5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(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μεταβλητών παντ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y = x +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y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τικέτες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gs)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ουν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λεύθερες ενώ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: 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enum </a:t>
            </a:r>
            <a:r>
              <a:rPr b="0" lang="el-GR" sz="32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i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ωτότυπα συναρτήσεων είναι απαραίτη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Λάθο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ωστό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) { return g() + 1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 () { return 0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ταξ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i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int argc, char * argv[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εμβέλειας  :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x &lt;&lt; ::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ορές μεταξύ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 κα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παραμέτρ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f (int x = 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g (int a, int b =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(1, 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g(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void h (int a = 1, int b);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φο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ναφορέ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ference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παρόμοιες με δείκτε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inters) 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με τις εξής διαφορές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χρειάζεται πάντα αρχικοποίη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 χρειάζεται ο τελεστή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=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&amp;z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++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1:38Z</cp:lastPrinted>
  <dcterms:modified xsi:type="dcterms:W3CDTF">2000-02-15T15:29:09Z</dcterms:modified>
  <cp:revision>17</cp:revision>
  <dc:subject>ΛΟΓ201: Τεχνολογία Λογισμικού ΙΙ</dc:subject>
  <dc:title>Διαφάνειες παρουσίασης</dc:title>
</cp:coreProperties>
</file>