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6FA-52A8-4E0C-BF11-D9FBB3F9037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8E6-C706-4211-BB19-E0217761E8C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πικοινωνία μεταξύ υπολογιστ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ελάτες και εξυπηρετητ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ποδοχ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κοινωνία μεταξύ υπολογισ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διεργασίες που επικοινωνούν εκτελούνται σε διαφορετικούς υπολογι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επικοινωνία των εφαρμογών βασίζεται στο λειτουργικό σύστημα, που διαχειρίζεται τη φυσική επικοινωνία μέσω δικτύ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2514600"/>
            <a:ext cx="6400800" cy="1600200"/>
            <a:chOff x="1295280" y="2514600"/>
            <a:chExt cx="6400800" cy="1600200"/>
          </a:xfrm>
        </p:grpSpPr>
        <p:sp>
          <p:nvSpPr>
            <p:cNvPr id="92" name=""/>
            <p:cNvSpPr/>
            <p:nvPr/>
          </p:nvSpPr>
          <p:spPr>
            <a:xfrm>
              <a:off x="5638680" y="2514600"/>
              <a:ext cx="2057400" cy="160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2514600"/>
              <a:ext cx="2057400" cy="160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3359160"/>
              <a:ext cx="2590920" cy="14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7400" y="30542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50800" y="30542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200400" y="3352680"/>
              <a:ext cx="2590920" cy="64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200400" y="3504960"/>
              <a:ext cx="2590920" cy="61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4320" y="28195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ίκτυο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09480" y="4648320"/>
            <a:ext cx="3276720" cy="1600200"/>
            <a:chOff x="609480" y="4648320"/>
            <a:chExt cx="3276720" cy="1600200"/>
          </a:xfrm>
        </p:grpSpPr>
        <p:sp>
          <p:nvSpPr>
            <p:cNvPr id="101" name=""/>
            <p:cNvSpPr/>
            <p:nvPr/>
          </p:nvSpPr>
          <p:spPr>
            <a:xfrm>
              <a:off x="609480" y="4648320"/>
              <a:ext cx="2133720" cy="1523880"/>
            </a:xfrm>
            <a:prstGeom prst="rect">
              <a:avLst/>
            </a:prstGeom>
            <a:solidFill>
              <a:srgbClr val="bdd7e5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Γ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971800" y="5257800"/>
              <a:ext cx="0" cy="99072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5867280"/>
              <a:ext cx="914400" cy="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5486400"/>
              <a:ext cx="22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29000" y="2666880"/>
            <a:ext cx="2438280" cy="1828800"/>
            <a:chOff x="3429000" y="2666880"/>
            <a:chExt cx="2438280" cy="1828800"/>
          </a:xfrm>
        </p:grpSpPr>
        <p:sp>
          <p:nvSpPr>
            <p:cNvPr id="106" name=""/>
            <p:cNvSpPr/>
            <p:nvPr/>
          </p:nvSpPr>
          <p:spPr>
            <a:xfrm>
              <a:off x="3429000" y="2666880"/>
              <a:ext cx="2133720" cy="1524240"/>
            </a:xfrm>
            <a:prstGeom prst="rect">
              <a:avLst/>
            </a:prstGeom>
            <a:solidFill>
              <a:srgbClr val="bdd7e5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4495680"/>
              <a:ext cx="2209680" cy="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419112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5880" y="3048120"/>
            <a:ext cx="2514600" cy="3124080"/>
          </a:xfrm>
          <a:prstGeom prst="rect">
            <a:avLst/>
          </a:prstGeom>
          <a:solidFill>
            <a:srgbClr val="bdd7e5"/>
          </a:solidFill>
          <a:ln cap="rnd" w="9360">
            <a:solidFill>
              <a:srgbClr val="004c2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Υπολογιστής 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λάτες και εξυπηρετητέ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Client-Serv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η φιλοσοφία ανάπτυξης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82880" y="3733920"/>
            <a:ext cx="187380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ξυπηρετητή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12560" y="502920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57200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6840" y="320040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7320" y="518148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33920" y="4495680"/>
            <a:ext cx="1600200" cy="1828800"/>
            <a:chOff x="3733920" y="4495680"/>
            <a:chExt cx="1600200" cy="1828800"/>
          </a:xfrm>
        </p:grpSpPr>
        <p:sp>
          <p:nvSpPr>
            <p:cNvPr id="118" name=""/>
            <p:cNvSpPr/>
            <p:nvPr/>
          </p:nvSpPr>
          <p:spPr>
            <a:xfrm flipV="1">
              <a:off x="4191120" y="4495680"/>
              <a:ext cx="0" cy="60984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920" y="4876920"/>
              <a:ext cx="1600200" cy="1447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551800">
              <a:off x="3814200" y="533376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ahoma"/>
                </a:rPr>
                <a:t>Intern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34120" y="3733920"/>
            <a:ext cx="1066680" cy="38088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240" y="4419720"/>
            <a:ext cx="3886200" cy="129528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865480" y="2362320"/>
            <a:ext cx="1831320" cy="2133360"/>
            <a:chOff x="5865480" y="2362320"/>
            <a:chExt cx="1831320" cy="2133360"/>
          </a:xfrm>
        </p:grpSpPr>
        <p:sp>
          <p:nvSpPr>
            <p:cNvPr id="124" name=""/>
            <p:cNvSpPr/>
            <p:nvPr/>
          </p:nvSpPr>
          <p:spPr>
            <a:xfrm flipV="1">
              <a:off x="5867280" y="2666880"/>
              <a:ext cx="0" cy="182880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3581280"/>
              <a:ext cx="22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5480" y="2362320"/>
              <a:ext cx="183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τοπικό δίκτυο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Socke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τυγχάνουν επικοινωνία μεταξύ διεργασιών που εκτελούντα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στον ίδιο υπολογισ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σε διαφορετικούς υπολογιστέ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σω δικτύ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Ξεκίνησαν από 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D 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ούνται και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 System V.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δοχή με σύνδεση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_STREA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1000" y="2057400"/>
            <a:ext cx="8030880" cy="4269600"/>
            <a:chOff x="351000" y="2057400"/>
            <a:chExt cx="8030880" cy="4269600"/>
          </a:xfrm>
        </p:grpSpPr>
        <p:sp>
          <p:nvSpPr>
            <p:cNvPr id="132" name=""/>
            <p:cNvSpPr/>
            <p:nvPr/>
          </p:nvSpPr>
          <p:spPr>
            <a:xfrm>
              <a:off x="2682000" y="2057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64880" y="2666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i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000" y="3276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iste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2000" y="3886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ccep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264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236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99120" y="5257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hutdow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2360" y="5867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6840" y="24382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6840" y="3048120"/>
              <a:ext cx="0" cy="3045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6840" y="365760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840" y="56386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508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264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75080" y="44197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36840" y="42670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264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508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5080" y="51055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6840" y="51055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65240" y="571500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65240" y="3733560"/>
              <a:ext cx="0" cy="1981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5240" y="373392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39600" y="3276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9240" y="3886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nnec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0024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96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6720" y="5257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hutdow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5867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4440" y="365760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94440" y="56386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268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8024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2680" y="44197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94440" y="42670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024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3268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32680" y="51055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94440" y="51055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10280" y="571500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381880" y="3733560"/>
              <a:ext cx="0" cy="1981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373392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4114800"/>
              <a:ext cx="236196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5486400"/>
              <a:ext cx="198108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4495680"/>
              <a:ext cx="350532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858000" y="4495320"/>
              <a:ext cx="380880" cy="30492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895480" y="4495320"/>
              <a:ext cx="457200" cy="30492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4800600"/>
              <a:ext cx="106668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" y="2590920"/>
              <a:ext cx="20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Εξυπηρετητή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3320" y="22096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Πελά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520" y="2133720"/>
              <a:ext cx="0" cy="411480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δοχή χωρίς σύνδεση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_DGRA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3160" y="2209680"/>
            <a:ext cx="4857120" cy="3660120"/>
            <a:chOff x="2153160" y="2209680"/>
            <a:chExt cx="4857120" cy="3660120"/>
          </a:xfrm>
        </p:grpSpPr>
        <p:sp>
          <p:nvSpPr>
            <p:cNvPr id="186" name=""/>
            <p:cNvSpPr/>
            <p:nvPr/>
          </p:nvSpPr>
          <p:spPr>
            <a:xfrm>
              <a:off x="4131360" y="2819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4240" y="3581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i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3400" y="4267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3240" y="42670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fr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2080" y="5410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0600" y="3200400"/>
              <a:ext cx="0" cy="4572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4876920"/>
              <a:ext cx="0" cy="6094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411480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91320" y="411480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4114800"/>
              <a:ext cx="1768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4760" y="3962520"/>
              <a:ext cx="0" cy="1522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46483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38480" y="46483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22640" y="4876920"/>
              <a:ext cx="1768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800600" y="5105520"/>
              <a:ext cx="2209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010280" y="3428640"/>
              <a:ext cx="0" cy="16765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3429000"/>
              <a:ext cx="2209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3160" y="2209680"/>
              <a:ext cx="15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Και οι δυο</a:t>
              </a:r>
              <a:br>
                <a:rPr sz="2400"/>
              </a:b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πλευρέ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υποδοχ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domain, int typ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rotocol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δεση με όνο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i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add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δος υποδοχή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Unix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/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φοροποιείται ανάλογα με το είδ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buClr>
                <a:srgbClr val="660066"/>
              </a:buClr>
              <a:buFont typeface="Times New Roman"/>
              <a:buChar char="•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Unix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: πλήρης θέση αρχεί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buClr>
                <a:srgbClr val="660066"/>
              </a:buClr>
              <a:buFont typeface="Times New Roman"/>
              <a:buChar char="•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nterne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εύθυνση και αριθμός πόρτα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για εξυπηρέ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ίτηση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hutdow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 in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υποδοχ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τολή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e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endt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buf, int len, int flag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ήψη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rec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recvfrom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buf, int len, int flag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5-08T21:32:31Z</cp:lastPrinted>
  <dcterms:modified xsi:type="dcterms:W3CDTF">2000-05-15T18:24:06Z</dcterms:modified>
  <cp:revision>95</cp:revision>
  <dc:subject>ΛΟΓ201: Τεχνολογία Λογισμικού ΙΙ</dc:subject>
  <dc:title>Διαφάνειες παρουσίασης</dc:title>
</cp:coreProperties>
</file>