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1C04-22B4-4695-BC7D-534F5F43827D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A9B3-E76F-4680-8E4F-214D07A41059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2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πικοινωνία μεταξύ υπολογιστώ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ελάτες και εξυπηρετητ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ποδοχ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πικοινωνία μεταξύ υπολογιστώ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διεργασίες που επικοινωνούν εκτελούνται σε διαφορετικούς υπολογι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επικοινωνία των εφαρμογών βασίζεται στο λειτουργικό σύστημα, που διαχειρίζεται τη φυσική επικοινωνία μέσω δικτύ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95280" y="2514600"/>
            <a:ext cx="6400800" cy="1600200"/>
            <a:chOff x="1295280" y="2514600"/>
            <a:chExt cx="6400800" cy="1600200"/>
          </a:xfrm>
        </p:grpSpPr>
        <p:sp>
          <p:nvSpPr>
            <p:cNvPr id="92" name=""/>
            <p:cNvSpPr/>
            <p:nvPr/>
          </p:nvSpPr>
          <p:spPr>
            <a:xfrm>
              <a:off x="5638680" y="2514600"/>
              <a:ext cx="2057400" cy="1600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Υπολογιστής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95280" y="2514600"/>
              <a:ext cx="2057400" cy="1600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Υπολογιστής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0400" y="3359160"/>
              <a:ext cx="2590920" cy="14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07400" y="305424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50800" y="305424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200400" y="3352680"/>
              <a:ext cx="2590920" cy="648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200400" y="3504960"/>
              <a:ext cx="2590920" cy="612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64320" y="28195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ίκτυο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609480" y="4648320"/>
            <a:ext cx="3276720" cy="1600200"/>
            <a:chOff x="609480" y="4648320"/>
            <a:chExt cx="3276720" cy="1600200"/>
          </a:xfrm>
        </p:grpSpPr>
        <p:sp>
          <p:nvSpPr>
            <p:cNvPr id="101" name=""/>
            <p:cNvSpPr/>
            <p:nvPr/>
          </p:nvSpPr>
          <p:spPr>
            <a:xfrm>
              <a:off x="609480" y="4648320"/>
              <a:ext cx="2133720" cy="1523880"/>
            </a:xfrm>
            <a:prstGeom prst="rect">
              <a:avLst/>
            </a:prstGeom>
            <a:solidFill>
              <a:srgbClr val="bdd7e5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Times New Roman"/>
                </a:rPr>
                <a:t>Υπολογιστής Γ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971800" y="5257800"/>
              <a:ext cx="0" cy="99072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5867280"/>
              <a:ext cx="914400" cy="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5486400"/>
              <a:ext cx="228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429000" y="2666880"/>
            <a:ext cx="2438280" cy="1828800"/>
            <a:chOff x="3429000" y="2666880"/>
            <a:chExt cx="2438280" cy="1828800"/>
          </a:xfrm>
        </p:grpSpPr>
        <p:sp>
          <p:nvSpPr>
            <p:cNvPr id="106" name=""/>
            <p:cNvSpPr/>
            <p:nvPr/>
          </p:nvSpPr>
          <p:spPr>
            <a:xfrm>
              <a:off x="3429000" y="2666880"/>
              <a:ext cx="2133720" cy="1524240"/>
            </a:xfrm>
            <a:prstGeom prst="rect">
              <a:avLst/>
            </a:prstGeom>
            <a:solidFill>
              <a:srgbClr val="bdd7e5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Times New Roman"/>
                </a:rPr>
                <a:t>Υπολογιστής B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57600" y="4495680"/>
              <a:ext cx="2209680" cy="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4191120"/>
              <a:ext cx="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095880" y="3048120"/>
            <a:ext cx="2514600" cy="3124080"/>
          </a:xfrm>
          <a:prstGeom prst="rect">
            <a:avLst/>
          </a:prstGeom>
          <a:solidFill>
            <a:srgbClr val="bdd7e5"/>
          </a:solidFill>
          <a:ln cap="rnd" w="9360">
            <a:solidFill>
              <a:srgbClr val="004c2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33"/>
                </a:solidFill>
                <a:latin typeface="Times New Roman"/>
              </a:rPr>
              <a:t>Υπολογιστής 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ελάτες και εξυπηρετητέ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Client-Serv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διαίτερη φιλοσοφία ανάπτυξης εφαρμογ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82880" y="3733920"/>
            <a:ext cx="187380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φαρμογή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ξυπηρετητή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12560" y="5029200"/>
            <a:ext cx="14637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φαρμογή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ελάτης 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57200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86840" y="3200400"/>
            <a:ext cx="14637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φαρμογή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ελάτης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7320" y="5181480"/>
            <a:ext cx="14637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φαρμογή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ελάτης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733920" y="4495680"/>
            <a:ext cx="1600200" cy="1828800"/>
            <a:chOff x="3733920" y="4495680"/>
            <a:chExt cx="1600200" cy="1828800"/>
          </a:xfrm>
        </p:grpSpPr>
        <p:sp>
          <p:nvSpPr>
            <p:cNvPr id="118" name=""/>
            <p:cNvSpPr/>
            <p:nvPr/>
          </p:nvSpPr>
          <p:spPr>
            <a:xfrm flipV="1">
              <a:off x="4191120" y="4495680"/>
              <a:ext cx="0" cy="60984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33920" y="4876920"/>
              <a:ext cx="1600200" cy="1447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551800">
              <a:off x="3814200" y="5333760"/>
              <a:ext cx="14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ahoma"/>
                </a:rPr>
                <a:t>Interne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334120" y="3733920"/>
            <a:ext cx="1066680" cy="380880"/>
          </a:xfrm>
          <a:prstGeom prst="line">
            <a:avLst/>
          </a:prstGeom>
          <a:ln w="93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14240" y="4419720"/>
            <a:ext cx="3886200" cy="1295280"/>
          </a:xfrm>
          <a:prstGeom prst="line">
            <a:avLst/>
          </a:prstGeom>
          <a:ln w="93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865480" y="2362320"/>
            <a:ext cx="1831320" cy="2133360"/>
            <a:chOff x="5865480" y="2362320"/>
            <a:chExt cx="1831320" cy="2133360"/>
          </a:xfrm>
        </p:grpSpPr>
        <p:sp>
          <p:nvSpPr>
            <p:cNvPr id="124" name=""/>
            <p:cNvSpPr/>
            <p:nvPr/>
          </p:nvSpPr>
          <p:spPr>
            <a:xfrm flipV="1">
              <a:off x="5867280" y="2666880"/>
              <a:ext cx="0" cy="182880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67280" y="3581280"/>
              <a:ext cx="228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65480" y="2362320"/>
              <a:ext cx="183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Times New Roman"/>
                </a:rPr>
                <a:t>τοπικό δίκτυο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Socke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τυγχάνουν επικοινωνία μεταξύ διεργασιών που εκτελούντα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τε στον ίδιο υπολογιστ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τε σε διαφορετικούς υπολογιστέ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σω δικτύ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Ξεκίνησαν από 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SD Uni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ιούνται και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x System V.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οδοχή με σύνδεση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CK_STREAM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51000" y="2057400"/>
            <a:ext cx="8030880" cy="4269600"/>
            <a:chOff x="351000" y="2057400"/>
            <a:chExt cx="8030880" cy="4269600"/>
          </a:xfrm>
        </p:grpSpPr>
        <p:sp>
          <p:nvSpPr>
            <p:cNvPr id="132" name=""/>
            <p:cNvSpPr/>
            <p:nvPr/>
          </p:nvSpPr>
          <p:spPr>
            <a:xfrm>
              <a:off x="2682000" y="20574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ocke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64880" y="2666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in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82000" y="3276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iste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82000" y="3886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accep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42640" y="457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en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2360" y="457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recv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99120" y="5257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hutdow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72360" y="5867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lo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36840" y="243828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36840" y="3048120"/>
              <a:ext cx="0" cy="30456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36840" y="365760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6840" y="563868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75080" y="44197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2640" y="44197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75080" y="4419720"/>
              <a:ext cx="144756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36840" y="42670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22640" y="49528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75080" y="49528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75080" y="5105520"/>
              <a:ext cx="144756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36840" y="51055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65240" y="5715000"/>
              <a:ext cx="137160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65240" y="3733560"/>
              <a:ext cx="0" cy="19810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65240" y="3733920"/>
              <a:ext cx="137160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39600" y="3276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ocke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39240" y="3886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onnec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00240" y="457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en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39960" y="457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recv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6720" y="5257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hutdow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9960" y="5867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lo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4440" y="365760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94440" y="563868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32680" y="44197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80240" y="44197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32680" y="4419720"/>
              <a:ext cx="144756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94440" y="42670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80240" y="49528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32680" y="49528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32680" y="5105520"/>
              <a:ext cx="144756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94440" y="51055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010280" y="5715000"/>
              <a:ext cx="137160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381880" y="3733560"/>
              <a:ext cx="0" cy="19810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10280" y="3733920"/>
              <a:ext cx="137160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2520" y="4114800"/>
              <a:ext cx="2361960" cy="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91120" y="5486400"/>
              <a:ext cx="1981080" cy="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52680" y="4495680"/>
              <a:ext cx="3505320" cy="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858000" y="4495320"/>
              <a:ext cx="380880" cy="30492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895480" y="4495320"/>
              <a:ext cx="457200" cy="30492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0" y="4800600"/>
              <a:ext cx="1066680" cy="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1000" y="2590920"/>
              <a:ext cx="208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Εξυπηρετητή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3320" y="220968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Πελάτη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05520" y="2133720"/>
              <a:ext cx="0" cy="411480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οδοχή χωρίς σύνδεση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CK_DGRAM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53160" y="2209680"/>
            <a:ext cx="4857120" cy="3660120"/>
            <a:chOff x="2153160" y="2209680"/>
            <a:chExt cx="4857120" cy="3660120"/>
          </a:xfrm>
        </p:grpSpPr>
        <p:sp>
          <p:nvSpPr>
            <p:cNvPr id="186" name=""/>
            <p:cNvSpPr/>
            <p:nvPr/>
          </p:nvSpPr>
          <p:spPr>
            <a:xfrm>
              <a:off x="4131360" y="28195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ocke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14240" y="3581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in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53400" y="42670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endt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3240" y="42670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recvfro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22080" y="5410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lo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00600" y="3200400"/>
              <a:ext cx="0" cy="4572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0600" y="4876920"/>
              <a:ext cx="0" cy="6094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411480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91320" y="411480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38480" y="4114800"/>
              <a:ext cx="176868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84760" y="3962520"/>
              <a:ext cx="0" cy="1522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46483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38480" y="46483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22640" y="4876920"/>
              <a:ext cx="176868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800600" y="5105520"/>
              <a:ext cx="220968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010280" y="3428640"/>
              <a:ext cx="0" cy="16765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0600" y="3429000"/>
              <a:ext cx="220968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53160" y="2209680"/>
              <a:ext cx="153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Και οι δυο</a:t>
              </a:r>
              <a:br>
                <a:rPr sz="2400"/>
              </a:br>
              <a:r>
                <a:rPr b="0" i="1" lang="el-GR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πλευρέ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νέας υποδοχ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domain, int typ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rotocol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δεση με όνο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in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ομ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ckadd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δος υποδοχής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Unix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/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φοροποιείται ανάλογα με το είδ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buClr>
                <a:srgbClr val="660066"/>
              </a:buClr>
              <a:buFont typeface="Times New Roman"/>
              <a:buChar char="•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Unix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: πλήρης θέση αρχείο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buClr>
                <a:srgbClr val="660066"/>
              </a:buClr>
              <a:buFont typeface="Times New Roman"/>
              <a:buChar char="•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nterne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εύθυνση και αριθμός πόρτα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 για εξυπηρέ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liste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 in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ίτηση σύνδ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connec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οχή σύνδ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*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σύνδ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hutdow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 int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υποδοχ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clos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στολή πληροφορ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en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buf, int len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endto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buf, int len, int flag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*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ήψη πληροφορ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recv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buf, int len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recvfrom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buf, int len, int flag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*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5-08T21:32:31Z</cp:lastPrinted>
  <dcterms:modified xsi:type="dcterms:W3CDTF">2000-05-15T18:24:06Z</dcterms:modified>
  <cp:revision>95</cp:revision>
  <dc:subject>ΛΟΓ201: Τεχνολογία Λογισμικού ΙΙ</dc:subject>
  <dc:title>Διαφάνειες παρουσίασης</dc:title>
</cp:coreProperties>
</file>