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472F-6D14-4577-8EA8-FECFA866D345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DB9A-3548-4564-AF71-24A48877DFF2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1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ασωληνώ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ήματ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οινή μνήμη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ηματοφορεί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ηματοφορεί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Λειτουργίες σηματοφορέ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sembuf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hort sem_nu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hort sem_o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hort sem_flg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ιμές της παραμέτρου </a:t>
            </a: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sem_op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+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ύξηση της τιμής του σηματοφορέα κατά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-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ίωση της τιμής του σηματοφορέα κατά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πλοκάρει αν η τιμή είναι μικρότερη του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0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έλεγχος για μηδενική τιμή σηματοφορέα. 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πλοκάρει αν η τιμή δεν είναι ίση με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ηματοφορεί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γχρονισμός με σηματοφορεί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άθε σηματοφορέας παριστάνει έναν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όρο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ου μπορεί να χρησιμοποιείται από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πολύ διεργασίες κάθε στιγμ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ιμή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ου σηματοφορέα είναι ο αριθμός των διεργασιών που επιτρέπεται ακόμα να χρησιμοποιήσουν τον πόρο (μεταξύ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0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ιν χρησιμοποιήσει τον πόρο, κάθε διεργασί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ειώνει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ην τιμή του σηματοφορέ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τά τη χρήση, κάθε διεργασί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υξάνει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ην τιμή του σηματοφορέ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σωληνώσει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ip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ίοδος επικοινωνίας με δύο άκ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505320"/>
            <a:ext cx="77724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ε κάθε μια διεργασί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d [2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εριγραφή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d[0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ile descriptor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νάγνω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λήψη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d[1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ile descriptor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εγγραφή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αποστολή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607400" y="2368440"/>
            <a:ext cx="5784480" cy="1054080"/>
            <a:chOff x="1607400" y="2368440"/>
            <a:chExt cx="5784480" cy="1054080"/>
          </a:xfrm>
        </p:grpSpPr>
        <p:sp>
          <p:nvSpPr>
            <p:cNvPr id="92" name=""/>
            <p:cNvSpPr/>
            <p:nvPr/>
          </p:nvSpPr>
          <p:spPr>
            <a:xfrm>
              <a:off x="3352680" y="2901600"/>
              <a:ext cx="2362320" cy="152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07400" y="259704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50800" y="259704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52680" y="2901600"/>
              <a:ext cx="2362320" cy="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52680" y="3054240"/>
              <a:ext cx="2362320" cy="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81640" y="2368440"/>
              <a:ext cx="190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διασωλήνωσ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724280" y="4191120"/>
            <a:ext cx="3949920" cy="831600"/>
            <a:chOff x="4724280" y="4191120"/>
            <a:chExt cx="3949920" cy="831600"/>
          </a:xfrm>
        </p:grpSpPr>
        <p:sp>
          <p:nvSpPr>
            <p:cNvPr id="99" name=""/>
            <p:cNvSpPr/>
            <p:nvPr/>
          </p:nvSpPr>
          <p:spPr>
            <a:xfrm>
              <a:off x="6203880" y="4419720"/>
              <a:ext cx="990720" cy="38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03880" y="4419720"/>
              <a:ext cx="990720" cy="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3880" y="4800600"/>
              <a:ext cx="990720" cy="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70920" y="4197240"/>
              <a:ext cx="14032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άλλη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24280" y="4191120"/>
              <a:ext cx="140364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d[0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d[1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σωληνώσει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νέας διασωλήνω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pipe (int fd[2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άγνωση και εγγραφ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size_t read (int fd,   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// fd[0]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* buffer, size_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size_t write (int fd,  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// fd[1]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void * buffer, size_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είσιμ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lose (int f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ήματα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Message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Unix System 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οιάζει με "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θυρίδα γραμματοκιβωτίου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"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505320"/>
            <a:ext cx="77724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ομή σήματο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ύπος σή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spcAft>
                <a:spcPts val="700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εχόμεν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msgbuf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tabLst>
                <a:tab algn="l" pos="0"/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ng int mtyp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tabLst>
                <a:tab algn="l" pos="0"/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mtext [MAX_MESSAGE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tabLst>
                <a:tab algn="l" pos="0"/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07400" y="2514600"/>
            <a:ext cx="5784480" cy="1219320"/>
            <a:chOff x="1607400" y="2514600"/>
            <a:chExt cx="5784480" cy="1219320"/>
          </a:xfrm>
        </p:grpSpPr>
        <p:sp>
          <p:nvSpPr>
            <p:cNvPr id="110" name=""/>
            <p:cNvSpPr/>
            <p:nvPr/>
          </p:nvSpPr>
          <p:spPr>
            <a:xfrm>
              <a:off x="3962520" y="2514600"/>
              <a:ext cx="1104840" cy="1219320"/>
            </a:xfrm>
            <a:prstGeom prst="rect">
              <a:avLst/>
            </a:prstGeom>
            <a:solidFill>
              <a:srgbClr val="ffcccc"/>
            </a:solidFill>
            <a:ln cap="rnd" w="9360">
              <a:solidFill>
                <a:srgbClr val="004c2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θυρίδα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7400" y="252108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800" y="252108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3124080" y="2971800"/>
              <a:ext cx="914400" cy="38088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21280" y="3114720"/>
              <a:ext cx="82836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ήμα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029200" y="2971800"/>
              <a:ext cx="838080" cy="38088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ήματα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"θυρίδας" για σήμα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sgget (key_t key, 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στολή σήματ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sgsnd (int msgid, const void * buf, int len, 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Λήψη σήματ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sgrcv (int msgid, void * buf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len, int mtype, 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λλες λειτουργίες διαχείρι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sgctl (int msgid, int cmd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οινή μνήμη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hared memory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Unix System 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βλητές κοινές για πολλές διεργασί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02480" y="2743200"/>
            <a:ext cx="6622560" cy="1219320"/>
            <a:chOff x="1302480" y="2743200"/>
            <a:chExt cx="6622560" cy="1219320"/>
          </a:xfrm>
        </p:grpSpPr>
        <p:sp>
          <p:nvSpPr>
            <p:cNvPr id="121" name=""/>
            <p:cNvSpPr/>
            <p:nvPr/>
          </p:nvSpPr>
          <p:spPr>
            <a:xfrm>
              <a:off x="3619080" y="2743200"/>
              <a:ext cx="2133720" cy="1219320"/>
            </a:xfrm>
            <a:prstGeom prst="rect">
              <a:avLst/>
            </a:prstGeom>
            <a:solidFill>
              <a:srgbClr val="ffcccc"/>
            </a:solidFill>
            <a:ln cap="rnd" w="9360">
              <a:solidFill>
                <a:srgbClr val="004c2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κοινή μνήμ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02480" y="2749680"/>
              <a:ext cx="1669680" cy="10159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είκτη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55360" y="2743200"/>
              <a:ext cx="1669680" cy="10159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 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είκτη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2628720" y="3581280"/>
              <a:ext cx="1218960" cy="7632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30120" y="3343320"/>
              <a:ext cx="149904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μεταβλητ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523840" y="3581280"/>
              <a:ext cx="1066680" cy="7632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οινή μνήμη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κοινής μνήμ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hmget (key_t key, int siz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σχέτιση με μεταβλητ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* shmat (int shm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* addr, 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συσχέτιση από μεταβλητ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hmdt (void * addr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λλες λειτουργίες διαχείρι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hmctl (int shmid, int cmd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ηματοφορεί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maphore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Unix System 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πινόηση με βάσεις στη θεωρία παράλληλων συστημάτ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2670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 λειτουργίες που εφαρμόζονται στο σηματοφορέα πραγματοποιούνται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στιγμιαί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τσι εξασφαλίζεται ότι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μια μόνο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διεργασία μεταβάλλει το σηματοφορέα κάθε στιγμή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302480" y="2971800"/>
            <a:ext cx="6767280" cy="1221840"/>
            <a:chOff x="1302480" y="2971800"/>
            <a:chExt cx="6767280" cy="1221840"/>
          </a:xfrm>
        </p:grpSpPr>
        <p:sp>
          <p:nvSpPr>
            <p:cNvPr id="133" name=""/>
            <p:cNvSpPr/>
            <p:nvPr/>
          </p:nvSpPr>
          <p:spPr>
            <a:xfrm>
              <a:off x="3657600" y="2971800"/>
              <a:ext cx="2133360" cy="1219320"/>
            </a:xfrm>
            <a:prstGeom prst="rect">
              <a:avLst/>
            </a:prstGeom>
            <a:solidFill>
              <a:srgbClr val="ffcccc"/>
            </a:solidFill>
            <a:ln cap="rnd" w="9360">
              <a:solidFill>
                <a:srgbClr val="004c2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ηματοφορέα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02480" y="297828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28680" y="297180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2819160" y="3428640"/>
              <a:ext cx="1447920" cy="38124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90560" y="3571920"/>
              <a:ext cx="70812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τιμ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257800" y="3505320"/>
              <a:ext cx="1295280" cy="30492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70160" y="3733920"/>
              <a:ext cx="149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λειτουργία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36240" y="3733920"/>
              <a:ext cx="149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λειτουργία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ηματοφορεί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σηματοφορέ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emget (key_t key, int num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φαρμογή λειτουργιών σε σηματοφορεί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emop (int sem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sembuf * opPtr, int le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λλες λειτουργίες διαχείρι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emctl (int shmid, int num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md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5-08T21:32:31Z</cp:lastPrinted>
  <dcterms:modified xsi:type="dcterms:W3CDTF">2000-05-08T21:40:17Z</dcterms:modified>
  <cp:revision>91</cp:revision>
  <dc:subject>ΛΟΓ201: Τεχνολογία Λογισμικού ΙΙ</dc:subject>
  <dc:title>Διαφάνειες παρουσίασης</dc:title>
</cp:coreProperties>
</file>