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3AD1-64C0-4167-B223-22A58C1D6765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6760" y="45720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ΛΟΓ201: Τεχνολογία Λογισμικού Ι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69920" y="20574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nickie@softlab.ntua.g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28520" y="1547640"/>
            <a:ext cx="52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Διδάσκων: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5960" y="91440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ahoma"/>
              </a:rPr>
              <a:t>http://www.softlab.ntua.gr/~nickie/TUC/log201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B87E-4953-4855-90D6-05B6D60F90A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ΛΟΓ201: Τεχνολογία Λογισμικού ΙΙ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1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ασωλη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ήματ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οινή μνήμη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ηματοφορεί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ειτουργίες σηματοφορέ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embuf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nu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o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 sem_flg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ιμές της παραμέτρου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sem_op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+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ύξηση της τιμής του σηματοφορέα κατ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-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ίωση της τιμής του σηματοφορέα κατά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λοκάρει αν η τιμή είναι μικρότερη του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: έλεγχος για μηδενική τιμή σηματοφορέα. 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πλοκάρει αν η τιμή δεν είναι ίση με 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γχρονισμός με σηματοφορεί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άθε σηματοφορέας παριστάνει έναν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όρο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ου μπορεί να χρησιμοποιείται από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ολύ διεργασίες κάθε στιγ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ιμ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ου σηματοφορέα είναι ο αριθμός των διεργασιών που επιτρέπεται ακόμα να χρησιμοποιήσουν τον πόρο (μεταξύ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1" lang="en-US" sz="2800" spc="-1" strike="noStrike">
                <a:solidFill>
                  <a:srgbClr val="660066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ριν χρησιμοποιήσει τον πόρο, κάθε διεργασί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μειώνε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ην τιμή του σηματοφορέ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τά τη χρήση, κάθε διεργασί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υξάνει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την τιμή του σηματοφορέ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σωληνώσει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Pip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ίοδος επικοινωνίας με δύο άκ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5053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 κάθε μια διεργασ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d [2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εριγραφ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d[0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e descripto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νάγνω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λήψη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d[1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e descriptor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για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εγγραφή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αποστολή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07400" y="2368440"/>
            <a:ext cx="5784480" cy="1054080"/>
            <a:chOff x="1607400" y="2368440"/>
            <a:chExt cx="5784480" cy="1054080"/>
          </a:xfrm>
        </p:grpSpPr>
        <p:sp>
          <p:nvSpPr>
            <p:cNvPr id="92" name=""/>
            <p:cNvSpPr/>
            <p:nvPr/>
          </p:nvSpPr>
          <p:spPr>
            <a:xfrm>
              <a:off x="3352680" y="2901600"/>
              <a:ext cx="2362320" cy="152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07400" y="25970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50800" y="259704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2901600"/>
              <a:ext cx="23623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3054240"/>
              <a:ext cx="23623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81640" y="2368440"/>
              <a:ext cx="190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ιασωλήνωσ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724280" y="4191120"/>
            <a:ext cx="3949920" cy="831600"/>
            <a:chOff x="4724280" y="4191120"/>
            <a:chExt cx="3949920" cy="831600"/>
          </a:xfrm>
        </p:grpSpPr>
        <p:sp>
          <p:nvSpPr>
            <p:cNvPr id="99" name=""/>
            <p:cNvSpPr/>
            <p:nvPr/>
          </p:nvSpPr>
          <p:spPr>
            <a:xfrm>
              <a:off x="6203880" y="4419720"/>
              <a:ext cx="9907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03880" y="4419720"/>
              <a:ext cx="9907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3880" y="4800600"/>
              <a:ext cx="990720" cy="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70920" y="4197240"/>
              <a:ext cx="14032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άλλη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4191120"/>
              <a:ext cx="140364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d[0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d[1]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σωληνώσει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νέας διασωλήν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pipe (int fd[2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άγνωση και εγγραφ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read (int fd,  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// fd[0]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buffer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size_t write (int fd,  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// fd[1]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void * buffer, size_t size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λείσιμ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lose (int f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ήματα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Messag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οιάζει με "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θυρίδα γραμματοκιβωτίου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5053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ομή σήματο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ύπος σήματ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Aft>
                <a:spcPts val="700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εριεχόμεν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msgbuf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 int mtyp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mtext [MAX_MESSAGE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tabLst>
                <a:tab algn="l" pos="0"/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07400" y="2514600"/>
            <a:ext cx="5784480" cy="1219320"/>
            <a:chOff x="1607400" y="2514600"/>
            <a:chExt cx="5784480" cy="1219320"/>
          </a:xfrm>
        </p:grpSpPr>
        <p:sp>
          <p:nvSpPr>
            <p:cNvPr id="110" name=""/>
            <p:cNvSpPr/>
            <p:nvPr/>
          </p:nvSpPr>
          <p:spPr>
            <a:xfrm>
              <a:off x="3962520" y="2514600"/>
              <a:ext cx="110484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θυρίδ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7400" y="25210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800" y="25210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124080" y="2971800"/>
              <a:ext cx="914400" cy="3808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21280" y="3114720"/>
              <a:ext cx="82836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ήμ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029200" y="2971800"/>
              <a:ext cx="838080" cy="38088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ήματα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"θυρίδας" για σήμα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get (key_t key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τολή σή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snd (int msgid, const void * buf, int len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ήψη σήματ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rcv (int msgid, void * buf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len, int mtype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msgctl (int msgid, 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οινή μνήμη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hared memor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 κοινές για πολλές διεργασί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02480" y="2743200"/>
            <a:ext cx="6622560" cy="1219320"/>
            <a:chOff x="1302480" y="2743200"/>
            <a:chExt cx="6622560" cy="1219320"/>
          </a:xfrm>
        </p:grpSpPr>
        <p:sp>
          <p:nvSpPr>
            <p:cNvPr id="121" name=""/>
            <p:cNvSpPr/>
            <p:nvPr/>
          </p:nvSpPr>
          <p:spPr>
            <a:xfrm>
              <a:off x="3619080" y="2743200"/>
              <a:ext cx="213372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κοινή μνήμ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2480" y="2749680"/>
              <a:ext cx="1669680" cy="1015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είκ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55360" y="2743200"/>
              <a:ext cx="1669680" cy="10159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είκτη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628720" y="3581280"/>
              <a:ext cx="1218960" cy="763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30120" y="3343320"/>
              <a:ext cx="149904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μεταβλητ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523840" y="3581280"/>
              <a:ext cx="1066680" cy="763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οινή μνήμη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κοινής μνήμ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get (key_t key, int size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σχέτιση με μεταβλητ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shmat (int shm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* addr, 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συσχέτιση από μεταβλητ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dt (void * add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hmctl (int shmid, 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Semaphor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Unix System 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ινόηση με βάσεις στη θεωρία παράλληλων συστημάτ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 λειτουργίες που εφαρμόζονται στο σηματοφορέα πραγματοποιούντα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στιγμιαί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70964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τσι εξασφαλίζεται ότι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μια μό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διεργασία μεταβάλλει το σηματοφορέα κάθε στιγμή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02480" y="2971800"/>
            <a:ext cx="6767280" cy="1221840"/>
            <a:chOff x="1302480" y="2971800"/>
            <a:chExt cx="6767280" cy="1221840"/>
          </a:xfrm>
        </p:grpSpPr>
        <p:sp>
          <p:nvSpPr>
            <p:cNvPr id="133" name=""/>
            <p:cNvSpPr/>
            <p:nvPr/>
          </p:nvSpPr>
          <p:spPr>
            <a:xfrm>
              <a:off x="3657600" y="2971800"/>
              <a:ext cx="2133360" cy="1219320"/>
            </a:xfrm>
            <a:prstGeom prst="rect">
              <a:avLst/>
            </a:prstGeom>
            <a:solidFill>
              <a:srgbClr val="ffcccc"/>
            </a:solidFill>
            <a:ln cap="rnd" w="9360">
              <a:solidFill>
                <a:srgbClr val="004c2b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ηματοφορέας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2480" y="297828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8680" y="2971800"/>
              <a:ext cx="1441080" cy="825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Διεργασία</a:t>
              </a:r>
              <a:br>
                <a:rPr sz="2400"/>
              </a:b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2819160" y="3428640"/>
              <a:ext cx="1447920" cy="38124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90560" y="3571920"/>
              <a:ext cx="70812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4c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τιμ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257800" y="3505320"/>
              <a:ext cx="1295280" cy="304920"/>
            </a:xfrm>
            <a:prstGeom prst="line">
              <a:avLst/>
            </a:prstGeom>
            <a:ln w="38160">
              <a:solidFill>
                <a:srgbClr val="004c2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70160" y="37339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λειτουργ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36240" y="37339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λειτουργία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ηματοφορείς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μιουργία σηματοφορέ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get (key_t key, int num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flag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φαρμογή λειτουργιών σε σηματοφορεί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op (int semid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sembuf * opPtr, int le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λειτουργίες διαχείρι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r" pos="75279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semctl (int shmid, int num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md, ...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5-08T21:32:31Z</cp:lastPrinted>
  <dcterms:modified xsi:type="dcterms:W3CDTF">2000-05-08T21:40:17Z</dcterms:modified>
  <cp:revision>91</cp:revision>
  <dc:subject>ΛΟΓ201: Τεχνολογία Λογισμικού ΙΙ</dc:subject>
  <dc:title>Διαφάνειες παρουσίασης</dc:title>
</cp:coreProperties>
</file>