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CDC0-E02A-4B42-B0CB-B6B55640272C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16760" y="457200"/>
            <a:ext cx="59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201: Τεχνολογία Λογισμικού Ι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201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062C-8D77-4809-B97F-009EF6432E42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11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ιασωληνώσει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Σήματα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Κοινή μνήμη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Σηματοφορεί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ηματοφορεί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Λειτουργίες σηματοφορέ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sembuf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hort sem_nu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hort sem_o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hort sem_flg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ιμές της παραμέτρου </a:t>
            </a:r>
            <a:r>
              <a:rPr b="1" lang="en-US" sz="2800" spc="-1" strike="noStrike">
                <a:solidFill>
                  <a:srgbClr val="003366"/>
                </a:solidFill>
                <a:latin typeface="Courier New"/>
              </a:rPr>
              <a:t>sem_op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+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ύξηση της τιμής του σηματοφορέα κατά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-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είωση της τιμής του σηματοφορέα κατά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πλοκάρει αν η τιμή είναι μικρότερη του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0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: έλεγχος για μηδενική τιμή σηματοφορέα. 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πλοκάρει αν η τιμή δεν είναι ίση με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ηματοφορεί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γχρονισμός με σηματοφορεί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άθε σηματοφορέας παριστάνει έναν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πόρο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που μπορεί να χρησιμοποιείται από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ο πολύ διεργασίες κάθε στιγμή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τιμή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του σηματοφορέα είναι ο αριθμός των διεργασιών που επιτρέπεται ακόμα να χρησιμοποιήσουν τον πόρο (μεταξύ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0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και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ριν χρησιμοποιήσει τον πόρο, κάθε διεργασία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μειώνει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την τιμή του σηματοφορέ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ετά τη χρήση, κάθε διεργασία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αυξάνει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την τιμή του σηματοφορέ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σωληνώσει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Pip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spcBef>
                <a:spcPts val="400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ίοδος επικοινωνίας με δύο άκρ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3505320"/>
            <a:ext cx="77724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70964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ε κάθε μια διεργασία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0964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d [2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70964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εριγραφή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70964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d[0]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ile descriptor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για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ανάγνωση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λήψη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70964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d[1]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ile descriptor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για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εγγραφή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αποστολή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607400" y="2368440"/>
            <a:ext cx="5784480" cy="1054080"/>
            <a:chOff x="1607400" y="2368440"/>
            <a:chExt cx="5784480" cy="1054080"/>
          </a:xfrm>
        </p:grpSpPr>
        <p:sp>
          <p:nvSpPr>
            <p:cNvPr id="92" name=""/>
            <p:cNvSpPr/>
            <p:nvPr/>
          </p:nvSpPr>
          <p:spPr>
            <a:xfrm>
              <a:off x="3352680" y="2901600"/>
              <a:ext cx="2362320" cy="152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07400" y="2597040"/>
              <a:ext cx="1441080" cy="825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Διεργασία</a:t>
              </a:r>
              <a:br>
                <a:rPr sz="2400"/>
              </a:b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950800" y="2597040"/>
              <a:ext cx="1441080" cy="825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Διεργασία</a:t>
              </a:r>
              <a:br>
                <a:rPr sz="2400"/>
              </a:b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52680" y="2901600"/>
              <a:ext cx="2362320" cy="0"/>
            </a:xfrm>
            <a:prstGeom prst="line">
              <a:avLst/>
            </a:prstGeom>
            <a:ln w="38160">
              <a:solidFill>
                <a:srgbClr val="004c2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52680" y="3054240"/>
              <a:ext cx="2362320" cy="0"/>
            </a:xfrm>
            <a:prstGeom prst="line">
              <a:avLst/>
            </a:prstGeom>
            <a:ln w="381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81640" y="2368440"/>
              <a:ext cx="190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διασωλήνωση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724280" y="4191120"/>
            <a:ext cx="3949920" cy="831600"/>
            <a:chOff x="4724280" y="4191120"/>
            <a:chExt cx="3949920" cy="831600"/>
          </a:xfrm>
        </p:grpSpPr>
        <p:sp>
          <p:nvSpPr>
            <p:cNvPr id="99" name=""/>
            <p:cNvSpPr/>
            <p:nvPr/>
          </p:nvSpPr>
          <p:spPr>
            <a:xfrm>
              <a:off x="6203880" y="4419720"/>
              <a:ext cx="990720" cy="380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03880" y="4419720"/>
              <a:ext cx="990720" cy="0"/>
            </a:xfrm>
            <a:prstGeom prst="line">
              <a:avLst/>
            </a:prstGeom>
            <a:ln w="38160">
              <a:solidFill>
                <a:srgbClr val="004c2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3880" y="4800600"/>
              <a:ext cx="990720" cy="0"/>
            </a:xfrm>
            <a:prstGeom prst="line">
              <a:avLst/>
            </a:prstGeom>
            <a:ln w="381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270920" y="4197240"/>
              <a:ext cx="1403280" cy="825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άλλη</a:t>
              </a:r>
              <a:br>
                <a:rPr sz="2400"/>
              </a:b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διεργασία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724280" y="4191120"/>
              <a:ext cx="1403640" cy="825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fd[0]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fd[1]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σωληνώσει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ημιουργία νέας διασωλήνω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pipe (int fd[2]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άγνωση και εγγραφή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size_t read (int fd,   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// fd[0]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* buffer, size_t siz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size_t write (int fd,  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// fd[1]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void * buffer, size_t siz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λείσιμ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close (int f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ήματα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Message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 Unix System V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οιάζει με "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θυρίδα γραμματοκιβωτίου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"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3505320"/>
            <a:ext cx="77724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70964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ομή σήματο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02440" indent="-27972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70964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ύπος σήματ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02440" indent="-279720">
              <a:lnSpc>
                <a:spcPct val="90000"/>
              </a:lnSpc>
              <a:spcAft>
                <a:spcPts val="700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70964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εριεχόμεν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0244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70964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msgbuf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02440" indent="-279720">
              <a:lnSpc>
                <a:spcPct val="90000"/>
              </a:lnSpc>
              <a:tabLst>
                <a:tab algn="l" pos="0"/>
                <a:tab algn="l" pos="170964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ong int mtyp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02440" indent="-279720">
              <a:lnSpc>
                <a:spcPct val="90000"/>
              </a:lnSpc>
              <a:tabLst>
                <a:tab algn="l" pos="0"/>
                <a:tab algn="l" pos="170964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mtext [MAX_MESSAGE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02440" indent="-279720">
              <a:lnSpc>
                <a:spcPct val="90000"/>
              </a:lnSpc>
              <a:tabLst>
                <a:tab algn="l" pos="0"/>
                <a:tab algn="l" pos="170964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607400" y="2514600"/>
            <a:ext cx="5784480" cy="1219320"/>
            <a:chOff x="1607400" y="2514600"/>
            <a:chExt cx="5784480" cy="1219320"/>
          </a:xfrm>
        </p:grpSpPr>
        <p:sp>
          <p:nvSpPr>
            <p:cNvPr id="110" name=""/>
            <p:cNvSpPr/>
            <p:nvPr/>
          </p:nvSpPr>
          <p:spPr>
            <a:xfrm>
              <a:off x="3962520" y="2514600"/>
              <a:ext cx="1104840" cy="1219320"/>
            </a:xfrm>
            <a:prstGeom prst="rect">
              <a:avLst/>
            </a:prstGeom>
            <a:solidFill>
              <a:srgbClr val="ffcccc"/>
            </a:solidFill>
            <a:ln cap="rnd" w="9360">
              <a:solidFill>
                <a:srgbClr val="004c2b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θυρίδα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07400" y="2521080"/>
              <a:ext cx="1441080" cy="825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Διεργασία</a:t>
              </a:r>
              <a:br>
                <a:rPr sz="2400"/>
              </a:b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800" y="2521080"/>
              <a:ext cx="1441080" cy="825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Διεργασία</a:t>
              </a:r>
              <a:br>
                <a:rPr sz="2400"/>
              </a:b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3124080" y="2971800"/>
              <a:ext cx="914400" cy="380880"/>
            </a:xfrm>
            <a:prstGeom prst="line">
              <a:avLst/>
            </a:prstGeom>
            <a:ln w="38160">
              <a:solidFill>
                <a:srgbClr val="004c2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21280" y="3114720"/>
              <a:ext cx="828360" cy="459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σήμα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5029200" y="2971800"/>
              <a:ext cx="838080" cy="380880"/>
            </a:xfrm>
            <a:prstGeom prst="line">
              <a:avLst/>
            </a:prstGeom>
            <a:ln w="38160">
              <a:solidFill>
                <a:srgbClr val="004c2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ήματα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ημιουργία "θυρίδας" για σήμα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sgget (key_t key, int flag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στολή σήματο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sgsnd (int msgid, const void * buf, int len, int flag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Λήψη σήματο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sgrcv (int msgid, void * buf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len, int mtype, int flag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λλες λειτουργίες διαχείρι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sgctl (int msgid, int cmd, ..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οινή μνήμη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hared memory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 Unix System V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εταβλητές κοινές για πολλές διεργασίε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302480" y="2743200"/>
            <a:ext cx="6622560" cy="1219320"/>
            <a:chOff x="1302480" y="2743200"/>
            <a:chExt cx="6622560" cy="1219320"/>
          </a:xfrm>
        </p:grpSpPr>
        <p:sp>
          <p:nvSpPr>
            <p:cNvPr id="121" name=""/>
            <p:cNvSpPr/>
            <p:nvPr/>
          </p:nvSpPr>
          <p:spPr>
            <a:xfrm>
              <a:off x="3619080" y="2743200"/>
              <a:ext cx="2133720" cy="1219320"/>
            </a:xfrm>
            <a:prstGeom prst="rect">
              <a:avLst/>
            </a:prstGeom>
            <a:solidFill>
              <a:srgbClr val="ffcccc"/>
            </a:solidFill>
            <a:ln cap="rnd" w="9360">
              <a:solidFill>
                <a:srgbClr val="004c2b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κοινή μνήμη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02480" y="2749680"/>
              <a:ext cx="1669680" cy="101592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Διεργασία 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δείκτης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55360" y="2743200"/>
              <a:ext cx="1669680" cy="101592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Διεργασία 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δείκτης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2628720" y="3581280"/>
              <a:ext cx="1218960" cy="76320"/>
            </a:xfrm>
            <a:prstGeom prst="line">
              <a:avLst/>
            </a:prstGeom>
            <a:ln w="38160">
              <a:solidFill>
                <a:srgbClr val="004c2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30120" y="3343320"/>
              <a:ext cx="1499040" cy="459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μεταβλητή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5523840" y="3581280"/>
              <a:ext cx="1066680" cy="76320"/>
            </a:xfrm>
            <a:prstGeom prst="line">
              <a:avLst/>
            </a:prstGeom>
            <a:ln w="381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οινή μνήμη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ημιουργία κοινής μνήμ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shmget (key_t key, int size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lag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σχέτιση με μεταβλητή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* shmat (int shmid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* addr, int flag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συσχέτιση από μεταβλητή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shmdt (void * addr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λλες λειτουργίες διαχείρι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shmctl (int shmid, int cmd, ..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ηματοφορεί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emaphore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 Unix System V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πινόηση με βάσεις στη θεωρία παράλληλων συστημάτ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426708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70964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ι λειτουργίες που εφαρμόζονται στο σηματοφορέα πραγματοποιούνται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στιγμιαία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70964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Έτσι εξασφαλίζεται ότι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μια μόνο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διεργασία μεταβάλλει το σηματοφορέα κάθε στιγμή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302480" y="2971800"/>
            <a:ext cx="6767280" cy="1221840"/>
            <a:chOff x="1302480" y="2971800"/>
            <a:chExt cx="6767280" cy="1221840"/>
          </a:xfrm>
        </p:grpSpPr>
        <p:sp>
          <p:nvSpPr>
            <p:cNvPr id="133" name=""/>
            <p:cNvSpPr/>
            <p:nvPr/>
          </p:nvSpPr>
          <p:spPr>
            <a:xfrm>
              <a:off x="3657600" y="2971800"/>
              <a:ext cx="2133360" cy="1219320"/>
            </a:xfrm>
            <a:prstGeom prst="rect">
              <a:avLst/>
            </a:prstGeom>
            <a:solidFill>
              <a:srgbClr val="ffcccc"/>
            </a:solidFill>
            <a:ln cap="rnd" w="9360">
              <a:solidFill>
                <a:srgbClr val="004c2b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σηματοφορέας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02480" y="2978280"/>
              <a:ext cx="1441080" cy="825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Διεργασία</a:t>
              </a:r>
              <a:br>
                <a:rPr sz="2400"/>
              </a:b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628680" y="2971800"/>
              <a:ext cx="1441080" cy="825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Διεργασία</a:t>
              </a:r>
              <a:br>
                <a:rPr sz="2400"/>
              </a:b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2819160" y="3428640"/>
              <a:ext cx="1447920" cy="381240"/>
            </a:xfrm>
            <a:prstGeom prst="line">
              <a:avLst/>
            </a:prstGeom>
            <a:ln w="38160">
              <a:solidFill>
                <a:srgbClr val="004c2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90560" y="3571920"/>
              <a:ext cx="708120" cy="459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τιμή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257800" y="3505320"/>
              <a:ext cx="1295280" cy="304920"/>
            </a:xfrm>
            <a:prstGeom prst="line">
              <a:avLst/>
            </a:prstGeom>
            <a:ln w="38160">
              <a:solidFill>
                <a:srgbClr val="004c2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70160" y="3733920"/>
              <a:ext cx="149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λειτουργία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36240" y="3733920"/>
              <a:ext cx="149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λειτουργία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ηματοφορεί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ημιουργία σηματοφορέ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semget (key_t key, int num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lag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φαρμογή λειτουργιών σε σηματοφορεί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semop (int semid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sembuf * opPtr, int le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λλες λειτουργίες διαχείρι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semctl (int shmid, int num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cmd, ..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5-08T21:32:31Z</cp:lastPrinted>
  <dcterms:modified xsi:type="dcterms:W3CDTF">2000-05-08T21:40:17Z</dcterms:modified>
  <cp:revision>91</cp:revision>
  <dc:subject>ΛΟΓ201: Τεχνολογία Λογισμικού ΙΙ</dc:subject>
  <dc:title>Διαφάνειες παρουσίασης</dc:title>
</cp:coreProperties>
</file>