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6A6E-F066-440E-8DC1-9234AE437EC7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16760" y="457200"/>
            <a:ext cx="59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201: Τεχνολογία Λογισμικού Ι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201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3665-5C3C-45FE-B096-1B770B2689EC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10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Ροές δεδομένων εισόδου / εξόδου στη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++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ιεργασίες στο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Unix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Προγραμματισμός διεργασιώ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3962520" y="4572000"/>
            <a:ext cx="3504960" cy="1371600"/>
            <a:chOff x="3962520" y="4572000"/>
            <a:chExt cx="3504960" cy="1371600"/>
          </a:xfrm>
        </p:grpSpPr>
        <p:sp>
          <p:nvSpPr>
            <p:cNvPr id="106" name=""/>
            <p:cNvSpPr/>
            <p:nvPr/>
          </p:nvSpPr>
          <p:spPr>
            <a:xfrm>
              <a:off x="5334120" y="4572000"/>
              <a:ext cx="1828800" cy="9144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Διεργασία</a:t>
              </a:r>
              <a:br>
                <a:rPr sz="2400"/>
              </a:b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παιδί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15000" y="5486400"/>
              <a:ext cx="1219320" cy="45720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int x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934320" y="5486400"/>
              <a:ext cx="53316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962520" y="5029200"/>
              <a:ext cx="1218960" cy="0"/>
            </a:xfrm>
            <a:prstGeom prst="line">
              <a:avLst/>
            </a:prstGeom>
            <a:ln w="381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εργασίες στο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Unix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ημιουργία νέας διεργασία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μέσως μετά τη δημιουργία νέας διεργασίας, οι τιμές των μεταβλητών της διεργασίας παιδιού και της διεργασίας γονέα συμπίπτου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ργότερα όμως, μπορούν να μεταβάλλονται ανεξάρτητ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981080" y="4572000"/>
            <a:ext cx="2133720" cy="1371600"/>
            <a:chOff x="1981080" y="4572000"/>
            <a:chExt cx="2133720" cy="1371600"/>
          </a:xfrm>
        </p:grpSpPr>
        <p:sp>
          <p:nvSpPr>
            <p:cNvPr id="113" name=""/>
            <p:cNvSpPr/>
            <p:nvPr/>
          </p:nvSpPr>
          <p:spPr>
            <a:xfrm>
              <a:off x="1981080" y="4572000"/>
              <a:ext cx="1828800" cy="9144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Διεργασία</a:t>
              </a:r>
              <a:br>
                <a:rPr sz="2400"/>
              </a:b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γονέας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362320" y="5486400"/>
              <a:ext cx="1218960" cy="45720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int x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81280" y="5486400"/>
              <a:ext cx="53352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934320" y="5486400"/>
            <a:ext cx="5331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ρογραμματισμός διεργασιών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ημιουργία νέας διεργασία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id_t fork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ληροφορίες σχετικά με διεργασίε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id_t getpid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id_t getppid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gid_t getgid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uid_t getuid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gid_t getegid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uid_t geteuid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ρόωρος τερματισμός διεργασία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_exit (int statu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 exit (int statu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ρογραμματισμός διεργασιών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include &lt;iostream.h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include &lt;sys/types.h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include &lt;unistd.h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75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75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id_t i = fork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i == 0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75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"Child: PID=" &lt;&lt; getpid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75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&lt;&lt; ", PPID=" &lt;&lt; getppid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75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&lt;&lt; end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75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75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"Parent: PID=" &lt;&lt; getpid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75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&lt;&lt; ", PPID=" &lt;&lt; getppid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75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&lt;&lt; end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75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ρογραμματισμός διεργασιών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αμονή τερματισμού διεργασία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id_t wait (int * statu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id_t waitpid (pid_t i, int * status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int option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κτέλεση προγραμμάτ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execl (const char * path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const char * arg0, ...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execv (const char * path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char * const argv[]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system (const char * cm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ναζήτηση εκτελέσιμων στο τρέχον μονοπάτι αναζήτησης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$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ATH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):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xecp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xecvp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Ροές εισόδου / εξόδου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Έλεγχος σφαλμάτ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of, bad, fail, good, clea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ορφή εισόδου / εξόδ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idth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ήκος εκτύπωση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ill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χαρακτήρας γεμίσματο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ecision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κρίβεια δεκαδικών αριθμώ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etf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άλλες παράμετροι εκτύπωση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ύστημα αρίθμησης (δεκαδικό, κ.λπ.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εκαδικοί αριθμοί με μορφή εκθέτη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τοίχιση εκτύπωσης (αριστερά, δεξιά, κ.λπ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ξαγωγή κενών χαρακτήρ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Ροές εισόδου / εξόδου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include &lt;iostream.h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.width(10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.fill('#'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.setf(ios::hex, ios::basefiel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.setf(ios::uppercas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3241 &lt;&lt; end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19680" y="5562720"/>
            <a:ext cx="20095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######CA9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Ροές εισόδου / εξόδου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Manipulator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ndl, flush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etw, setbase, setfill, setprecis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etiosflags, resetiosflag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setw(10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&lt;&lt; setfill('#'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&lt;&lt; setbase(16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&lt;&lt; setiosflags(ios::uppercase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&lt;&lt; 324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&lt;&lt; end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εισόδου / εξόδου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complex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  // 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riend ostream operator &lt;&lt; (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ostream &amp; s, const complex &amp; 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riend istream operator &gt;&gt; (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istream &amp; s, complex &amp; 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c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in &gt;&gt; c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c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εισόδου / εξόδου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ostream operator &lt;&lt; (ostream &amp; s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const complex &amp; c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 &lt;&lt; c.r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c.im &gt; 0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 &lt;&lt; "+j" &lt;&lt; c.im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lse if (c.im &lt; 0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 &lt;&lt; "-j" &lt;&lt; fabs(c.im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s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Ροές αρχείων εισόδου / εξόδου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include &lt;fstream.h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stream fin  ("source.txt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ofstream fout ("target.txt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!fin || !fout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err &lt;&lt; "Cannot open files!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1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c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hile (fout &amp;&amp; fin.get(c)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ut.put(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εργασίες στο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Unix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εργασία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(process): ένα πρόγραμμα που εκτελείται σε ένα σύστημα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Unix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ο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Unix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ποστηρίζει την ταυτόχρονη εκτέλεση περισσότερων διεργασι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ε τον τρόπο αυτό υποστηρίζονται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ολλοί χρήστες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ulti-user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ολλές εργασίες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ulti-tasking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ια διεργασία μπορεί να δημιουργήσει άλλες διεργασίε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ιεργασία παιδί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hild proces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ιεργασία γονέας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arent proces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εργασίες στο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Unix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Χαρακτηριστικά διεργασιών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κωδικός διεργασία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ocess ID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κωδικός διεργασίας γονέα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arent process ID)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πραγματικός κωδικός χρήστη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και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ομάδας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eal user ID, real group ID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ισχύων κωδικός χρήστη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και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ομάδας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effective user ID, effective group ID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άθε διεργασία έχει δικό της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χώρο αποθήκευσης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μεταβλητώ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τοίβα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εκτέλεση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νοιχτά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αρχεί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άλλες παραμέτρους εκτέλεση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28T15:47:30Z</cp:lastPrinted>
  <dcterms:modified xsi:type="dcterms:W3CDTF">2000-04-19T09:02:39Z</dcterms:modified>
  <cp:revision>87</cp:revision>
  <dc:subject>ΛΟΓ201: Τεχνολογία Λογισμικού ΙΙ</dc:subject>
  <dc:title>Διαφάνειες παρουσίασης</dc:title>
</cp:coreProperties>
</file>