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D1D3-FA52-4E15-83E5-8289472C95D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F4CB-90A0-4B28-A4FC-5C16615D8C1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0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Ροές δεδομένων εισόδου / εξόδου στη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εργασίες στο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ρογραμματισμός διεργασιώ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962520" y="4572000"/>
            <a:ext cx="3504960" cy="1371600"/>
            <a:chOff x="3962520" y="4572000"/>
            <a:chExt cx="3504960" cy="1371600"/>
          </a:xfrm>
        </p:grpSpPr>
        <p:sp>
          <p:nvSpPr>
            <p:cNvPr id="106" name=""/>
            <p:cNvSpPr/>
            <p:nvPr/>
          </p:nvSpPr>
          <p:spPr>
            <a:xfrm>
              <a:off x="5334120" y="4572000"/>
              <a:ext cx="182880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παιδί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5000" y="5486400"/>
              <a:ext cx="1219320" cy="45720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int 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34320" y="548640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5029200"/>
              <a:ext cx="121896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εργασίες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μέσως μετά τη δημιουργία νέας διεργασίας, οι τιμές των μεταβλητών της διεργασίας παιδιού και της διεργασίας γονέα συμπίπτου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γότερα όμως, μπορούν να μεταβάλλονται ανεξάρ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4572000"/>
            <a:ext cx="2133720" cy="1371600"/>
            <a:chOff x="1981080" y="4572000"/>
            <a:chExt cx="2133720" cy="1371600"/>
          </a:xfrm>
        </p:grpSpPr>
        <p:sp>
          <p:nvSpPr>
            <p:cNvPr id="113" name=""/>
            <p:cNvSpPr/>
            <p:nvPr/>
          </p:nvSpPr>
          <p:spPr>
            <a:xfrm>
              <a:off x="1981080" y="4572000"/>
              <a:ext cx="182880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γονέα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2320" y="5486400"/>
              <a:ext cx="1218960" cy="45720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int 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548640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934320" y="5486400"/>
            <a:ext cx="533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γραμματισμός διεργασιώ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fork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ληροφορίες σχετικά με διεργασ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getp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getpp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id_t getg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id_t getu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id_t geteg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id_t geteu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όωρος τερματισμός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_exit (int statu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 exit (int statu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γραμματισμός διεργασιώ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ys/types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unistd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i = fork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i ==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Child: PID=" &lt;&lt; get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", PPID=" &lt;&lt; getp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Parent: PID=" &lt;&lt; get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", PPID=" &lt;&lt; getp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γραμματισμός διεργασιώ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μονή τερματισμού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wait (int * statu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waitpid (pid_t i, int * statu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int option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έλεση προγραμ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execl (const char * path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arg0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execv (const char * path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har * const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ystem (const char * cm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αζήτηση εκτελέσιμων στο τρέχον μονοπάτι αναζήτησης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$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TH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: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ec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ecv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σφαλ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of, bad, fail, good, cl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ορφή εισόδου / 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idt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ήκος εκτύπω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γεμίσ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eci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ρίβεια δεκαδικών αριθμ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ες παράμετροι εκτύπω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στημα αρίθμησης (δεκαδικό, κ.λπ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οί αριθμοί με μορφή εκθέτ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ίχιση εκτύπωσης (αριστερά, δεξιά, κ.λπ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ξαγωγή κενών χαρακτή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width(1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fill('#'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setf(ios::hex, ios::basefiel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setf(ios::uppercas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3241 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9680" y="5562720"/>
            <a:ext cx="20095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######CA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Manipula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dl, flus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w, setbase, setfill, setprecis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iosflags, resetiosflag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etw(1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setfill('#'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setbase(16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setiosflags(ios::uppercas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324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 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 ostream operator &lt;&lt; 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ostream &amp; s, const complex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 istream operator &gt;&gt; 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istream &amp; s, complex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in &gt;&gt;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operator &lt;&lt; (ostream &amp;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const complex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&lt;&lt; c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c.im &g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&lt;&lt; "+j" &lt;&lt;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if (c.im &l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&lt;&lt; "-j" &lt;&lt; fabs(c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αρχείων εισόδου / εξόδου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f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stream fin  ("source.txt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fstream fout ("target.txt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!fin || !fou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err &lt;&lt; "Cannot open files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fout &amp;&amp; fin.get(c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ut.put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εργασίες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εργασί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(process): ένα πρόγραμμα που εκτελείται σε ένα σύστημ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οστηρίζει την ταυτόχρονη εκτέλεση περισσότερων διεργασ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τον τρόπο αυτό υποστηρίζονται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λοί χρήστ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ulti-user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λές εργασί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ulti-tasking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ιεργασία μπορεί να δημιουργήσει άλλες διεργασ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εργασία παιδί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ild pro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εργασία γονέα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ent pro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εργασίες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αρακτηριστικά διεργασιών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ωδικός διεργασία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ocess 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ωδικός διεργασίας γονέ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ent process ID)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ραγματικός κωδικός χρήστ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μάδα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al user ID, real group 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σχύων κωδικός χρήστ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μάδα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fective user ID, effective group 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διεργασία έχει δικό τη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ώρο αποθήκευση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ταβλητ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οίβ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οιχ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ες παραμέτρους 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4-19T09:02:39Z</dcterms:modified>
  <cp:revision>87</cp:revision>
  <dc:subject>ΛΟΓ201: Τεχνολογία Λογισμικού ΙΙ</dc:subject>
  <dc:title>Διαφάνειες παρουσίασης</dc:title>
</cp:coreProperties>
</file>