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EC83-EBCE-45EF-8353-2A0A04FE23B5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3F57-5524-481D-B258-DF909E676D61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0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Ροές δεδομένων εισόδου / εξόδου στη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εργασίες στο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ρογραμματισμός διεργασιώ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962520" y="4572000"/>
            <a:ext cx="3504960" cy="1371600"/>
            <a:chOff x="3962520" y="4572000"/>
            <a:chExt cx="3504960" cy="1371600"/>
          </a:xfrm>
        </p:grpSpPr>
        <p:sp>
          <p:nvSpPr>
            <p:cNvPr id="106" name=""/>
            <p:cNvSpPr/>
            <p:nvPr/>
          </p:nvSpPr>
          <p:spPr>
            <a:xfrm>
              <a:off x="5334120" y="4572000"/>
              <a:ext cx="182880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παιδί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5000" y="5486400"/>
              <a:ext cx="1219320" cy="45720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int 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34320" y="5486400"/>
              <a:ext cx="53316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5029200"/>
              <a:ext cx="1218960" cy="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εργασίες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νέας διεργασί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μέσως μετά τη δημιουργία νέας διεργασίας, οι τιμές των μεταβλητών της διεργασίας παιδιού και της διεργασίας γονέα συμπίπτου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γότερα όμως, μπορούν να μεταβάλλονται ανεξάρτητ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81080" y="4572000"/>
            <a:ext cx="2133720" cy="1371600"/>
            <a:chOff x="1981080" y="4572000"/>
            <a:chExt cx="2133720" cy="1371600"/>
          </a:xfrm>
        </p:grpSpPr>
        <p:sp>
          <p:nvSpPr>
            <p:cNvPr id="113" name=""/>
            <p:cNvSpPr/>
            <p:nvPr/>
          </p:nvSpPr>
          <p:spPr>
            <a:xfrm>
              <a:off x="1981080" y="4572000"/>
              <a:ext cx="182880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γονέα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62320" y="5486400"/>
              <a:ext cx="1218960" cy="45720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int 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5486400"/>
              <a:ext cx="5335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934320" y="5486400"/>
            <a:ext cx="5331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γραμματισμός διεργασιώ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νέας διεργασί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fork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ληροφορίες σχετικά με διεργασί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getp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getpp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id_t getg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id_t getu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id_t geteg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id_t geteuid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όωρος τερματισμός διεργασί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_exit (int statu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 exit (int statu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γραμματισμός διεργασιώ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ys/types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unistd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i = fork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i ==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Child: PID=" &lt;&lt; getpid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", PPID=" &lt;&lt; getppid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end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Parent: PID=" &lt;&lt; getpid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", PPID=" &lt;&lt; getppid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end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5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ρογραμματισμός διεργασιών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μονή τερματισμού διεργασία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wait (int * statu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id_t waitpid (pid_t i, int * statu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int option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έλεση προγραμμάτ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execl (const char * path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onst char * arg0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execv (const char * path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har * const argv[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ystem (const char * cm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αζήτηση εκτελέσιμων στο τρέχον μονοπάτι αναζήτησης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$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TH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):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ec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xecv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λεγχος σφαλμάτ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of, bad, fail, good, cle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ορφή εισόδου / εξό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idth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ήκος εκτύπω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αρακτήρας γεμίσ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ecision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κρίβεια δεκαδικών αριθμ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etf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λες παράμετροι εκτύπω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ύστημα αρίθμησης (δεκαδικό, κ.λπ.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καδικοί αριθμοί με μορφή εκθέτ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οίχιση εκτύπωσης (αριστερά, δεξιά, κ.λπ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ξαγωγή κενών χαρακτή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.width(1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.fill('#'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.setf(ios::hex, ios::basefiel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.setf(ios::uppercas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3241 &lt;&lt; end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9680" y="5562720"/>
            <a:ext cx="20095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######CA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Manipulato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ndl, flus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etw, setbase, setfill, setprecis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etiosflags, resetiosflag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setw(1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setfill('#'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setbase(16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setiosflags(ios::uppercas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324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end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 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iend ostream operator &lt;&lt; (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ostream &amp; s, const complex &amp;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iend istream operator &gt;&gt; (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istream &amp; s, complex &amp;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in &gt;&gt;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stream operator &lt;&lt; (ostream &amp; 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const complex &amp;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&lt;&lt; c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c.im &gt;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&lt;&lt; "+j" &lt;&lt; c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if (c.im &lt;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&lt;&lt; "-j" &lt;&lt; fabs(c.im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αρχείων εισόδου / εξόδου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f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stream fin  ("source.txt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fstream fout ("target.txt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!fin || !fout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err &lt;&lt; "Cannot open files!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fout &amp;&amp; fin.get(c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ut.put(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εργασίες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εργασί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(process): ένα πρόγραμμα που εκτελείται σε ένα σύστημα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x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x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οστηρίζει την ταυτόχρονη εκτέλεση περισσότερων διεργασι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 τον τρόπο αυτό υποστηρίζονται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λλοί χρήστε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ulti-user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λλές εργασίε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ulti-tasking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διεργασία μπορεί να δημιουργήσει άλλες διεργασί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εργασία παιδί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ild proces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ιεργασία γονέα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ent proces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εργασίες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αρακτηριστικά διεργασιών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ωδικός διεργασία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ocess ID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ωδικός διεργασίας γονέ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ent process ID)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ραγματικός κωδικός χρήστ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μάδα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al user ID, real group ID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σχύων κωδικός χρήστ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μάδας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ffective user ID, effective group ID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διεργασία έχει δικό της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ώρο αποθήκευση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εταβλητ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οίβ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εκτέλε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οιχτά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ρχε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λες παραμέτρους εκτέλε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4-19T09:02:39Z</dcterms:modified>
  <cp:revision>87</cp:revision>
  <dc:subject>ΛΟΓ201: Τεχνολογία Λογισμικού ΙΙ</dc:subject>
  <dc:title>Διαφάνειες παρουσίασης</dc:title>
</cp:coreProperties>
</file>