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1FB8-F5C5-48B7-9193-6DDCEE0EFE7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1E6-647E-4E5E-8B84-7C8F2D302E9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οίβ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273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276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287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ck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top(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307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310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313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317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321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325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εύουν για την υλοποίηση δομώ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πλήθ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ων δεδομένων που χωράνε αυτές οι δο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βλημα με τους 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ent c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!f.eof()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ad(&amp;(c[i]), 1, sizeof(client), 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γίνεται αν το αρ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χει 1249 πελάτε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ιδέα της συνδεδεμένης λίσ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ίστα είναι ένα σύνολο από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έναν ή περισσότερου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93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117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134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143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15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68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178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181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92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05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217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2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238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51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264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head(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4-05T08:20:53Z</dcterms:modified>
  <cp:revision>82</cp:revision>
  <dc:subject>ΛΟΓ102: Τεχνολογία Λογισμικού Ι</dc:subject>
  <dc:title>Διαφάνειες παρουσίασης</dc:title>
</cp:coreProperties>
</file>