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CC3B-024F-4DC8-BDE0-8C2173330D82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1F48-F2D0-4F31-97CA-A912E40F122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9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υ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τοίβ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273" name=""/>
            <p:cNvSpPr/>
            <p:nvPr/>
          </p:nvSpPr>
          <p:spPr>
            <a:xfrm>
              <a:off x="2133720" y="2514600"/>
              <a:ext cx="236196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276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287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62520" y="2971800"/>
              <a:ext cx="190476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6400" y="259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Last In First Out (L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τελευταί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β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stack 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push (stack * s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op (stack * s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op (stack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ck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=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13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top(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307" name=""/>
            <p:cNvSpPr/>
            <p:nvPr/>
          </p:nvSpPr>
          <p:spPr>
            <a:xfrm>
              <a:off x="2133720" y="2514600"/>
              <a:ext cx="137160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310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313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317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321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325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δεδεμένες λίστ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εύουν για την υλοποίηση δομώ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βάλλουν περιορισμούς στο πλήθ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ων δεδομένων που χωράνε αυτές οι δομ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βλημα με τους πίνακ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ient c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!f.eof()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ad(&amp;(c[i]), 1, sizeof(client), f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ί γίνεται αν το αρχεί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χει 1249 πελάτες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ιδέα της συνδεδεμένης λίσ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λίστα είναι ένα σύνολο από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κόμβος περιέχε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ηροφορί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έναν ή περισσότερου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δέσμ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ς άλλ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62320" y="3422520"/>
            <a:ext cx="6019560" cy="2901960"/>
            <a:chOff x="2362320" y="3422520"/>
            <a:chExt cx="6019560" cy="2901960"/>
          </a:xfrm>
        </p:grpSpPr>
        <p:sp>
          <p:nvSpPr>
            <p:cNvPr id="93" name=""/>
            <p:cNvSpPr/>
            <p:nvPr/>
          </p:nvSpPr>
          <p:spPr>
            <a:xfrm>
              <a:off x="2362320" y="3422520"/>
              <a:ext cx="6019560" cy="2901960"/>
            </a:xfrm>
            <a:custGeom>
              <a:avLst/>
              <a:gdLst/>
              <a:ahLst/>
              <a:rect l="l" t="t" r="r" b="b"/>
              <a:pathLst>
                <a:path w="3977" h="2141">
                  <a:moveTo>
                    <a:pt x="130" y="588"/>
                  </a:moveTo>
                  <a:cubicBezTo>
                    <a:pt x="140" y="537"/>
                    <a:pt x="140" y="491"/>
                    <a:pt x="188" y="459"/>
                  </a:cubicBezTo>
                  <a:cubicBezTo>
                    <a:pt x="210" y="444"/>
                    <a:pt x="237" y="438"/>
                    <a:pt x="259" y="424"/>
                  </a:cubicBezTo>
                  <a:cubicBezTo>
                    <a:pt x="323" y="327"/>
                    <a:pt x="382" y="278"/>
                    <a:pt x="494" y="259"/>
                  </a:cubicBezTo>
                  <a:cubicBezTo>
                    <a:pt x="525" y="247"/>
                    <a:pt x="556" y="233"/>
                    <a:pt x="588" y="223"/>
                  </a:cubicBezTo>
                  <a:cubicBezTo>
                    <a:pt x="619" y="213"/>
                    <a:pt x="652" y="211"/>
                    <a:pt x="682" y="200"/>
                  </a:cubicBezTo>
                  <a:cubicBezTo>
                    <a:pt x="778" y="165"/>
                    <a:pt x="869" y="118"/>
                    <a:pt x="965" y="82"/>
                  </a:cubicBezTo>
                  <a:cubicBezTo>
                    <a:pt x="983" y="75"/>
                    <a:pt x="994" y="55"/>
                    <a:pt x="1012" y="47"/>
                  </a:cubicBezTo>
                  <a:cubicBezTo>
                    <a:pt x="1042" y="35"/>
                    <a:pt x="1075" y="32"/>
                    <a:pt x="1106" y="23"/>
                  </a:cubicBezTo>
                  <a:cubicBezTo>
                    <a:pt x="1130" y="16"/>
                    <a:pt x="1177" y="0"/>
                    <a:pt x="1177" y="0"/>
                  </a:cubicBezTo>
                  <a:cubicBezTo>
                    <a:pt x="1280" y="18"/>
                    <a:pt x="1370" y="57"/>
                    <a:pt x="1471" y="82"/>
                  </a:cubicBezTo>
                  <a:cubicBezTo>
                    <a:pt x="1537" y="127"/>
                    <a:pt x="1481" y="97"/>
                    <a:pt x="1600" y="118"/>
                  </a:cubicBezTo>
                  <a:cubicBezTo>
                    <a:pt x="1717" y="139"/>
                    <a:pt x="1823" y="185"/>
                    <a:pt x="1941" y="200"/>
                  </a:cubicBezTo>
                  <a:cubicBezTo>
                    <a:pt x="2147" y="194"/>
                    <a:pt x="2349" y="171"/>
                    <a:pt x="2553" y="188"/>
                  </a:cubicBezTo>
                  <a:cubicBezTo>
                    <a:pt x="2760" y="230"/>
                    <a:pt x="2965" y="276"/>
                    <a:pt x="3176" y="294"/>
                  </a:cubicBezTo>
                  <a:cubicBezTo>
                    <a:pt x="3304" y="320"/>
                    <a:pt x="3495" y="315"/>
                    <a:pt x="3600" y="400"/>
                  </a:cubicBezTo>
                  <a:cubicBezTo>
                    <a:pt x="3628" y="423"/>
                    <a:pt x="3673" y="468"/>
                    <a:pt x="3694" y="506"/>
                  </a:cubicBezTo>
                  <a:cubicBezTo>
                    <a:pt x="3711" y="537"/>
                    <a:pt x="3741" y="600"/>
                    <a:pt x="3741" y="600"/>
                  </a:cubicBezTo>
                  <a:cubicBezTo>
                    <a:pt x="3754" y="677"/>
                    <a:pt x="3764" y="737"/>
                    <a:pt x="3811" y="800"/>
                  </a:cubicBezTo>
                  <a:cubicBezTo>
                    <a:pt x="3828" y="850"/>
                    <a:pt x="3850" y="887"/>
                    <a:pt x="3882" y="929"/>
                  </a:cubicBezTo>
                  <a:cubicBezTo>
                    <a:pt x="3913" y="1052"/>
                    <a:pt x="3872" y="911"/>
                    <a:pt x="3917" y="1012"/>
                  </a:cubicBezTo>
                  <a:cubicBezTo>
                    <a:pt x="3927" y="1035"/>
                    <a:pt x="3941" y="1082"/>
                    <a:pt x="3941" y="1082"/>
                  </a:cubicBezTo>
                  <a:cubicBezTo>
                    <a:pt x="3977" y="1295"/>
                    <a:pt x="3964" y="1500"/>
                    <a:pt x="3953" y="1718"/>
                  </a:cubicBezTo>
                  <a:cubicBezTo>
                    <a:pt x="3948" y="1811"/>
                    <a:pt x="3882" y="1866"/>
                    <a:pt x="3800" y="1894"/>
                  </a:cubicBezTo>
                  <a:cubicBezTo>
                    <a:pt x="3741" y="1953"/>
                    <a:pt x="3656" y="1982"/>
                    <a:pt x="3576" y="2000"/>
                  </a:cubicBezTo>
                  <a:cubicBezTo>
                    <a:pt x="3407" y="2037"/>
                    <a:pt x="3242" y="2064"/>
                    <a:pt x="3070" y="2082"/>
                  </a:cubicBezTo>
                  <a:cubicBezTo>
                    <a:pt x="2962" y="2110"/>
                    <a:pt x="3039" y="2092"/>
                    <a:pt x="2835" y="2118"/>
                  </a:cubicBezTo>
                  <a:cubicBezTo>
                    <a:pt x="2718" y="2133"/>
                    <a:pt x="2482" y="2141"/>
                    <a:pt x="2482" y="2141"/>
                  </a:cubicBezTo>
                  <a:cubicBezTo>
                    <a:pt x="2167" y="2135"/>
                    <a:pt x="1954" y="2128"/>
                    <a:pt x="1671" y="2106"/>
                  </a:cubicBezTo>
                  <a:cubicBezTo>
                    <a:pt x="1608" y="2101"/>
                    <a:pt x="1545" y="2099"/>
                    <a:pt x="1482" y="2094"/>
                  </a:cubicBezTo>
                  <a:cubicBezTo>
                    <a:pt x="1408" y="2088"/>
                    <a:pt x="1259" y="2071"/>
                    <a:pt x="1259" y="2071"/>
                  </a:cubicBezTo>
                  <a:cubicBezTo>
                    <a:pt x="1158" y="2045"/>
                    <a:pt x="1064" y="1998"/>
                    <a:pt x="977" y="1941"/>
                  </a:cubicBezTo>
                  <a:cubicBezTo>
                    <a:pt x="896" y="1887"/>
                    <a:pt x="828" y="1820"/>
                    <a:pt x="741" y="1777"/>
                  </a:cubicBezTo>
                  <a:cubicBezTo>
                    <a:pt x="718" y="1754"/>
                    <a:pt x="677" y="1709"/>
                    <a:pt x="647" y="1694"/>
                  </a:cubicBezTo>
                  <a:cubicBezTo>
                    <a:pt x="534" y="1637"/>
                    <a:pt x="412" y="1622"/>
                    <a:pt x="318" y="1529"/>
                  </a:cubicBezTo>
                  <a:cubicBezTo>
                    <a:pt x="295" y="1506"/>
                    <a:pt x="241" y="1453"/>
                    <a:pt x="212" y="1424"/>
                  </a:cubicBezTo>
                  <a:cubicBezTo>
                    <a:pt x="200" y="1412"/>
                    <a:pt x="189" y="1400"/>
                    <a:pt x="177" y="1388"/>
                  </a:cubicBezTo>
                  <a:cubicBezTo>
                    <a:pt x="165" y="1376"/>
                    <a:pt x="141" y="1353"/>
                    <a:pt x="141" y="1353"/>
                  </a:cubicBezTo>
                  <a:cubicBezTo>
                    <a:pt x="114" y="1298"/>
                    <a:pt x="104" y="1240"/>
                    <a:pt x="71" y="1188"/>
                  </a:cubicBezTo>
                  <a:cubicBezTo>
                    <a:pt x="58" y="1136"/>
                    <a:pt x="41" y="1086"/>
                    <a:pt x="24" y="1035"/>
                  </a:cubicBezTo>
                  <a:cubicBezTo>
                    <a:pt x="20" y="1023"/>
                    <a:pt x="16" y="1012"/>
                    <a:pt x="12" y="1000"/>
                  </a:cubicBezTo>
                  <a:cubicBezTo>
                    <a:pt x="8" y="988"/>
                    <a:pt x="0" y="965"/>
                    <a:pt x="0" y="965"/>
                  </a:cubicBezTo>
                  <a:cubicBezTo>
                    <a:pt x="8" y="915"/>
                    <a:pt x="24" y="863"/>
                    <a:pt x="24" y="812"/>
                  </a:cubicBezTo>
                  <a:lnTo>
                    <a:pt x="36" y="659"/>
                  </a:lnTo>
                  <a:lnTo>
                    <a:pt x="130" y="588"/>
                  </a:lnTo>
                  <a:close/>
                </a:path>
              </a:pathLst>
            </a:custGeom>
            <a:solidFill>
              <a:srgbClr val="f6f9b5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876560" y="4495680"/>
              <a:ext cx="1295280" cy="685800"/>
              <a:chOff x="4876560" y="4495680"/>
              <a:chExt cx="1295280" cy="685800"/>
            </a:xfrm>
          </p:grpSpPr>
          <p:sp>
            <p:nvSpPr>
              <p:cNvPr id="95" name=""/>
              <p:cNvSpPr/>
              <p:nvPr/>
            </p:nvSpPr>
            <p:spPr>
              <a:xfrm>
                <a:off x="4876560" y="4495680"/>
                <a:ext cx="1295280" cy="6858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Π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	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Σ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24200" y="4495680"/>
                <a:ext cx="0" cy="685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124080" y="3886200"/>
              <a:ext cx="685440" cy="380880"/>
              <a:chOff x="3124080" y="3886200"/>
              <a:chExt cx="68544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3124080" y="38862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6800" y="38862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105160" y="5638680"/>
              <a:ext cx="685440" cy="381240"/>
              <a:chOff x="5105160" y="5638680"/>
              <a:chExt cx="685440" cy="381240"/>
            </a:xfrm>
          </p:grpSpPr>
          <p:sp>
            <p:nvSpPr>
              <p:cNvPr id="101" name=""/>
              <p:cNvSpPr/>
              <p:nvPr/>
            </p:nvSpPr>
            <p:spPr>
              <a:xfrm>
                <a:off x="5105160" y="5638680"/>
                <a:ext cx="68544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47880" y="56386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858000" y="4114800"/>
              <a:ext cx="685440" cy="380880"/>
              <a:chOff x="6858000" y="4114800"/>
              <a:chExt cx="68544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6858000" y="41148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00720" y="41148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543800" y="5334120"/>
              <a:ext cx="685440" cy="380880"/>
              <a:chOff x="7543800" y="5334120"/>
              <a:chExt cx="68544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7543800" y="533412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86520" y="53341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6095880" y="4343400"/>
              <a:ext cx="7617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4343400"/>
              <a:ext cx="38088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715000" y="5562720"/>
              <a:ext cx="182844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4114800"/>
              <a:ext cx="121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4038480"/>
              <a:ext cx="320004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περιέχει ένα σύνδεσμο σ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ελευταίος κόμβος έχε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κεν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ύνδεσ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95280" y="4114800"/>
            <a:ext cx="6477120" cy="1295280"/>
            <a:chOff x="1295280" y="4114800"/>
            <a:chExt cx="6477120" cy="1295280"/>
          </a:xfrm>
        </p:grpSpPr>
        <p:sp>
          <p:nvSpPr>
            <p:cNvPr id="117" name=""/>
            <p:cNvSpPr/>
            <p:nvPr/>
          </p:nvSpPr>
          <p:spPr>
            <a:xfrm>
              <a:off x="1752480" y="411480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286000" y="4572000"/>
              <a:ext cx="685800" cy="380880"/>
              <a:chOff x="2286000" y="4572000"/>
              <a:chExt cx="6858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2860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290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81280" y="4572000"/>
              <a:ext cx="685800" cy="380880"/>
              <a:chOff x="3581280" y="4572000"/>
              <a:chExt cx="68580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58128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2436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819520" y="47624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876920" y="4572000"/>
              <a:ext cx="685800" cy="380880"/>
              <a:chOff x="4876920" y="4572000"/>
              <a:chExt cx="685800" cy="380880"/>
            </a:xfrm>
          </p:grpSpPr>
          <p:sp>
            <p:nvSpPr>
              <p:cNvPr id="126" name=""/>
              <p:cNvSpPr/>
              <p:nvPr/>
            </p:nvSpPr>
            <p:spPr>
              <a:xfrm>
                <a:off x="487692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2000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11480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172200" y="4572000"/>
              <a:ext cx="685800" cy="380880"/>
              <a:chOff x="6172200" y="4572000"/>
              <a:chExt cx="685800" cy="380880"/>
            </a:xfrm>
          </p:grpSpPr>
          <p:sp>
            <p:nvSpPr>
              <p:cNvPr id="130" name=""/>
              <p:cNvSpPr/>
              <p:nvPr/>
            </p:nvSpPr>
            <p:spPr>
              <a:xfrm>
                <a:off x="61722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52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41008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705720" y="4800600"/>
              <a:ext cx="799920" cy="457200"/>
              <a:chOff x="6705720" y="4800600"/>
              <a:chExt cx="799920" cy="457200"/>
            </a:xfrm>
          </p:grpSpPr>
          <p:sp>
            <p:nvSpPr>
              <p:cNvPr id="134" name=""/>
              <p:cNvSpPr/>
              <p:nvPr/>
            </p:nvSpPr>
            <p:spPr>
              <a:xfrm>
                <a:off x="6705720" y="48006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38880" y="48006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972480" y="51051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48440" y="51814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24760" y="52578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295280" y="47624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λίστ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node_tag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Node, * Linke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76720" y="4876920"/>
            <a:ext cx="1981080" cy="1295280"/>
            <a:chOff x="3276720" y="4876920"/>
            <a:chExt cx="1981080" cy="1295280"/>
          </a:xfrm>
        </p:grpSpPr>
        <p:sp>
          <p:nvSpPr>
            <p:cNvPr id="143" name=""/>
            <p:cNvSpPr/>
            <p:nvPr/>
          </p:nvSpPr>
          <p:spPr>
            <a:xfrm>
              <a:off x="3733920" y="487692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6720" y="5410080"/>
              <a:ext cx="1371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8320" y="541008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1560" y="571500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57880" y="579096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34200" y="586728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σθήκ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ύ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προστ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γρα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ληροφορί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15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168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572000" y="3200400"/>
              <a:ext cx="685800" cy="381240"/>
              <a:chOff x="4572000" y="3200400"/>
              <a:chExt cx="685800" cy="381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57200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1508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867280" y="3200400"/>
              <a:ext cx="685800" cy="381240"/>
              <a:chOff x="5867280" y="3200400"/>
              <a:chExt cx="685800" cy="381240"/>
            </a:xfrm>
          </p:grpSpPr>
          <p:sp>
            <p:nvSpPr>
              <p:cNvPr id="173" name=""/>
              <p:cNvSpPr/>
              <p:nvPr/>
            </p:nvSpPr>
            <p:spPr>
              <a:xfrm>
                <a:off x="586728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1036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162560" y="3200400"/>
              <a:ext cx="685800" cy="381240"/>
              <a:chOff x="7162560" y="3200400"/>
              <a:chExt cx="685800" cy="381240"/>
            </a:xfrm>
          </p:grpSpPr>
          <p:sp>
            <p:nvSpPr>
              <p:cNvPr id="178" name=""/>
              <p:cNvSpPr/>
              <p:nvPr/>
            </p:nvSpPr>
            <p:spPr>
              <a:xfrm>
                <a:off x="716256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0564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181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476760" y="4038840"/>
              <a:ext cx="685800" cy="380880"/>
              <a:chOff x="6476760" y="4038840"/>
              <a:chExt cx="685800" cy="380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476760" y="403884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19840" y="403884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6500520" y="3962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192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572000" y="3200400"/>
              <a:ext cx="685800" cy="380880"/>
              <a:chOff x="4572000" y="3200400"/>
              <a:chExt cx="685800" cy="380880"/>
            </a:xfrm>
          </p:grpSpPr>
          <p:sp>
            <p:nvSpPr>
              <p:cNvPr id="194" name=""/>
              <p:cNvSpPr/>
              <p:nvPr/>
            </p:nvSpPr>
            <p:spPr>
              <a:xfrm>
                <a:off x="457200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1508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67280" y="3200400"/>
              <a:ext cx="685800" cy="380880"/>
              <a:chOff x="5867280" y="3200400"/>
              <a:chExt cx="685800" cy="380880"/>
            </a:xfrm>
          </p:grpSpPr>
          <p:sp>
            <p:nvSpPr>
              <p:cNvPr id="197" name=""/>
              <p:cNvSpPr/>
              <p:nvPr/>
            </p:nvSpPr>
            <p:spPr>
              <a:xfrm>
                <a:off x="586728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1036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105160" y="33908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00800" y="3390840"/>
              <a:ext cx="228600" cy="571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2560" y="3200400"/>
              <a:ext cx="685800" cy="380880"/>
              <a:chOff x="7162560" y="3200400"/>
              <a:chExt cx="68580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716256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0564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205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476760" y="4038480"/>
              <a:ext cx="685800" cy="380880"/>
              <a:chOff x="6476760" y="4038480"/>
              <a:chExt cx="685800" cy="380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76760" y="403848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19840" y="403848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500520" y="39621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010280" y="358092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58000" y="2057400"/>
            <a:ext cx="885240" cy="1143000"/>
            <a:chOff x="6858000" y="2057400"/>
            <a:chExt cx="885240" cy="1143000"/>
          </a:xfrm>
        </p:grpSpPr>
        <p:sp>
          <p:nvSpPr>
            <p:cNvPr id="217" name=""/>
            <p:cNvSpPr/>
            <p:nvPr/>
          </p:nvSpPr>
          <p:spPr>
            <a:xfrm flipH="1">
              <a:off x="685800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2440" y="2057400"/>
              <a:ext cx="73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εδώ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ι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ιχεί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αφαιρ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ο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ω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2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581280" y="2743200"/>
            <a:ext cx="5181840" cy="1447920"/>
            <a:chOff x="3581280" y="2743200"/>
            <a:chExt cx="5181840" cy="1447920"/>
          </a:xfrm>
        </p:grpSpPr>
        <p:sp>
          <p:nvSpPr>
            <p:cNvPr id="238" name=""/>
            <p:cNvSpPr/>
            <p:nvPr/>
          </p:nvSpPr>
          <p:spPr>
            <a:xfrm>
              <a:off x="4038480" y="2743200"/>
              <a:ext cx="472464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508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05520" y="33908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292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564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39160" y="380988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548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51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164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86080" y="3409920"/>
              <a:ext cx="2057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6080" y="3429000"/>
              <a:ext cx="533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924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62840" y="3733920"/>
              <a:ext cx="5331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8800" y="3810240"/>
              <a:ext cx="3812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3391200"/>
              <a:ext cx="9903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324480" y="2057400"/>
            <a:ext cx="1017360" cy="1143000"/>
            <a:chOff x="6324480" y="2057400"/>
            <a:chExt cx="1017360" cy="1143000"/>
          </a:xfrm>
        </p:grpSpPr>
        <p:sp>
          <p:nvSpPr>
            <p:cNvPr id="264" name=""/>
            <p:cNvSpPr/>
            <p:nvPr/>
          </p:nvSpPr>
          <p:spPr>
            <a:xfrm flipH="1">
              <a:off x="632448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8200" y="205740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αυτό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First In First Out (F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πρώτ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υρά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queue 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insert (queue * q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move (queue * q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head (queue 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queue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 =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13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head(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4-05T08:20:53Z</dcterms:modified>
  <cp:revision>82</cp:revision>
  <dc:subject>ΛΟΓ102: Τεχνολογία Λογισμικού Ι</dc:subject>
  <dc:title>Διαφάνειες παρουσίασης</dc:title>
</cp:coreProperties>
</file>