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8778-8616-46CC-90C4-683E9D85E5E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4D8F-CF73-4620-9542-1652592F887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φηρημένοι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υνατή 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unsigned char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oolea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tru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1,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fals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, boolean y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x &amp;&amp; y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, boolean y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x || y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!x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#define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x, a, b) \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(x) ? (a) : (b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ακεραίων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empty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ad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empt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x, s)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y, s)) = member(x, s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!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empty, s) = 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add(x, s1), s2) =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dd(x, union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empty, s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add(x, s1)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member(x, s2), subset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al(s1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subset(s1, s2), subset(s2, s1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Mak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const char *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G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py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Duplicat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nc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mpar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Lengt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Inde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inde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Pa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start, int length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UpperCa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Pr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άτυπη: με λόγ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Make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G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τατρέπουν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const char *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αντίστροφ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Destroy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έφει τη συμβολοσειρ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Duplicate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ένα αντίγραφο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Concat(s1, s2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μια συμβολοσειρά που περιέχει τη συνένωση των περιεχομένων τω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Compare(s1, s2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γκρίνει τα περιεχόμενα τω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λεξικογραφικά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Length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 μήκος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χαρακτήρες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Index(s, i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-οστό χαρακτήρ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Part(s, i, l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 τμήμ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ου αρχίζει στον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-οστό χαρακτήρα και έχει μήκο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UpperCase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μια συμβολοσειρά με τα περιεχόμενα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όπου όμως τα μικρά γράμματα έχουν αντικατασταθεί με κεφαλαία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Print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κτυπώνει τα περιεχόμεν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ι δεδομένων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ησιμότητα των τύπω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ημιουρ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add(c1, c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δεδομέν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 abstrac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ωρισμ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οτήτ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 είναι ο τρόπος με τον οποίο δημιουργεί κανείς μεταβλητές και ο τρόπος με τον οποίο τις χρησιμοποι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ιδιοτή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 είναι ο συγκεκριμένος τρόπος με τον οποίο προγραμματίζονται οι διάφορες πράξεις που μπορεί κανείς να εφαρμόσ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ετικές δυνατές υλοποι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γαδικοί αριθμοί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αρτεσιαν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υντεταγμένε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add (complex c1, complex c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c1.re + c2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c1.im + c2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γαδικοί αριθμοί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ολικ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υντεταγμένε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norm, ang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add (complex c1, complex c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x = c1.norm * cos(c1.angl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+ c2.norm * cos(c2.ang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y = c1.norm * sin(c1.angl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+ c2.norm * sin(c2.ang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norm = sqrt(x*x + y*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angle = atan2(y,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πτομέρειες υλοποίησης επηρεάζουν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ς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δόσει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ων προγραμ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συχνή επομένως 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λλαγή τρόπ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άποιου τύπου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φαίρεση δεδομέν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λαχιστοποιεί τις αλλαγές που απαιτούνται στο πρόγραμμα που χρησιμοποιεί έναν τύπο δεδομένων, όταν αλλάξει ο τρόπος υλοποί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ηρημένος τύπος δεδομένων – Α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bstract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ξαρτάται από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εβρικός ορισμός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όνομα του τύπου και επικεφαλίδες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κανόνες που περιγράφουν τη λειτουργία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tru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fal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, boolean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(boolean x, boolean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, T a, T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εφαλίδα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f_then_els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να ορίζεται για κάθε τύπο 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Τ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. Η υλοποίησή της δεν μπορεί να γίνει με συνάρτηση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nd(true, y)  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nd(false, 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r(true, y) 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r(false, y) 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not(true) 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not(false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_then_else(true, a, b)  = 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_then_else(false, a, b) =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29T07:33:53Z</dcterms:modified>
  <cp:revision>68</cp:revision>
  <dc:subject>ΛΟΓ102: Τεχνολογία Λογισμικού Ι</dc:subject>
  <dc:title>Διαφάνειες παρουσίασης</dc:title>
</cp:coreProperties>
</file>