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E37F-D3D7-4C18-B6C6-387246D726FB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15A8-0E1A-498E-B026-B4D5BE3D76DD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7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αρτήσεις βιβλιοθήκη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ναδρομικές συναρτή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ναγνωσιμότητα προγραμμάτ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114800" y="3429000"/>
          <a:ext cx="4836960" cy="273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429000"/>
                    <a:ext cx="4836960" cy="2733840"/>
                  </a:xfrm>
                  <a:prstGeom prst="rect">
                    <a:avLst/>
                  </a:prstGeom>
                  <a:ln w="9360">
                    <a:solidFill>
                      <a:srgbClr val="004c2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ύργοι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Hano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33"/>
                </a:solidFill>
                <a:latin typeface="Times New Roman"/>
              </a:rPr>
              <a:t>Περιγραφ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α μεταφερθούν οι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ακτύλιοι από τον πρώτο στον τρίτο στύλο, χρησιμοποιώντας το δεύτερο ως βοηθητικό χώρ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33"/>
                </a:solidFill>
                <a:latin typeface="Times New Roman"/>
              </a:rPr>
              <a:t>Κανόν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Ένας δακτύλιο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 φορ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μπορεί ν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ποθετηθεί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γαλύτερο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ακτύλιος πάνω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 μικρότερ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480" y="2362320"/>
            <a:ext cx="8915400" cy="3809880"/>
          </a:xfrm>
          <a:prstGeom prst="rect">
            <a:avLst/>
          </a:prstGeom>
          <a:solidFill>
            <a:srgbClr val="f6f9b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ύργοι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Hano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33440" y="56386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280" y="56386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idd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010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igh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019920" y="2514600"/>
            <a:ext cx="2895480" cy="3200400"/>
            <a:chOff x="6019920" y="2514600"/>
            <a:chExt cx="2895480" cy="3200400"/>
          </a:xfrm>
        </p:grpSpPr>
        <p:sp>
          <p:nvSpPr>
            <p:cNvPr id="116" name=""/>
            <p:cNvSpPr/>
            <p:nvPr/>
          </p:nvSpPr>
          <p:spPr>
            <a:xfrm>
              <a:off x="601992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13480" y="2743200"/>
              <a:ext cx="107640" cy="266724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019920" y="2514600"/>
            <a:ext cx="2895480" cy="3200400"/>
            <a:chOff x="6019920" y="2514600"/>
            <a:chExt cx="2895480" cy="3200400"/>
          </a:xfrm>
        </p:grpSpPr>
        <p:sp>
          <p:nvSpPr>
            <p:cNvPr id="119" name=""/>
            <p:cNvSpPr/>
            <p:nvPr/>
          </p:nvSpPr>
          <p:spPr>
            <a:xfrm>
              <a:off x="601992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7320" y="4894200"/>
              <a:ext cx="2739960" cy="628560"/>
            </a:xfrm>
            <a:prstGeom prst="can">
              <a:avLst>
                <a:gd name="adj" fmla="val 50000"/>
              </a:avLst>
            </a:prstGeom>
            <a:solidFill>
              <a:srgbClr val="d2aad2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13480" y="2666880"/>
              <a:ext cx="107640" cy="236232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33"/>
                </a:solidFill>
                <a:latin typeface="Times New Roman"/>
              </a:rPr>
              <a:t>Αναδρομική επίλυσ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ούστερο πρόβλημα = λιγότεροι δακτύλιο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8600" y="2514600"/>
            <a:ext cx="2895480" cy="3200400"/>
            <a:chOff x="228600" y="2514600"/>
            <a:chExt cx="2895480" cy="3200400"/>
          </a:xfrm>
        </p:grpSpPr>
        <p:sp>
          <p:nvSpPr>
            <p:cNvPr id="124" name=""/>
            <p:cNvSpPr/>
            <p:nvPr/>
          </p:nvSpPr>
          <p:spPr>
            <a:xfrm>
              <a:off x="2286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6000" y="4894560"/>
              <a:ext cx="2739960" cy="628560"/>
            </a:xfrm>
            <a:prstGeom prst="can">
              <a:avLst>
                <a:gd name="adj" fmla="val 50000"/>
              </a:avLst>
            </a:prstGeom>
            <a:solidFill>
              <a:srgbClr val="d2aad2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4720" y="4551480"/>
              <a:ext cx="2341080" cy="571680"/>
            </a:xfrm>
            <a:prstGeom prst="can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3320" y="4218120"/>
              <a:ext cx="1883880" cy="527040"/>
            </a:xfrm>
            <a:prstGeom prst="can">
              <a:avLst>
                <a:gd name="adj" fmla="val 50000"/>
              </a:avLst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61920" y="3924360"/>
              <a:ext cx="1426680" cy="479520"/>
            </a:xfrm>
            <a:prstGeom prst="can">
              <a:avLst>
                <a:gd name="adj" fmla="val 50000"/>
              </a:avLst>
            </a:prstGeom>
            <a:solidFill>
              <a:srgbClr val="b3e1b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61720" y="3695760"/>
              <a:ext cx="1026720" cy="399960"/>
            </a:xfrm>
            <a:prstGeom prst="can">
              <a:avLst>
                <a:gd name="adj" fmla="val 50000"/>
              </a:avLst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22160" y="2667240"/>
              <a:ext cx="107640" cy="111420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8600" y="2514600"/>
            <a:ext cx="2895480" cy="3200400"/>
            <a:chOff x="228600" y="2514600"/>
            <a:chExt cx="2895480" cy="3200400"/>
          </a:xfrm>
        </p:grpSpPr>
        <p:sp>
          <p:nvSpPr>
            <p:cNvPr id="132" name=""/>
            <p:cNvSpPr/>
            <p:nvPr/>
          </p:nvSpPr>
          <p:spPr>
            <a:xfrm>
              <a:off x="2286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6000" y="4894200"/>
              <a:ext cx="2739960" cy="628560"/>
            </a:xfrm>
            <a:prstGeom prst="can">
              <a:avLst>
                <a:gd name="adj" fmla="val 50000"/>
              </a:avLst>
            </a:prstGeom>
            <a:solidFill>
              <a:srgbClr val="d2aad2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2160" y="2666880"/>
              <a:ext cx="107640" cy="236232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" y="2514600"/>
            <a:ext cx="2895480" cy="3200400"/>
            <a:chOff x="228600" y="2514600"/>
            <a:chExt cx="2895480" cy="3200400"/>
          </a:xfrm>
        </p:grpSpPr>
        <p:sp>
          <p:nvSpPr>
            <p:cNvPr id="136" name=""/>
            <p:cNvSpPr/>
            <p:nvPr/>
          </p:nvSpPr>
          <p:spPr>
            <a:xfrm>
              <a:off x="2286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22160" y="2743200"/>
              <a:ext cx="107640" cy="266724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200400" y="2514600"/>
            <a:ext cx="2895480" cy="3200400"/>
            <a:chOff x="3200400" y="2514600"/>
            <a:chExt cx="2895480" cy="3200400"/>
          </a:xfrm>
        </p:grpSpPr>
        <p:sp>
          <p:nvSpPr>
            <p:cNvPr id="139" name=""/>
            <p:cNvSpPr/>
            <p:nvPr/>
          </p:nvSpPr>
          <p:spPr>
            <a:xfrm>
              <a:off x="32004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93960" y="2743200"/>
              <a:ext cx="107640" cy="266724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200400" y="2514600"/>
            <a:ext cx="2895480" cy="3200400"/>
            <a:chOff x="3200400" y="2514600"/>
            <a:chExt cx="2895480" cy="3200400"/>
          </a:xfrm>
        </p:grpSpPr>
        <p:sp>
          <p:nvSpPr>
            <p:cNvPr id="142" name=""/>
            <p:cNvSpPr/>
            <p:nvPr/>
          </p:nvSpPr>
          <p:spPr>
            <a:xfrm>
              <a:off x="32004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477960" y="4095720"/>
              <a:ext cx="2341800" cy="1427040"/>
              <a:chOff x="3477960" y="4095720"/>
              <a:chExt cx="2341800" cy="1427040"/>
            </a:xfrm>
          </p:grpSpPr>
          <p:sp>
            <p:nvSpPr>
              <p:cNvPr id="144" name=""/>
              <p:cNvSpPr/>
              <p:nvPr/>
            </p:nvSpPr>
            <p:spPr>
              <a:xfrm>
                <a:off x="3477960" y="4951440"/>
                <a:ext cx="2341800" cy="571320"/>
              </a:xfrm>
              <a:prstGeom prst="can">
                <a:avLst>
                  <a:gd name="adj" fmla="val 50000"/>
                </a:avLst>
              </a:prstGeom>
              <a:solidFill>
                <a:srgbClr val="ffcc99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697200" y="4618080"/>
                <a:ext cx="1884240" cy="527040"/>
              </a:xfrm>
              <a:prstGeom prst="can">
                <a:avLst>
                  <a:gd name="adj" fmla="val 50000"/>
                </a:avLst>
              </a:prstGeom>
              <a:solidFill>
                <a:srgbClr val="bdd7e5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906720" y="4324320"/>
                <a:ext cx="1427040" cy="479520"/>
              </a:xfrm>
              <a:prstGeom prst="can">
                <a:avLst>
                  <a:gd name="adj" fmla="val 50000"/>
                </a:avLst>
              </a:prstGeom>
              <a:solidFill>
                <a:srgbClr val="b3e1b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06880" y="4095720"/>
                <a:ext cx="1027080" cy="399960"/>
              </a:xfrm>
              <a:prstGeom prst="can">
                <a:avLst>
                  <a:gd name="adj" fmla="val 50000"/>
                </a:avLst>
              </a:prstGeom>
              <a:solidFill>
                <a:srgbClr val="f6f9b5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593960" y="2666880"/>
              <a:ext cx="108000" cy="152424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0400" y="2514600"/>
            <a:ext cx="2895480" cy="3200400"/>
            <a:chOff x="3200400" y="2514600"/>
            <a:chExt cx="2895480" cy="3200400"/>
          </a:xfrm>
        </p:grpSpPr>
        <p:sp>
          <p:nvSpPr>
            <p:cNvPr id="150" name=""/>
            <p:cNvSpPr/>
            <p:nvPr/>
          </p:nvSpPr>
          <p:spPr>
            <a:xfrm>
              <a:off x="32004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93960" y="2743200"/>
              <a:ext cx="107640" cy="266724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019920" y="2514600"/>
            <a:ext cx="2895480" cy="3200400"/>
            <a:chOff x="6019920" y="2514600"/>
            <a:chExt cx="2895480" cy="3200400"/>
          </a:xfrm>
        </p:grpSpPr>
        <p:sp>
          <p:nvSpPr>
            <p:cNvPr id="153" name=""/>
            <p:cNvSpPr/>
            <p:nvPr/>
          </p:nvSpPr>
          <p:spPr>
            <a:xfrm>
              <a:off x="601992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7320" y="4894560"/>
              <a:ext cx="2739960" cy="628560"/>
            </a:xfrm>
            <a:prstGeom prst="can">
              <a:avLst>
                <a:gd name="adj" fmla="val 50000"/>
              </a:avLst>
            </a:prstGeom>
            <a:solidFill>
              <a:srgbClr val="d2aad2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96040" y="4551480"/>
              <a:ext cx="2341080" cy="571680"/>
            </a:xfrm>
            <a:prstGeom prst="can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24640" y="4218120"/>
              <a:ext cx="1883880" cy="527040"/>
            </a:xfrm>
            <a:prstGeom prst="can">
              <a:avLst>
                <a:gd name="adj" fmla="val 50000"/>
              </a:avLst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53240" y="3924360"/>
              <a:ext cx="1426680" cy="479520"/>
            </a:xfrm>
            <a:prstGeom prst="can">
              <a:avLst>
                <a:gd name="adj" fmla="val 50000"/>
              </a:avLst>
            </a:prstGeom>
            <a:solidFill>
              <a:srgbClr val="b3e1b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53040" y="3695760"/>
              <a:ext cx="1026720" cy="399960"/>
            </a:xfrm>
            <a:prstGeom prst="can">
              <a:avLst>
                <a:gd name="adj" fmla="val 50000"/>
              </a:avLst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13480" y="2667240"/>
              <a:ext cx="107640" cy="111420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ύργοι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Hano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hanoi (int rings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from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to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auxi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rings &gt;= 1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hanoi(rings-1, from, auxil, to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s -&gt; %s\n", from, to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hanoi(rings-1, auxil, to, from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hanoi(4, "left", "right", "middle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γνωσιμότητα προγραμμάτ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υκολία με την οποία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γίνεται κατανοητό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το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τί κάνει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ένα πρόγραμμα από τη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νάγνωσ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του ως κειμένου και μόν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4640" y="3629160"/>
            <a:ext cx="5484240" cy="1557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=1; a=0; l1:if (feof(f)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oto l3; fscanf(f, "%d", &amp;d)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d==k) goto l2; i++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oto l1; l2:a=1; l3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9360" y="2971800"/>
            <a:ext cx="6398640" cy="3751560"/>
          </a:xfrm>
          <a:prstGeom prst="rect">
            <a:avLst/>
          </a:prstGeom>
          <a:solidFill>
            <a:srgbClr val="bdd7e5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nt = 0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und = FALSE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!feof(inputFile)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nt++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fscanf(inputFile, "%d", &amp;data)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f (data == key) {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found = TRUE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break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νόνες αναγνωσιμότητ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αφήνεια και απλότη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πολύπλοκος κώδικας δυσκολεύει την ανάγνωση του προγράμ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πλέον, αυξάνει τις πιθανότητες ύπαρξης σφαλμάτ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πέρασμα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α αποφεύγεται περιττή πολυπλοκότη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α προτιμώνται απλές και σαφείς λύ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^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νόνες αναγνωσιμότητ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ί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χρήση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αρενθέσε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γκίστρ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διευκολύνει την αναγνωσιμότη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υπερβολική χρήση όμως έχει αντίθετο αποτέλεσ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2600" y="390204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x - b &amp; 0xf0f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(x - b) &amp; 0xf0f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8040" y="4343400"/>
            <a:ext cx="2558160" cy="1922760"/>
          </a:xfrm>
          <a:prstGeom prst="rect">
            <a:avLst/>
          </a:prstGeom>
          <a:solidFill>
            <a:srgbClr val="bdd7e5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d &gt; 0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positive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 = sqrt(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 = -sqrt(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5080" y="4038480"/>
            <a:ext cx="3655440" cy="228852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d &gt; 0) {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f (positive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r = sqrt(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 = -sqrt(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νόνες αναγνωσιμότητ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ιλογή κατάλληλων ονομάτ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γραφικά ονόμα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=0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nt=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η μεγάλων αναγνωριστικ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imum_lengt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η πεζών/κεφαλαίων ή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ndersco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veragepriceperye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veragePricePerYe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verage_price_per_ye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η επωνύμων σταθερών ή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acr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ax = 0.21 * (income - 200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ax = TAX_RATE * (income - NON_TAXABL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νόνες αναγνωσιμότητ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όλι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απόσπαστο μέρος του προγράμ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έπει να γράφοντ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αζί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 το πρόγραμ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νημερώνοντα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όταν αλλάζει το πρόγραμ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Όχι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ττά και "κρυπτογραφικά" σχόλι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εία που είναι απαραίτη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ην αρχή του ορισμού μια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υνάρτ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ις δηλώσει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αθερώ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ή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εταβλητ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ην αρχή κάθε τμήματος προγράμματος που επιτελεί μ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ξεχωριστή λειτουργ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άγκιστρ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όταν δεν είναι προφανές σε ποια δομημένη εντολή αυτά αντιστοιχού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νόνες αναγνωσιμότητ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οίχιση των εντολ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εσωτερικές εντολές στοιχίζονται 3 ως 5 διαστήματ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ξιότερ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ευκολύνει πολύ την αναγνωσιμότη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ρόπος στοίχισης είν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ποκειμενικό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έπει όμως να είν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υνεπ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0640" y="3962520"/>
            <a:ext cx="2923920" cy="2478960"/>
          </a:xfrm>
          <a:prstGeom prst="rect">
            <a:avLst/>
          </a:prstGeom>
          <a:solidFill>
            <a:srgbClr val="bdd7e5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expressio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expressio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_1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_2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5240" y="4038480"/>
            <a:ext cx="3838320" cy="228852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expressio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) {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_1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_2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_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 και έξοδ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io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έχει όλες τις συναρτήσεις εισόδου-εξόδ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οκαθορισμένα αρχε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stdin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είσοδο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stdout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έξοδο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stderr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έξοδος σφαλμάτω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σοδυναμί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...)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fprintf(stdout, ...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...)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fscanf(stdin, ...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.λπ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αρτήσεις διαχείρισης αρχείων με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υχαία πρόσβα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andom acces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χείριση συμβολοσειρώ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ring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strlen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έτρηση αριθμού χαρακτήρων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strcpy (char *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τιγραφ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ην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strcat (char *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ροσθήκη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 τέλος τη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trcmp (const char * s1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ύγκριση των συμβολοσειρών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τροπή συμβολοσειρώ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lib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toi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 int atol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ong in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tof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ναμική παραχώρηση μνήμη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lib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* malloc (size_t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υναμική παραχώρηση μνήμης μήκου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yte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ree (void * 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ποδέσμευση της μνήμης στην οποία δείχνει τ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ή παραχώρηση μνήμ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 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(int *) malloc(sizeof(int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p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(int *) malloc(10 * sizeof(int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i&lt;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[i]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αθηματικές συναρτήσει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math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sqrt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exp 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log 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pow  (double x, double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sin 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cos 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tan 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sin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cos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tan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ες συναρτήσεις βιβλιοθήκ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χείριση χρόνου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&lt;time.h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ισμός τύπου χαρακτήρ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&lt;ctype.h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ναλλακτική διαχείριση αρχεί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&lt;io.h&gt;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πως στο Unix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ματα μεταξύ συναρτήσε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tjmp.h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ρομικές συναρτή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γραμματισμός επαναλαμβανόμενων διαδικασι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πανάληψ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teratio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ναδρομ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cursio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συνάρτηση είναι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ναδρομ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όταν στο σώμα της καλεί τον εαυτό τ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267080"/>
            <a:ext cx="3114720" cy="2133720"/>
          </a:xfrm>
          <a:prstGeom prst="rect">
            <a:avLst/>
          </a:prstGeom>
          <a:solidFill>
            <a:srgbClr val="bdd7e5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660066"/>
                </a:solidFill>
                <a:uFillTx/>
                <a:latin typeface="Times New Roman"/>
              </a:rPr>
              <a:t>Έμμεση αναδρο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x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... g(y) ...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 (int z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... f(w) ...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52360" y="4267080"/>
            <a:ext cx="3114720" cy="2133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660066"/>
                </a:solidFill>
                <a:uFillTx/>
                <a:latin typeface="Times New Roman"/>
              </a:rPr>
              <a:t>Άμεση αναδρο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x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... f(y) ...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ρομικές συναρτή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τρική ιδέ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λύση ενός προβλήματο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νάγετα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τη λύση ενό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όμοιου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ροβλήματος αλλ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πλούστερ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αναδρομή πρέπει ν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ερματίζετ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συνάρτηση παραγοντικο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n! = 1 * 2 * ... * n        και    0! =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act (int n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n * fact(n-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3-22T08:33:41Z</dcterms:modified>
  <cp:revision>55</cp:revision>
  <dc:subject>ΛΟΓ102: Τεχνολογία Λογισμικού Ι</dc:subject>
  <dc:title>Διαφάνειες παρουσίασης</dc:title>
</cp:coreProperties>
</file>