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576F-D214-44BA-ABFD-A3D5778F8D9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880" y="45720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102: Τεχνολογία Λογισμικού 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102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0BF-2604-4AD6-B5FE-004398163B5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102: Τεχνολογία Λογισμικού 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υναρτήσεις βιβλιοθήκ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δρομικέ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γνωσιμότητα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114800" y="3429000"/>
          <a:ext cx="4836960" cy="273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429000"/>
                    <a:ext cx="4836960" cy="2733840"/>
                  </a:xfrm>
                  <a:prstGeom prst="rect">
                    <a:avLst/>
                  </a:prstGeom>
                  <a:ln w="9360">
                    <a:solidFill>
                      <a:srgbClr val="004c2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μεταφερθούν οι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ι από τον πρώτο στον τρίτο στύλο, χρησιμοποιώντας το δεύτερο ως βοηθητικό χώ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Κανόν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δακτύλι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μπορεί να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ποθετηθεί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γαλύτερο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ακτύλιος πάνω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μικρότε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480" y="2362320"/>
            <a:ext cx="8915400" cy="3809880"/>
          </a:xfrm>
          <a:prstGeom prst="rect">
            <a:avLst/>
          </a:prstGeom>
          <a:solidFill>
            <a:srgbClr val="f6f9b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3440" y="56386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280" y="56386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dd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6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1348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19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732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348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33"/>
                </a:solidFill>
                <a:latin typeface="Times New Roman"/>
              </a:rPr>
              <a:t>Αναδρομική επίλυση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ούστερο πρόβλημα = λιγότεροι δακτύλι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24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00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72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192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172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216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2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6000" y="489420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666880"/>
              <a:ext cx="107640" cy="236232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514600"/>
            <a:ext cx="2895480" cy="3200400"/>
            <a:chOff x="228600" y="2514600"/>
            <a:chExt cx="2895480" cy="3200400"/>
          </a:xfrm>
        </p:grpSpPr>
        <p:sp>
          <p:nvSpPr>
            <p:cNvPr id="136" name=""/>
            <p:cNvSpPr/>
            <p:nvPr/>
          </p:nvSpPr>
          <p:spPr>
            <a:xfrm>
              <a:off x="2286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21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39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42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477960" y="4095720"/>
              <a:ext cx="2341800" cy="1427040"/>
              <a:chOff x="3477960" y="4095720"/>
              <a:chExt cx="2341800" cy="1427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477960" y="4951440"/>
                <a:ext cx="2341800" cy="571320"/>
              </a:xfrm>
              <a:prstGeom prst="can">
                <a:avLst>
                  <a:gd name="adj" fmla="val 50000"/>
                </a:avLst>
              </a:prstGeom>
              <a:solidFill>
                <a:srgbClr val="ffcc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7200" y="4618080"/>
                <a:ext cx="1884240" cy="527040"/>
              </a:xfrm>
              <a:prstGeom prst="can">
                <a:avLst>
                  <a:gd name="adj" fmla="val 50000"/>
                </a:avLst>
              </a:prstGeom>
              <a:solidFill>
                <a:srgbClr val="bdd7e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06720" y="4324320"/>
                <a:ext cx="1427040" cy="479520"/>
              </a:xfrm>
              <a:prstGeom prst="can">
                <a:avLst>
                  <a:gd name="adj" fmla="val 50000"/>
                </a:avLst>
              </a:prstGeom>
              <a:solidFill>
                <a:srgbClr val="b3e1b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06880" y="4095720"/>
                <a:ext cx="1027080" cy="399960"/>
              </a:xfrm>
              <a:prstGeom prst="can">
                <a:avLst>
                  <a:gd name="adj" fmla="val 50000"/>
                </a:avLst>
              </a:prstGeom>
              <a:solidFill>
                <a:srgbClr val="f6f9b5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593960" y="2666880"/>
              <a:ext cx="108000" cy="1524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0400" y="2514600"/>
            <a:ext cx="2895480" cy="3200400"/>
            <a:chOff x="3200400" y="2514600"/>
            <a:chExt cx="2895480" cy="3200400"/>
          </a:xfrm>
        </p:grpSpPr>
        <p:sp>
          <p:nvSpPr>
            <p:cNvPr id="150" name=""/>
            <p:cNvSpPr/>
            <p:nvPr/>
          </p:nvSpPr>
          <p:spPr>
            <a:xfrm>
              <a:off x="320040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3960" y="2743200"/>
              <a:ext cx="107640" cy="266724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19920" y="2514600"/>
            <a:ext cx="2895480" cy="3200400"/>
            <a:chOff x="6019920" y="2514600"/>
            <a:chExt cx="2895480" cy="3200400"/>
          </a:xfrm>
        </p:grpSpPr>
        <p:sp>
          <p:nvSpPr>
            <p:cNvPr id="153" name=""/>
            <p:cNvSpPr/>
            <p:nvPr/>
          </p:nvSpPr>
          <p:spPr>
            <a:xfrm>
              <a:off x="6019920" y="2514600"/>
              <a:ext cx="2895480" cy="3200400"/>
            </a:xfrm>
            <a:prstGeom prst="rect">
              <a:avLst/>
            </a:prstGeom>
            <a:solidFill>
              <a:srgbClr val="f6f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7320" y="4894560"/>
              <a:ext cx="2739960" cy="628560"/>
            </a:xfrm>
            <a:prstGeom prst="can">
              <a:avLst>
                <a:gd name="adj" fmla="val 50000"/>
              </a:avLst>
            </a:prstGeom>
            <a:solidFill>
              <a:srgbClr val="d2aad2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96040" y="4551480"/>
              <a:ext cx="2341080" cy="571680"/>
            </a:xfrm>
            <a:prstGeom prst="can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24640" y="4218120"/>
              <a:ext cx="1883880" cy="527040"/>
            </a:xfrm>
            <a:prstGeom prst="can">
              <a:avLst>
                <a:gd name="adj" fmla="val 50000"/>
              </a:avLst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3240" y="3924360"/>
              <a:ext cx="1426680" cy="479520"/>
            </a:xfrm>
            <a:prstGeom prst="can">
              <a:avLst>
                <a:gd name="adj" fmla="val 50000"/>
              </a:avLst>
            </a:prstGeom>
            <a:solidFill>
              <a:srgbClr val="b3e1b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3040" y="3695760"/>
              <a:ext cx="1026720" cy="399960"/>
            </a:xfrm>
            <a:prstGeom prst="can">
              <a:avLst>
                <a:gd name="adj" fmla="val 50000"/>
              </a:avLst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13480" y="2667240"/>
              <a:ext cx="107640" cy="1114200"/>
            </a:xfrm>
            <a:prstGeom prst="can">
              <a:avLst>
                <a:gd name="adj" fmla="val 2861"/>
              </a:avLst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ύργοι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ano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anoi (int rings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fro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to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auxi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rings &gt;= 1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from, auxil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 -&gt; %s\n", from, to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rings-1, auxil, to, fro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hanoi(4, "left", "right", "middl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γνωσιμότητα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υκολία με την οποία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γίνεται κατανοητό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τί κάνε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ένα πρόγραμμα από τη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άγνωσ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του ως κειμένου και μό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4640" y="3629160"/>
            <a:ext cx="5484240" cy="1557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=1; a=0; l1:if (feof(f)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3; fscanf(f, "%d", &amp;d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==k) goto l2; i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oto l1; l2:a=1; l3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9360" y="2971800"/>
            <a:ext cx="6398640" cy="37515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 = 0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nd = FALS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!feof(inputFile)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++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fscanf(inputFile, "%d", &amp;data)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data == key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found = TRUE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break;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αφήνεια και απλό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ολύπλοκος κώδικας δυσκολεύει την ανάγνωση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πιπλέον, αυξάνει τις πιθανότητες ύπαρξης σφαλ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πέρασμα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αποφεύγεται περιττή πολυπλοκ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προτιμώνται απλές και σαφείς λύσει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^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ί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αρενθέ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γκίστ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διευκολύνει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υπερβολική χρήση όμως έχει αντίθετο αποτέλεσ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2600" y="39020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x - b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(x - b) &amp; 0xf0f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040" y="4343400"/>
            <a:ext cx="2558160" cy="19227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5080" y="4038480"/>
            <a:ext cx="365544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d &gt; 0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f (positive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r = 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 = -sqrt(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λογή κατάλληλων ονο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γραφικά ονόμα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=0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nt=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μεγάλων αναγνωριστικ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imum_lengt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πεζών/κεφαλαίω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dersco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PricePer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verage_price_per_y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η επωνύμων σταθερών ή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acr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0.21 * (income - 20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ax = TAX_RATE * (income - NON_TAXABL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όσπαστο μέρος του προγράμ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να γράφοντ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αζ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νημερώνον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όταν αλλάζει το πρόγραμ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Όχι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ττά και "κρυπτογραφικά" σχόλι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ημεία που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του ορισμού μια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άρτ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δηλώσει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αθερώ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ν αρχή κάθε τμήματος προγράμματος που επιτελεί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ξεχωριστή λειτουργ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άγκιστ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όταν δεν είναι προφανές σε ποια δομημένη εντολή αυτά αντιστοιχ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νόνες αναγνωσιμότητα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χιση των εντολ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εσωτερικές εντολές στοιχίζονται 3 ως 5 διαστήματ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ιότερ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υκολύνει πολύ την αναγνωσιμό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ρόπος στοίχισης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υποκειμενικ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έπει όμως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υνεπ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0640" y="3962520"/>
            <a:ext cx="2923920" cy="247896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5240" y="4038480"/>
            <a:ext cx="3838320" cy="22885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expres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 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1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2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statement_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ίσοδος και έξοδ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io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ει όλες τις συναρτήσεις εισόδου-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οκαθορισμένα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in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είσ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out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stderr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τυπική έξοδος σφαλμάτω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σοδυναμί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...)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printf(stdout, ...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...)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fscanf(stdin, ...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.λπ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αρτήσεις διαχείρισης αρχείων με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υχαία πρόσβα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andom ac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ring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trlen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έτρηση αριθμού χαρακτήρων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py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γραφ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trcat (char * s1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ροσθήκη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 τη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rcmp (const char * s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s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γκριση των συμβολοσειρών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ή συμβολοσειρών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toi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atol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ong in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of (const char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τροπή της συμβολοσειρά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ε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stdlib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malloc (size_t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ναμική παραχώρηση μνήμης μήκους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ytes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ree (void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δέσμευση της μνήμης στην οποία δείχνει το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(int *) malloc(10 * sizeof(int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ee(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αθηματικές συναρτήσει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math.h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qrt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exp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log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ow  (double x, double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i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s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tan 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si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cos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tan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ις βιβλιοθήκη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συναρτήσει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χείριση χρόν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tim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μός τύπου χαρακτήρ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ctype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ναλλακτική διαχείριση αρχεί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&lt;io.h&gt;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στο Unix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580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ματα μεταξύ συναρτήσεων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tjmp.h&gt;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γραμματισμός επαναλαμβανόμενων διαδικ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πανάληψ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terat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αδρο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ursio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συνάρτηση είν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αναδρομικ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όταν στο σώμα της καλεί τον εαυτό τ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114720" cy="21337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Έμ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g(y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int z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... f(w) ...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2360" y="4267080"/>
            <a:ext cx="3114720" cy="2133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660066"/>
                </a:solidFill>
                <a:uFillTx/>
                <a:latin typeface="Times New Roman"/>
              </a:rPr>
              <a:t>Άμεση αναδρ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... f(y) ...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δρομικέ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τρική ιδ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λύση ενός προβλήματο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ετα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 λύση ενό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όμοιου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ροβλήματος αλλ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πλούστερ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αναδρομή πρέπει ν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ερματίζετα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συνάρτηση παραγοντικ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n! = 1 * 2 * ... * n        και    0! =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act (int n)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n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n * fact(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4:34:36Z</cp:lastPrinted>
  <dcterms:modified xsi:type="dcterms:W3CDTF">2000-03-22T08:33:41Z</dcterms:modified>
  <cp:revision>55</cp:revision>
  <dc:subject>ΛΟΓ102: Τεχνολογία Λογισμικού Ι</dc:subject>
  <dc:title>Διαφάνειες παρουσίασης</dc:title>
</cp:coreProperties>
</file>