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DC91-E480-4D1E-85BF-49B092CD1A3E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EF60-E465-4C25-8680-5293C480ABC6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7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υναρτήσεις βιβλιοθήκη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ναδρομικές συναρτή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ναγνωσιμότητα προγραμμάτ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114800" y="3429000"/>
          <a:ext cx="4836960" cy="273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3429000"/>
                    <a:ext cx="4836960" cy="2733840"/>
                  </a:xfrm>
                  <a:prstGeom prst="rect">
                    <a:avLst/>
                  </a:prstGeom>
                  <a:ln w="9360">
                    <a:solidFill>
                      <a:srgbClr val="004c2b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ύργοι του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Hano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333333"/>
                </a:solidFill>
                <a:latin typeface="Times New Roman"/>
              </a:rPr>
              <a:t>Περιγραφ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Να μεταφερθούν οι 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ακτύλιοι από τον πρώτο στον τρίτο στύλο, χρησιμοποιώντας το δεύτερο ως βοηθητικό χώρ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333333"/>
                </a:solidFill>
                <a:latin typeface="Times New Roman"/>
              </a:rPr>
              <a:t>Κανόν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Ένας δακτύλιο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η φορά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ν μπορεί να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ποθετηθεί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γαλύτερο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ακτύλιος πάνω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 μικρότερ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480" y="2362320"/>
            <a:ext cx="8915400" cy="3809880"/>
          </a:xfrm>
          <a:prstGeom prst="rect">
            <a:avLst/>
          </a:prstGeom>
          <a:solidFill>
            <a:srgbClr val="f6f9b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ύργοι του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Hano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33440" y="563868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280" y="56386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idd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01080" y="5638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igh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019920" y="2514600"/>
            <a:ext cx="2895480" cy="3200400"/>
            <a:chOff x="6019920" y="2514600"/>
            <a:chExt cx="2895480" cy="3200400"/>
          </a:xfrm>
        </p:grpSpPr>
        <p:sp>
          <p:nvSpPr>
            <p:cNvPr id="116" name=""/>
            <p:cNvSpPr/>
            <p:nvPr/>
          </p:nvSpPr>
          <p:spPr>
            <a:xfrm>
              <a:off x="6019920" y="2514600"/>
              <a:ext cx="2895480" cy="3200400"/>
            </a:xfrm>
            <a:prstGeom prst="rect">
              <a:avLst/>
            </a:prstGeom>
            <a:solidFill>
              <a:srgbClr val="f6f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13480" y="2743200"/>
              <a:ext cx="107640" cy="2667240"/>
            </a:xfrm>
            <a:prstGeom prst="can">
              <a:avLst>
                <a:gd name="adj" fmla="val 2861"/>
              </a:avLst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019920" y="2514600"/>
            <a:ext cx="2895480" cy="3200400"/>
            <a:chOff x="6019920" y="2514600"/>
            <a:chExt cx="2895480" cy="3200400"/>
          </a:xfrm>
        </p:grpSpPr>
        <p:sp>
          <p:nvSpPr>
            <p:cNvPr id="119" name=""/>
            <p:cNvSpPr/>
            <p:nvPr/>
          </p:nvSpPr>
          <p:spPr>
            <a:xfrm>
              <a:off x="6019920" y="2514600"/>
              <a:ext cx="2895480" cy="3200400"/>
            </a:xfrm>
            <a:prstGeom prst="rect">
              <a:avLst/>
            </a:prstGeom>
            <a:solidFill>
              <a:srgbClr val="f6f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7320" y="4894200"/>
              <a:ext cx="2739960" cy="628560"/>
            </a:xfrm>
            <a:prstGeom prst="can">
              <a:avLst>
                <a:gd name="adj" fmla="val 50000"/>
              </a:avLst>
            </a:prstGeom>
            <a:solidFill>
              <a:srgbClr val="d2aad2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13480" y="2666880"/>
              <a:ext cx="107640" cy="2362320"/>
            </a:xfrm>
            <a:prstGeom prst="can">
              <a:avLst>
                <a:gd name="adj" fmla="val 2861"/>
              </a:avLst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333333"/>
                </a:solidFill>
                <a:latin typeface="Times New Roman"/>
              </a:rPr>
              <a:t>Αναδρομική επίλυσ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λούστερο πρόβλημα = λιγότεροι δακτύλιο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28600" y="2514600"/>
            <a:ext cx="2895480" cy="3200400"/>
            <a:chOff x="228600" y="2514600"/>
            <a:chExt cx="2895480" cy="3200400"/>
          </a:xfrm>
        </p:grpSpPr>
        <p:sp>
          <p:nvSpPr>
            <p:cNvPr id="124" name=""/>
            <p:cNvSpPr/>
            <p:nvPr/>
          </p:nvSpPr>
          <p:spPr>
            <a:xfrm>
              <a:off x="228600" y="2514600"/>
              <a:ext cx="2895480" cy="3200400"/>
            </a:xfrm>
            <a:prstGeom prst="rect">
              <a:avLst/>
            </a:prstGeom>
            <a:solidFill>
              <a:srgbClr val="f6f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6000" y="4894560"/>
              <a:ext cx="2739960" cy="628560"/>
            </a:xfrm>
            <a:prstGeom prst="can">
              <a:avLst>
                <a:gd name="adj" fmla="val 50000"/>
              </a:avLst>
            </a:prstGeom>
            <a:solidFill>
              <a:srgbClr val="d2aad2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4720" y="4551480"/>
              <a:ext cx="2341080" cy="571680"/>
            </a:xfrm>
            <a:prstGeom prst="can">
              <a:avLst>
                <a:gd name="adj" fmla="val 50000"/>
              </a:avLst>
            </a:prstGeom>
            <a:solidFill>
              <a:srgbClr val="ffcc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3320" y="4218120"/>
              <a:ext cx="1883880" cy="527040"/>
            </a:xfrm>
            <a:prstGeom prst="can">
              <a:avLst>
                <a:gd name="adj" fmla="val 50000"/>
              </a:avLst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61920" y="3924360"/>
              <a:ext cx="1426680" cy="479520"/>
            </a:xfrm>
            <a:prstGeom prst="can">
              <a:avLst>
                <a:gd name="adj" fmla="val 50000"/>
              </a:avLst>
            </a:prstGeom>
            <a:solidFill>
              <a:srgbClr val="b3e1b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61720" y="3695760"/>
              <a:ext cx="1026720" cy="399960"/>
            </a:xfrm>
            <a:prstGeom prst="can">
              <a:avLst>
                <a:gd name="adj" fmla="val 50000"/>
              </a:avLst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22160" y="2667240"/>
              <a:ext cx="107640" cy="1114200"/>
            </a:xfrm>
            <a:prstGeom prst="can">
              <a:avLst>
                <a:gd name="adj" fmla="val 2861"/>
              </a:avLst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28600" y="2514600"/>
            <a:ext cx="2895480" cy="3200400"/>
            <a:chOff x="228600" y="2514600"/>
            <a:chExt cx="2895480" cy="3200400"/>
          </a:xfrm>
        </p:grpSpPr>
        <p:sp>
          <p:nvSpPr>
            <p:cNvPr id="132" name=""/>
            <p:cNvSpPr/>
            <p:nvPr/>
          </p:nvSpPr>
          <p:spPr>
            <a:xfrm>
              <a:off x="228600" y="2514600"/>
              <a:ext cx="2895480" cy="3200400"/>
            </a:xfrm>
            <a:prstGeom prst="rect">
              <a:avLst/>
            </a:prstGeom>
            <a:solidFill>
              <a:srgbClr val="f6f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6000" y="4894200"/>
              <a:ext cx="2739960" cy="628560"/>
            </a:xfrm>
            <a:prstGeom prst="can">
              <a:avLst>
                <a:gd name="adj" fmla="val 50000"/>
              </a:avLst>
            </a:prstGeom>
            <a:solidFill>
              <a:srgbClr val="d2aad2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22160" y="2666880"/>
              <a:ext cx="107640" cy="2362320"/>
            </a:xfrm>
            <a:prstGeom prst="can">
              <a:avLst>
                <a:gd name="adj" fmla="val 2861"/>
              </a:avLst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28600" y="2514600"/>
            <a:ext cx="2895480" cy="3200400"/>
            <a:chOff x="228600" y="2514600"/>
            <a:chExt cx="2895480" cy="3200400"/>
          </a:xfrm>
        </p:grpSpPr>
        <p:sp>
          <p:nvSpPr>
            <p:cNvPr id="136" name=""/>
            <p:cNvSpPr/>
            <p:nvPr/>
          </p:nvSpPr>
          <p:spPr>
            <a:xfrm>
              <a:off x="228600" y="2514600"/>
              <a:ext cx="2895480" cy="3200400"/>
            </a:xfrm>
            <a:prstGeom prst="rect">
              <a:avLst/>
            </a:prstGeom>
            <a:solidFill>
              <a:srgbClr val="f6f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22160" y="2743200"/>
              <a:ext cx="107640" cy="2667240"/>
            </a:xfrm>
            <a:prstGeom prst="can">
              <a:avLst>
                <a:gd name="adj" fmla="val 2861"/>
              </a:avLst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200400" y="2514600"/>
            <a:ext cx="2895480" cy="3200400"/>
            <a:chOff x="3200400" y="2514600"/>
            <a:chExt cx="2895480" cy="3200400"/>
          </a:xfrm>
        </p:grpSpPr>
        <p:sp>
          <p:nvSpPr>
            <p:cNvPr id="139" name=""/>
            <p:cNvSpPr/>
            <p:nvPr/>
          </p:nvSpPr>
          <p:spPr>
            <a:xfrm>
              <a:off x="3200400" y="2514600"/>
              <a:ext cx="2895480" cy="3200400"/>
            </a:xfrm>
            <a:prstGeom prst="rect">
              <a:avLst/>
            </a:prstGeom>
            <a:solidFill>
              <a:srgbClr val="f6f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93960" y="2743200"/>
              <a:ext cx="107640" cy="2667240"/>
            </a:xfrm>
            <a:prstGeom prst="can">
              <a:avLst>
                <a:gd name="adj" fmla="val 2861"/>
              </a:avLst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200400" y="2514600"/>
            <a:ext cx="2895480" cy="3200400"/>
            <a:chOff x="3200400" y="2514600"/>
            <a:chExt cx="2895480" cy="3200400"/>
          </a:xfrm>
        </p:grpSpPr>
        <p:sp>
          <p:nvSpPr>
            <p:cNvPr id="142" name=""/>
            <p:cNvSpPr/>
            <p:nvPr/>
          </p:nvSpPr>
          <p:spPr>
            <a:xfrm>
              <a:off x="3200400" y="2514600"/>
              <a:ext cx="2895480" cy="3200400"/>
            </a:xfrm>
            <a:prstGeom prst="rect">
              <a:avLst/>
            </a:prstGeom>
            <a:solidFill>
              <a:srgbClr val="f6f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3477960" y="4095720"/>
              <a:ext cx="2341800" cy="1427040"/>
              <a:chOff x="3477960" y="4095720"/>
              <a:chExt cx="2341800" cy="1427040"/>
            </a:xfrm>
          </p:grpSpPr>
          <p:sp>
            <p:nvSpPr>
              <p:cNvPr id="144" name=""/>
              <p:cNvSpPr/>
              <p:nvPr/>
            </p:nvSpPr>
            <p:spPr>
              <a:xfrm>
                <a:off x="3477960" y="4951440"/>
                <a:ext cx="2341800" cy="571320"/>
              </a:xfrm>
              <a:prstGeom prst="can">
                <a:avLst>
                  <a:gd name="adj" fmla="val 50000"/>
                </a:avLst>
              </a:prstGeom>
              <a:solidFill>
                <a:srgbClr val="ffcc99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697200" y="4618080"/>
                <a:ext cx="1884240" cy="527040"/>
              </a:xfrm>
              <a:prstGeom prst="can">
                <a:avLst>
                  <a:gd name="adj" fmla="val 50000"/>
                </a:avLst>
              </a:prstGeom>
              <a:solidFill>
                <a:srgbClr val="bdd7e5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906720" y="4324320"/>
                <a:ext cx="1427040" cy="479520"/>
              </a:xfrm>
              <a:prstGeom prst="can">
                <a:avLst>
                  <a:gd name="adj" fmla="val 50000"/>
                </a:avLst>
              </a:prstGeom>
              <a:solidFill>
                <a:srgbClr val="b3e1b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106880" y="4095720"/>
                <a:ext cx="1027080" cy="399960"/>
              </a:xfrm>
              <a:prstGeom prst="can">
                <a:avLst>
                  <a:gd name="adj" fmla="val 50000"/>
                </a:avLst>
              </a:prstGeom>
              <a:solidFill>
                <a:srgbClr val="f6f9b5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4593960" y="2666880"/>
              <a:ext cx="108000" cy="1524240"/>
            </a:xfrm>
            <a:prstGeom prst="can">
              <a:avLst>
                <a:gd name="adj" fmla="val 2861"/>
              </a:avLst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200400" y="2514600"/>
            <a:ext cx="2895480" cy="3200400"/>
            <a:chOff x="3200400" y="2514600"/>
            <a:chExt cx="2895480" cy="3200400"/>
          </a:xfrm>
        </p:grpSpPr>
        <p:sp>
          <p:nvSpPr>
            <p:cNvPr id="150" name=""/>
            <p:cNvSpPr/>
            <p:nvPr/>
          </p:nvSpPr>
          <p:spPr>
            <a:xfrm>
              <a:off x="3200400" y="2514600"/>
              <a:ext cx="2895480" cy="3200400"/>
            </a:xfrm>
            <a:prstGeom prst="rect">
              <a:avLst/>
            </a:prstGeom>
            <a:solidFill>
              <a:srgbClr val="f6f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93960" y="2743200"/>
              <a:ext cx="107640" cy="2667240"/>
            </a:xfrm>
            <a:prstGeom prst="can">
              <a:avLst>
                <a:gd name="adj" fmla="val 2861"/>
              </a:avLst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019920" y="2514600"/>
            <a:ext cx="2895480" cy="3200400"/>
            <a:chOff x="6019920" y="2514600"/>
            <a:chExt cx="2895480" cy="3200400"/>
          </a:xfrm>
        </p:grpSpPr>
        <p:sp>
          <p:nvSpPr>
            <p:cNvPr id="153" name=""/>
            <p:cNvSpPr/>
            <p:nvPr/>
          </p:nvSpPr>
          <p:spPr>
            <a:xfrm>
              <a:off x="6019920" y="2514600"/>
              <a:ext cx="2895480" cy="3200400"/>
            </a:xfrm>
            <a:prstGeom prst="rect">
              <a:avLst/>
            </a:prstGeom>
            <a:solidFill>
              <a:srgbClr val="f6f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97320" y="4894560"/>
              <a:ext cx="2739960" cy="628560"/>
            </a:xfrm>
            <a:prstGeom prst="can">
              <a:avLst>
                <a:gd name="adj" fmla="val 50000"/>
              </a:avLst>
            </a:prstGeom>
            <a:solidFill>
              <a:srgbClr val="d2aad2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96040" y="4551480"/>
              <a:ext cx="2341080" cy="571680"/>
            </a:xfrm>
            <a:prstGeom prst="can">
              <a:avLst>
                <a:gd name="adj" fmla="val 50000"/>
              </a:avLst>
            </a:prstGeom>
            <a:solidFill>
              <a:srgbClr val="ffcc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24640" y="4218120"/>
              <a:ext cx="1883880" cy="527040"/>
            </a:xfrm>
            <a:prstGeom prst="can">
              <a:avLst>
                <a:gd name="adj" fmla="val 50000"/>
              </a:avLst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53240" y="3924360"/>
              <a:ext cx="1426680" cy="479520"/>
            </a:xfrm>
            <a:prstGeom prst="can">
              <a:avLst>
                <a:gd name="adj" fmla="val 50000"/>
              </a:avLst>
            </a:prstGeom>
            <a:solidFill>
              <a:srgbClr val="b3e1b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53040" y="3695760"/>
              <a:ext cx="1026720" cy="399960"/>
            </a:xfrm>
            <a:prstGeom prst="can">
              <a:avLst>
                <a:gd name="adj" fmla="val 50000"/>
              </a:avLst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13480" y="2667240"/>
              <a:ext cx="107640" cy="1114200"/>
            </a:xfrm>
            <a:prstGeom prst="can">
              <a:avLst>
                <a:gd name="adj" fmla="val 2861"/>
              </a:avLst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ύργοι του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Hano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hanoi (int rings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 from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 to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 auxi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rings &gt;= 1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hanoi(rings-1, from, auxil, to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s -&gt; %s\n", from, to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hanoi(rings-1, auxil, to, from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hanoi(4, "left", "right", "middle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γνωσιμότητα προγραμμάτ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580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υκολία με την οποία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γίνεται κατανοητό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το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τί κάνει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ένα πρόγραμμα από την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ανάγνωσή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του ως κειμένου και μόν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4640" y="3629160"/>
            <a:ext cx="5484240" cy="1557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=1; a=0; l1:if (feof(f)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oto l3; fscanf(f, "%d", &amp;d);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d==k) goto l2; i++;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oto l1; l2:a=1; l3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39360" y="2971800"/>
            <a:ext cx="6398640" cy="3751560"/>
          </a:xfrm>
          <a:prstGeom prst="rect">
            <a:avLst/>
          </a:prstGeom>
          <a:solidFill>
            <a:srgbClr val="bdd7e5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nt = 0;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und = FALSE;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!feof(inputFile)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nt++;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fscanf(inputFile, "%d", &amp;data);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if (data == key) {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found = TRUE;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break;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νόνες αναγνωσιμότητ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αφήνεια και απλότη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πολύπλοκος κώδικας δυσκολεύει την ανάγνωση του προγράμματ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πλέον, αυξάνει τις πιθανότητες ύπαρξης σφαλμάτ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μπέρασμα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Να αποφεύγεται περιττή πολυπλοκότητ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Να προτιμώνται απλές και σαφείς λύ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^=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νόνες αναγνωσιμότητ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τίξ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χρήση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αρενθέσεων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γκίστρων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διευκολύνει την αναγνωσιμότητ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υπερβολική χρήση όμως έχει αντίθετο αποτέλεσμ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2600" y="390204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x - b &amp; 0xf0f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(x - b) &amp; 0xf0f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8040" y="4343400"/>
            <a:ext cx="2558160" cy="1922760"/>
          </a:xfrm>
          <a:prstGeom prst="rect">
            <a:avLst/>
          </a:prstGeom>
          <a:solidFill>
            <a:srgbClr val="bdd7e5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d &gt; 0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positive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 = sqrt(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 = -sqrt(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5080" y="4038480"/>
            <a:ext cx="3655440" cy="2288520"/>
          </a:xfrm>
          <a:prstGeom prst="rect">
            <a:avLst/>
          </a:prstGeom>
          <a:solidFill>
            <a:srgbClr val="ffcccc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d &gt; 0) {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if (positive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r = sqrt(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 = -sqrt(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νόνες αναγνωσιμότητ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πιλογή κατάλληλων ονομάτ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εριγραφικά ονόματ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=0;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nt=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ήση μεγάλων αναγνωριστικώ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aximum_lengt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ήση πεζών/κεφαλαίων ή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nderscor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veragepriceperyea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veragePricePerYea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verage_price_per_yea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ήση επωνύμων σταθερών ή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acr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ax = 0.21 * (income - 200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ax = TAX_RATE * (income - NON_TAXABL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νόνες αναγνωσιμότητ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χόλι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απόσπαστο μέρος του προγράμματ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ρέπει να γράφοντ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μαζί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με το πρόγραμμ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Ν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ενημερώνονται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όταν αλλάζει το πρόγραμμ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Όχι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εριττά και "κρυπτογραφικά" σχόλι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ημεία που είναι απαραίτη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ην αρχή του ορισμού μια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υνάρτη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ις δηλώσει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αθερών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ή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μεταβλητώ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ην αρχή κάθε τμήματος προγράμματος που επιτελεί μι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ξεχωριστή λειτουργί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άγκιστρ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όταν δεν είναι προφανές σε ποια δομημένη εντολή αυτά αντιστοιχού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νόνες αναγνωσιμότητ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τοίχιση των εντολ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εσωτερικές εντολές στοιχίζονται 3 ως 5 διαστήματ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εξιότερ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ευκολύνει πολύ την αναγνωσιμότητ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ρόπος στοίχισης είν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υποκειμενικό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ρέπει όμως να είν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υνεπ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70640" y="3962520"/>
            <a:ext cx="2923920" cy="2478960"/>
          </a:xfrm>
          <a:prstGeom prst="rect">
            <a:avLst/>
          </a:prstGeom>
          <a:solidFill>
            <a:srgbClr val="bdd7e5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expression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statemen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expression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statement_1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statement_2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5240" y="4038480"/>
            <a:ext cx="3838320" cy="2288520"/>
          </a:xfrm>
          <a:prstGeom prst="rect">
            <a:avLst/>
          </a:prstGeom>
          <a:solidFill>
            <a:srgbClr val="ffcccc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expression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) {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statement_1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statement_2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statement_n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βιβλιοθήκη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 και έξοδ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&lt;stdio.h&gt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εριέχει όλες τις συναρτήσεις εισόδου-εξόδ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ροκαθορισμένα αρχεί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stdin;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τυπική είσοδος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stdout;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τυπική έξοδος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stderr;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τυπική έξοδος σφαλμάτω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Ισοδυναμί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...)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fprintf(stdout, ...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...) 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fscanf(stdin, ...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κ.λπ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ναρτήσεις διαχείρισης αρχείων με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τυχαία πρόσβασ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andom acces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βιβλιοθήκη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αχείριση συμβολοσειρών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&lt;string.h&gt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 strlen (const 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έτρηση αριθμού χαρακτήρων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strcpy (char * s1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const char *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ντιγραφή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2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την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1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strcat (char * s1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const char *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ροσθήκη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2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το τέλος τη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1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trcmp (const char * s1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ύγκριση των συμβολοσειρών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1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και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2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βιβλιοθήκη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τατροπή συμβολοσειρών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&lt;stdlib.h&gt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toi (const 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ετατροπή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σε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ong int atol (const 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ετατροπή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σε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long in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atof (const 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ετατροπή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σε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double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υναμική παραχώρηση μνήμη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&lt;stdlib.h&gt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* malloc (size_t 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υναμική παραχώρηση μνήμης μήκου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ytes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free (void * 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ποδέσμευση της μνήμης στην οποία δείχνει το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ναμική παραχώρηση μνήμη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* 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(int *) malloc(sizeof(int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p = 4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ee(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(int *) malloc(10 * sizeof(int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; i&lt;1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[i] = 4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ee(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βιβλιοθήκη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αθηματικές συναρτήσει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&lt;math.h&gt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sqrt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exp 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log 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pow  (double x, double 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sin 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cos 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tan 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asin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acos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atan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βιβλιοθήκη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580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λλες συναρτήσεις βιβλιοθήκ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580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αχείριση χρόνου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&lt;time.h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580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θορισμός τύπου χαρακτήρων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&lt;ctype.h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580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ναλλακτική διαχείριση αρχείων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&lt;io.h&gt;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πως στο Unix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580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Άλματα μεταξύ συναρτήσεων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003366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tjmp.h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δρομικές συναρτή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ρογραμματισμός επαναλαμβανόμενων διαδικασι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επανάληψ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teration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ναδρομή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cursion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ια συνάρτηση είναι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αναδρομική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όταν στο σώμα της καλεί τον εαυτό τ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4267080"/>
            <a:ext cx="3114720" cy="2133720"/>
          </a:xfrm>
          <a:prstGeom prst="rect">
            <a:avLst/>
          </a:prstGeom>
          <a:solidFill>
            <a:srgbClr val="bdd7e5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660066"/>
                </a:solidFill>
                <a:uFillTx/>
                <a:latin typeface="Times New Roman"/>
              </a:rPr>
              <a:t>Έμμεση αναδρομ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 (int x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... g(y) ...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g (int z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... f(w) ...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52360" y="4267080"/>
            <a:ext cx="3114720" cy="2133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660066"/>
                </a:solidFill>
                <a:uFillTx/>
                <a:latin typeface="Times New Roman"/>
              </a:rPr>
              <a:t>Άμεση αναδρομ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 (int x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... f(y) ...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δρομικές συναρτή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εντρική ιδέ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λύση ενός προβλήματο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νάγεται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στη λύση ενό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όμοιου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ροβλήματος αλλά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πλούστερ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αναδρομή πρέπει ν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τερματίζετα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συνάρτηση παραγοντικού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n! = 1 * 2 * ... * n        και    0! =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act (int n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n == 0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n * fact(n-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4:34:36Z</cp:lastPrinted>
  <dcterms:modified xsi:type="dcterms:W3CDTF">2000-03-22T08:33:41Z</dcterms:modified>
  <cp:revision>55</cp:revision>
  <dc:subject>ΛΟΓ102: Τεχνολογία Λογισμικού Ι</dc:subject>
  <dc:title>Διαφάνειες παρουσίασης</dc:title>
</cp:coreProperties>
</file>