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9DB-E485-4883-9796-CAD11142753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E6E4-4D83-41D4-BB90-18A6B2D3DF7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 προεπεξεργαστής της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μετροι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εισόδου-εξόδ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διαχείρισης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Program %s called with: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rgv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; i&lt;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15T12:12:28Z</dcterms:modified>
  <cp:revision>45</cp:revision>
  <dc:subject>ΛΟΓ102: Τεχνολογία Λογισμικού Ι</dc:subject>
  <dc:title>Διαφάνειες παρουσίασης</dc:title>
</cp:coreProperties>
</file>