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A262-C4F8-4200-ADB6-E2826F87AE9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8CB4-BD27-4B74-9DA5-419DA09A6A5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 προεπεξεργαστής της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μετροι του προγράμματο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εισόδου-εξόδ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διαχείρισης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χαρακτήρες που διαβάζονται εκτυπώνονται, μέχρι να παρουσιαστεί τέλ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c = getchar()) != EOF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file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άμετρο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άγνωση (rea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γγραφή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rit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ppe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είμενο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ex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ά δεδομένα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n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διαχείρισης αρχείω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πολλ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ακέραιος τύπο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χρησιμοποιείται για τη μέτρηση χώρου μνήμης σ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y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ιγραφή δυαδικών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in, * fou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char buffer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cou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n = fopen(argv[1], "r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in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 = fopen(argv[2], "wb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fou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δειγμ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εχίζεται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fin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fread(buffer, 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1000, 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write(buffer, 1, count, 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close(fou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nclu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"myheader.h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de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MAX_CHARS 10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MAX_CHARS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INC(x) ((x)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C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επεξεργαστή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eprocessor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def,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ifndef, #else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#end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define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n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debugging is off\n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fndef DEBU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optimizations allowed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κεφαλίδα του προγράμ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μετρ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ο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των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i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-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στή παράμετρ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rgv[0]</a:t>
            </a:r>
            <a:r>
              <a:rPr b="1" lang="el-GR" sz="28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όνομα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ς αριθμός που επιστρέφεται στο λειτουργικό σύστη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ήθως 0 για επιτυχή τερ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αράμετροι του προγράμματο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Program %s called with: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argv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1; i&lt;argc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 %s", argv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\nand will return 0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συναρτήσεις εισόδου-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int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canf (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έραιοι αριθμο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κ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κτ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x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ωρίς πρόσημο στο δεκαεξαδικό σύστημ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οί κινητής υποδιαστολ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: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[-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dd.dddddd e [+/-]d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g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μορφή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f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οι τύπ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c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αρακτήρ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έ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p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αγές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h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d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οί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doubl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.χ.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αποτελέ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20s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μβολοσειρά σε μήκος 20 χαρακτήρ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+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 μ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0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θμός σε μήκος 8 χαρακτήρων, τα πρώτα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-8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%8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 στοίχιση 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εισόδου-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χαρακτή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char (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char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-έξοδος συμβολοσει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uts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gets (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τέλους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o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ταθερά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ριστάνει το τέλος των δεδομένων και έχει τύπ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15T12:12:28Z</dcterms:modified>
  <cp:revision>45</cp:revision>
  <dc:subject>ΛΟΓ102: Τεχνολογία Λογισμικού Ι</dc:subject>
  <dc:title>Διαφάνειες παρουσίασης</dc:title>
</cp:coreProperties>
</file>