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FE32-F60B-4C4A-8B08-1F82781D7C9B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E34B-E8F4-4664-959A-31343E3E4DA0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6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 προεπεξεργαστής της 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αράμετροι του προγράμματο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αρτήσεις εισόδου-εξόδου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αρτήσεις διαχείρισης αρχεί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ιγραφή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χαρακτήρες που διαβάζονται εκτυπώνονται, μέχρι να παρουσιαστεί τέλος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(c = getchar()) != EOF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tchar(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αρ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νοιγμα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open (const char * file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const char *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άμετρος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o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άγνωση (rea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γγραφή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rit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ροσθήκη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ppen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είμενο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ex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υαδικά δεδομένα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nar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close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χαρακτήρ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utc (int c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getc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συμβολοσει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uts (const char * s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fgets (char * s, int n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ές συναρτήσεις εισόδου-εξό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rintf (FILE * f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scanf (FILE * f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λεγχος τέλους αρ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eof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πολλών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fwrite (const void * 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fread (void * 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ακέραιος τύπο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χρησιμοποιείται για τη μέτρηση χώρου μνήμης σ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yte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ιγραφή δυαδικών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int argc, char * argv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in, * fou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 char buffer[10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cou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n = fopen(argv[1], "rb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fin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ut = fopen(argv[2], "wb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fou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εχίζεται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!feof(fin)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nt = fread(buffer, 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1000, f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write(buffer, 1, count, fou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close(f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close(fou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επεξεργαστή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eprocessor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nclu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"myheader.h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de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define MAX_CHARS 1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MAX_CHARS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define INC(x) ((x)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C(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C(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επεξεργαστή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eprocessor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έ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fdef,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fndef, #else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endi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define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debugging is on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debugging is off\n"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fndef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optimizations allowed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μετροι του προγράμματο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ικεφαλίδα του προγράμμα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int argc, char * argv[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μετρ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rgc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ο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ός των παραμέτ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rgv[i]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-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στή παράμετρ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rgv[0]</a:t>
            </a:r>
            <a:r>
              <a:rPr b="1" lang="el-GR" sz="28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όνομα του προγράμ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κέραιος αριθμός που επιστρέφεται στο λειτουργικό σύστη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ήθως 0 για επιτυχή τερματισμ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μετροι του προγράμματο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int argc, char * argv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Program %s called with:"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argv[0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1; i&lt;argc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 %s", argv[i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\nand will return 0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ές συναρτήσεις εισόδου-εξό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rintf (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canf (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κέραιοι αριθμο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κ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u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κ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o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κτ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x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 δεκαεξ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οί κινητής υποδιαστολ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f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: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[-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dd.ddddd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: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[-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dd.dddddd e [+/-]dd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g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f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ή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λοι τύπο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c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αρακτήρε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s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μβολοσειρέ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p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ίκτε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λλαγέ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έγεθος αριθμ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h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shor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h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h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ong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ή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d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 doubl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ήκος αποτελέσ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20s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μβολοσειρά σε μήκος 20 χαρακτήρω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+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 μ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0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, τα πρώτα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-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όπως τ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8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 στοίχιση αριστε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χαρακτήρ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utchar (int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etchar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συμβολοσει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uts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gets (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λεγχος τέλους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eof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σταθερά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OF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ριστάνει το τέλος των δεδομένων και έχει τύπ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3-15T12:12:28Z</dcterms:modified>
  <cp:revision>45</cp:revision>
  <dc:subject>ΛΟΓ102: Τεχνολογία Λογισμικού Ι</dc:subject>
  <dc:title>Διαφάνειες παρουσίασης</dc:title>
</cp:coreProperties>
</file>