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BA7F-6926-4ADA-B9E2-1E8B884EB7D9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880" y="457200"/>
            <a:ext cx="57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102: Τεχνολογία Λογισμικού 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102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3E05-8847-482F-B713-0CE850C70A6B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5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Ορισμοί τύπ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Απαριθμήσει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ομέ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Ενώσει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Ορισμοί τύπω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νώνυμα απλών τύπ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double rea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al x, 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νώνυμα σύνθετων τύπ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typedef double vector [1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vector v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for (i = 0; i &lt; 10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v[i] =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typedef int * pointe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pointer p = &amp;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παριθμήσεις (enumerations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 τύπ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nu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num color_tag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GREEN, RED, BLUE, WHITE, BLACK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num color_tag c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 = GREE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enum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GREEN, RED, BLUE, WHITE, BLACK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 colo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lor c = WHIT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ομές 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structures)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 τύπ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truc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complex_tag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re, im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complex_tag z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z.re = 1.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z.im = -1.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struct complex_tag comple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z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zs [10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ομές 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structures)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complement (complex z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.re = z.r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.im = -z.i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ομές 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structures)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struct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  firstName [3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  lastName [5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  phone [1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   ag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salar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 record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cord r [100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[423].age = 3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ομές 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structures)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cord * 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 = &amp;(r[873]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(*p).salary = 20000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-&gt;salary = 20000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=0, p=r; i&lt;1000; i++, p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-&gt;salary = 30000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νώσεις 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unions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 τύπ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un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union number_tag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d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union number_tag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.d = 1.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lf\n", n.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.i = 4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\n", n.i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lf\n", n.d);   /* wrong! *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28T14:34:36Z</cp:lastPrinted>
  <dcterms:modified xsi:type="dcterms:W3CDTF">2000-03-08T09:18:22Z</dcterms:modified>
  <cp:revision>33</cp:revision>
  <dc:subject>ΛΟΓ102: Τεχνολογία Λογισμικού Ι</dc:subject>
  <dc:title>Διαφάνειες παρουσίασης</dc:title>
</cp:coreProperties>
</file>