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B818-52D5-4B8B-A165-7277434FF9C5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89C0-0984-4899-B7C0-0A80D077A521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5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ρισμοί τύπ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παριθμή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ομ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νώ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οί τύπ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ώνυμα απλών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double rea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al x,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ώνυμα σύνθετων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typedef double vector 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vector v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for (i = 0; i &lt; 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v[i]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typedef int * point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pointer p = &amp;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αριθμήσεις (enumerations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num color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REEN, RED, BLUE, WHITE, BLAC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num color_tag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= GREE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enum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REEN, RED, BLUE, WHITE, BLAC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colo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lor c = WHIT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uc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_tag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z.re = 1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z.im = -1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complex_tag comple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zs [1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omplement (complex z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re = z.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im = -z.i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  firstName [3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  lastName [5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  phone 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   ag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salar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recor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cord r [10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[423].age = 3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cord * 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(r[873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*p).salary = 20000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-&gt;salary = 20000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, p=r; i&lt;1000; i++, p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-&gt;salary = 30000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νώσει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ons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 number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 number_tag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.d = 1.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lf\n", n.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.i = 4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n.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lf\n", n.d);   /* wrong!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4:34:36Z</cp:lastPrinted>
  <dcterms:modified xsi:type="dcterms:W3CDTF">2000-03-08T09:18:22Z</dcterms:modified>
  <cp:revision>33</cp:revision>
  <dc:subject>ΛΟΓ102: Τεχνολογία Λογισμικού Ι</dc:subject>
  <dc:title>Διαφάνειες παρουσίασης</dc:title>
</cp:coreProperties>
</file>