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3EDD-61E7-4765-86C0-95458881A5A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9C0-6BB6-4718-AE92-4D7B7D74179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, συνέχ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τιγραφή πινάκ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ύπωση συμβολοσειράς με 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t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ην  </a:t>
            </a: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putch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1T10:51:33Z</dcterms:modified>
  <cp:revision>30</cp:revision>
  <dc:subject>ΛΟΓ102: Τεχνολογία Λογισμικού Ι</dc:subject>
  <dc:title>Διαφάνειες παρουσίασης</dc:title>
</cp:coreProperties>
</file>