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CFED-ABE7-4BFA-8BA8-5C123A0358E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3BF6-D650-447D-899C-219A063812E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, συνέχ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τιγραφή πινάκ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ύπωση συμβολοσειράς με 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ut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, συνέχ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ην  </a:t>
            </a:r>
            <a:r>
              <a:rPr b="1" lang="en-US" sz="3200" spc="-1" strike="noStrike">
                <a:solidFill>
                  <a:srgbClr val="003366"/>
                </a:solidFill>
                <a:latin typeface="Courier New"/>
              </a:rPr>
              <a:t>putch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1T10:51:33Z</dcterms:modified>
  <cp:revision>30</cp:revision>
  <dc:subject>ΛΟΓ102: Τεχνολογία Λογισμικού Ι</dc:subject>
  <dc:title>Διαφάνειες παρουσίασης</dc:title>
</cp:coreProperties>
</file>