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AF54-8B7A-4335-AC66-0D260C117A2F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392C-19AE-43ED-B5E1-E42787062E0B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4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ίνακες και δείκτες, συνέχει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ντιγραφή πινάκ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κτύπωση συμβολοσειράς με την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utcha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και δείκτες, συνέχ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αντιγραφή πινάκ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10], b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*p = a, *q = b,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* assume b initialized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; i&lt;1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p++ = *q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και δείκτες, συνέχ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εκτύπωση συμβολοσειράς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 την  </a:t>
            </a:r>
            <a:r>
              <a:rPr b="1" lang="en-US" sz="3200" spc="-1" strike="noStrike">
                <a:solidFill>
                  <a:srgbClr val="003366"/>
                </a:solidFill>
                <a:latin typeface="Courier New"/>
              </a:rPr>
              <a:t>putcha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utchar (char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] = "Hello world!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p = s; *p != '\0'; p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tchar(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4:34:36Z</cp:lastPrinted>
  <dcterms:modified xsi:type="dcterms:W3CDTF">2000-03-01T10:51:33Z</dcterms:modified>
  <cp:revision>30</cp:revision>
  <dc:subject>ΛΟΓ102: Τεχνολογία Λογισμικού Ι</dc:subject>
  <dc:title>Διαφάνειες παρουσίασης</dc:title>
</cp:coreProperties>
</file>