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2006-F966-466F-964D-E5D0B493A79D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3C27-D90E-4BE5-B4A5-C3C6C53FD86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3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ομή του προγράμματος και συναρτ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ολυδιάστατοι πίνακ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είκ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 και δείκ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inters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ικτοδότηση: 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διεύθυνση μιας μεταβλητ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εικτοδότηση: *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περιεχόμενο μιας διεύθυν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 = 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755360" y="5003640"/>
            <a:ext cx="2511720" cy="942480"/>
            <a:chOff x="1755360" y="5003640"/>
            <a:chExt cx="2511720" cy="942480"/>
          </a:xfrm>
        </p:grpSpPr>
        <p:sp>
          <p:nvSpPr>
            <p:cNvPr id="120" name=""/>
            <p:cNvSpPr/>
            <p:nvPr/>
          </p:nvSpPr>
          <p:spPr>
            <a:xfrm>
              <a:off x="2590920" y="5410080"/>
              <a:ext cx="167616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92360" y="500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55360" y="54864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51200" y="3936960"/>
            <a:ext cx="2511720" cy="942480"/>
            <a:chOff x="4651200" y="3936960"/>
            <a:chExt cx="2511720" cy="942480"/>
          </a:xfrm>
        </p:grpSpPr>
        <p:sp>
          <p:nvSpPr>
            <p:cNvPr id="124" name=""/>
            <p:cNvSpPr/>
            <p:nvPr/>
          </p:nvSpPr>
          <p:spPr>
            <a:xfrm>
              <a:off x="5486400" y="4343400"/>
              <a:ext cx="16765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7840" y="3936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51200" y="4419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201840" y="5460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343400" y="4394160"/>
            <a:ext cx="2382480" cy="1219320"/>
            <a:chOff x="4343400" y="4394160"/>
            <a:chExt cx="2382480" cy="1219320"/>
          </a:xfrm>
        </p:grpSpPr>
        <p:sp>
          <p:nvSpPr>
            <p:cNvPr id="129" name=""/>
            <p:cNvSpPr/>
            <p:nvPr/>
          </p:nvSpPr>
          <p:spPr>
            <a:xfrm>
              <a:off x="5944680" y="439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343400" y="4699080"/>
              <a:ext cx="1599840" cy="914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ητική δεικ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7, 6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794200" y="1752480"/>
            <a:ext cx="2816280" cy="3609360"/>
            <a:chOff x="5794200" y="1752480"/>
            <a:chExt cx="2816280" cy="3609360"/>
          </a:xfrm>
        </p:grpSpPr>
        <p:sp>
          <p:nvSpPr>
            <p:cNvPr id="134" name=""/>
            <p:cNvSpPr/>
            <p:nvPr/>
          </p:nvSpPr>
          <p:spPr>
            <a:xfrm>
              <a:off x="6934320" y="4826160"/>
              <a:ext cx="1676160" cy="5331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3576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98760" y="49021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29400" y="215892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30840" y="1752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4200" y="22352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9800" y="22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29400" y="266688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4200" y="27432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9800" y="2717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29400" y="320040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4200" y="3276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70520" y="3251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392960" y="2437920"/>
            <a:ext cx="781200" cy="2898720"/>
            <a:chOff x="7392960" y="2437920"/>
            <a:chExt cx="781200" cy="2898720"/>
          </a:xfrm>
        </p:grpSpPr>
        <p:sp>
          <p:nvSpPr>
            <p:cNvPr id="148" name=""/>
            <p:cNvSpPr/>
            <p:nvPr/>
          </p:nvSpPr>
          <p:spPr>
            <a:xfrm>
              <a:off x="7392960" y="48769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467120" y="2438280"/>
              <a:ext cx="3812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848720" y="2437920"/>
              <a:ext cx="0" cy="2514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5800" y="29718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(a[0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495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(p+1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p+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σοδυναμία πινάκων και δεικ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νας πίνακας είναι ένας δείκτης στο πρώτο στοιχείο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ισοδύναμο με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(a+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πίνακες όμως είναι σταθεροί δείκτες, δηλαδή δεν μπορούν να αλλάξουν τι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7, 6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 = &amp;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++;  /* correct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;  /* wrong! 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ή του προγράμματο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ρόγραμμα αποτελείται από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λικές μεταβλητ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φορές από τη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scal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ύριο πρόγραμμα, διαδικασίες και συναρτήσεις δε διαφοροποιούν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κύριο πρόγραμμα ονομάζεται 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ma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διαδικασίες έχουν αποτέλεσμα 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voi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ες οι συναρτήσεις στο ίδιο επίπεδ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πιτρέπονται φωλιασμένες συναρτή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όνο πέρασμα κατά τιμή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ll by value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, int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x *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 (int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f(x, x+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(6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ολουθία μεταβλη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ο ίδιο όνομα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ον ίδιο τύπο δεδομένων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ε συνεχόμενες θέσεις μνήμης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5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1[5], d2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αρίθμηση αρχίζει από το 0 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5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6, 7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[] = {'a', 'b', 'c', 'd', 'e'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πίνακες χαρακτή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6] = "abcde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ρματίζονται με τον κενό χαρακτήρα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\0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6] = {'a', 'b', 'c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'd', 'e', '\0'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5, 6, 7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b[3] = {2, 3, 1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3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times %d is %d\n"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, b[i], a[i]*b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876920"/>
            <a:ext cx="3733560" cy="108108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5 times 2 is 1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6 times 3 is 1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7 times 1 is 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διάστατοι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[5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[5][10][4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[3][3] = { {1, 0, 0}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0, 1, 0}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0, 0, 1}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][10] =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my", "name", "is", "jo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διάστατοι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πολλαπλασιασμός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[3][4], b[4][5], c[3][5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j, 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3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j=0; j&lt;5; j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i][j]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k=0; k&lt;4; k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i][j] += a[i][k] * b[k]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inters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βλη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υ δεν περιέχουν μια τιμή κάποιου απλού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ά τη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εύθυν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ιας άλλης μεταβλητ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55360" y="5003640"/>
            <a:ext cx="2511720" cy="942480"/>
            <a:chOff x="1755360" y="5003640"/>
            <a:chExt cx="2511720" cy="942480"/>
          </a:xfrm>
        </p:grpSpPr>
        <p:sp>
          <p:nvSpPr>
            <p:cNvPr id="106" name=""/>
            <p:cNvSpPr/>
            <p:nvPr/>
          </p:nvSpPr>
          <p:spPr>
            <a:xfrm>
              <a:off x="2590920" y="5410080"/>
              <a:ext cx="167616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92360" y="500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55360" y="54864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651200" y="3936960"/>
            <a:ext cx="2511720" cy="942480"/>
            <a:chOff x="4651200" y="3936960"/>
            <a:chExt cx="2511720" cy="942480"/>
          </a:xfrm>
        </p:grpSpPr>
        <p:sp>
          <p:nvSpPr>
            <p:cNvPr id="110" name=""/>
            <p:cNvSpPr/>
            <p:nvPr/>
          </p:nvSpPr>
          <p:spPr>
            <a:xfrm>
              <a:off x="5486400" y="4343400"/>
              <a:ext cx="16765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87840" y="3936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51200" y="4419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201840" y="5460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43400" y="4394160"/>
            <a:ext cx="2382480" cy="1219320"/>
            <a:chOff x="4343400" y="4394160"/>
            <a:chExt cx="2382480" cy="1219320"/>
          </a:xfrm>
        </p:grpSpPr>
        <p:sp>
          <p:nvSpPr>
            <p:cNvPr id="115" name=""/>
            <p:cNvSpPr/>
            <p:nvPr/>
          </p:nvSpPr>
          <p:spPr>
            <a:xfrm>
              <a:off x="5944680" y="439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343400" y="4699080"/>
              <a:ext cx="1599840" cy="914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0-02-23T08:13:34Z</dcterms:modified>
  <cp:revision>25</cp:revision>
  <dc:subject>ΛΟΓ102: Τεχνολογία Λογισμικού Ι</dc:subject>
  <dc:title>Διαφάνειες παρουσίασης</dc:title>
</cp:coreProperties>
</file>