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782-A484-4C3E-9DD7-CEA56A12566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9A3-C372-4FE3-88FA-6CA5E66C26A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ή του προγράμματος και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διάστατοι 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20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24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29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134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148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, b[4][5], 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06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10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15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23T08:13:34Z</dcterms:modified>
  <cp:revision>25</cp:revision>
  <dc:subject>ΛΟΓ102: Τεχνολογία Λογισμικού Ι</dc:subject>
  <dc:title>Διαφάνειες παρουσίασης</dc:title>
</cp:coreProperties>
</file>