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7578-1D2B-4EB4-81FD-39620315912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F27C-D2C6-41F2-BF15-050464F075F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2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χόλ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σαγωγή στι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ntf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can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ελεστές και εκφρ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ντολές και ροή ελέγχο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θετη εντολ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 &gt;= b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in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in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i &lt;= 10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10080" y="2362320"/>
            <a:ext cx="3046320" cy="2666880"/>
            <a:chOff x="5410080" y="2362320"/>
            <a:chExt cx="3046320" cy="2666880"/>
          </a:xfrm>
        </p:grpSpPr>
        <p:sp>
          <p:nvSpPr>
            <p:cNvPr id="109" name=""/>
            <p:cNvSpPr/>
            <p:nvPr/>
          </p:nvSpPr>
          <p:spPr>
            <a:xfrm>
              <a:off x="5790960" y="289548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560" y="403848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360" y="36576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19760" y="3276720"/>
              <a:ext cx="3812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3276720"/>
              <a:ext cx="0" cy="1752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360" y="457200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410080" y="480060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410080" y="2666520"/>
              <a:ext cx="0" cy="2133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080" y="266688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05360" y="2362320"/>
              <a:ext cx="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0960" y="358128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0280" y="281952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5920" y="1758960"/>
            <a:ext cx="2716560" cy="82548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do-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i &lt;= 1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484960" y="2209680"/>
            <a:ext cx="2667960" cy="2666880"/>
            <a:chOff x="5484960" y="2209680"/>
            <a:chExt cx="2667960" cy="2666880"/>
          </a:xfrm>
        </p:grpSpPr>
        <p:sp>
          <p:nvSpPr>
            <p:cNvPr id="125" name=""/>
            <p:cNvSpPr/>
            <p:nvPr/>
          </p:nvSpPr>
          <p:spPr>
            <a:xfrm>
              <a:off x="5486400" y="373356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5000" y="274284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00800" y="4495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411444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0800" y="327636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4960" y="44193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46800" y="417492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696080" y="2438280"/>
              <a:ext cx="0" cy="1676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400800" y="243828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0800" y="2209680"/>
              <a:ext cx="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147320" y="1828800"/>
            <a:ext cx="2899440" cy="119124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1, s=0; i &lt;=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1981080"/>
            <a:ext cx="3063960" cy="155700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χικοποίηση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βήμα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866920" y="1295280"/>
            <a:ext cx="3053160" cy="4343400"/>
            <a:chOff x="5866920" y="1295280"/>
            <a:chExt cx="3053160" cy="4343400"/>
          </a:xfrm>
        </p:grpSpPr>
        <p:sp>
          <p:nvSpPr>
            <p:cNvPr id="140" name=""/>
            <p:cNvSpPr/>
            <p:nvPr/>
          </p:nvSpPr>
          <p:spPr>
            <a:xfrm>
              <a:off x="6251400" y="259056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80000" y="373356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65800" y="3352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83440" y="297180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8461440" y="2971800"/>
              <a:ext cx="2880" cy="2666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5800" y="502920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70520" y="525780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866920" y="2361960"/>
              <a:ext cx="3240" cy="2895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70520" y="236196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51400" y="32763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13960" y="251460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0000" y="449568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βήμ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65800" y="426708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51400" y="1676160"/>
              <a:ext cx="18288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ρχικοποίησ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5800" y="2209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5800" y="12952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rea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s=0; i &lt; 10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x == 9999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Sum is: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tin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s=0; i &lt; 10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x == 9999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tin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Sum is: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tc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h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witch (ch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a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alpha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b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c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beta or c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fault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other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x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τικέτες και 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i &lt; 1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oto lo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The sum is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χ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to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ομημένος προγραμματισμός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όλι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ξύ </a:t>
            </a:r>
            <a:r>
              <a:rPr b="1" lang="el-GR" sz="3200" spc="-1" strike="noStrike">
                <a:solidFill>
                  <a:srgbClr val="003366"/>
                </a:solidFill>
                <a:latin typeface="Courier New"/>
              </a:rPr>
              <a:t>/*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αι </a:t>
            </a:r>
            <a:r>
              <a:rPr b="1" lang="el-GR" sz="3200" spc="-1" strike="noStrike">
                <a:solidFill>
                  <a:srgbClr val="003366"/>
                </a:solidFill>
                <a:latin typeface="Courier New"/>
              </a:rPr>
              <a:t>*/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This simple program greets th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orld by saying "hello"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 /* eh? */ "Hello world!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αρακάτω είναι λάθ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Nested /* comments */ are wrong!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ύπωση με 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intf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λοί τύποι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ubl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, %lf, %c, %s\n"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, 1.2, 'a', "hello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, 1.200000, a, hell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με 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canf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Ίδιοι κωδικοί για τους απλούς τύπ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lf", &amp;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c", &amp;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Ένα πιο σύνθετο 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Give me a number: 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Here is the number: %d\n",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And its half: %lf\n"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double) n / 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ητι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+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*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σια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=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!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ογι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amp;&amp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σύζευξ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κα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||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διάζευξ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ή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!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άρνησ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όχ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.χ.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003366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x % 3 != 0) &amp;&amp; !finish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 (bitwis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amp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ύζευξ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AN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άζευξη 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^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ποκλειστική διάζευξη 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X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~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άρνησ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NO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&lt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λίσθησ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στε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&gt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λίσθησ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ξι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0x0101 &amp; 0xfff0) &lt;&lt;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0x0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συν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a &gt;= b) ? a : 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παρ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1, b+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ν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+= x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ισοδύναμο με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a + 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ύξησης και μείω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-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πριν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+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--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μετά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ή εντολ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έκφρα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 &gt;=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0-02-15T18:44:37Z</dcterms:modified>
  <cp:revision>14</cp:revision>
  <dc:subject>ΛΟΓ102: Τεχνολογία Λογισμικού Ι</dc:subject>
  <dc:title>Διαφάνειες παρουσίασης</dc:title>
</cp:coreProperties>
</file>