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F8C71-DA00-40C3-B9DE-0AE4951F71EB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102: Τεχνολογία Λογισμικού 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17400" y="1066680"/>
            <a:ext cx="7917120" cy="76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7972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880" y="457200"/>
            <a:ext cx="579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ahoma"/>
              </a:rPr>
              <a:t>ΛΟΓ102: Τεχνολογία Λογισμικού Ι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69920" y="2057400"/>
            <a:ext cx="34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nickie@softlab.ntua.g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28520" y="1547640"/>
            <a:ext cx="528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Διδάσκων: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Νίκος Παπασπύρου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5960" y="914400"/>
            <a:ext cx="70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ahoma"/>
              </a:rPr>
              <a:t>http://www.softlab.ntua.gr/~nickie/TUC/log102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5347E-7E5B-4A4D-86B2-12E16545FD17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102: Τεχνολογία Λογισμικού 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3344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75248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φάνειες παρουσίασης #2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Σχόλια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Εισαγωγή στις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rintf </a:t>
            </a: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και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canf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Τελεστές και εκφράσει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Εντολές και ροή ελέγχου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Eντολές και έλεγχος ροή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ύνθετη εντολή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a &gt;= b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min = b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max = a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lse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max = b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min = a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Eντολές και έλεγχος ροή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3124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ντολή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whil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i = 1, s = 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while (i &lt;= 10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 += i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++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5410080" y="2362320"/>
            <a:ext cx="3046320" cy="2666880"/>
            <a:chOff x="5410080" y="2362320"/>
            <a:chExt cx="3046320" cy="2666880"/>
          </a:xfrm>
        </p:grpSpPr>
        <p:sp>
          <p:nvSpPr>
            <p:cNvPr id="109" name=""/>
            <p:cNvSpPr/>
            <p:nvPr/>
          </p:nvSpPr>
          <p:spPr>
            <a:xfrm>
              <a:off x="5790960" y="2895480"/>
              <a:ext cx="1828800" cy="762120"/>
            </a:xfrm>
            <a:prstGeom prst="diamond">
              <a:avLst/>
            </a:prstGeom>
            <a:solidFill>
              <a:srgbClr val="ffff99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συνθήκη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019560" y="4038480"/>
              <a:ext cx="1371600" cy="5335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εντολή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05360" y="3657600"/>
              <a:ext cx="0" cy="3808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619760" y="3276720"/>
              <a:ext cx="38124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3276720"/>
              <a:ext cx="0" cy="17524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705360" y="4572000"/>
              <a:ext cx="0" cy="2286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5410080" y="4800600"/>
              <a:ext cx="129528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5410080" y="2666520"/>
              <a:ext cx="0" cy="21337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410080" y="2666880"/>
              <a:ext cx="129528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705360" y="2362320"/>
              <a:ext cx="0" cy="5331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790960" y="3581280"/>
              <a:ext cx="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000" spc="-1" strike="noStrike">
                  <a:solidFill>
                    <a:srgbClr val="333333"/>
                  </a:solidFill>
                  <a:latin typeface="Times New Roman"/>
                </a:rPr>
                <a:t>αληθής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550280" y="2819520"/>
              <a:ext cx="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000" spc="-1" strike="noStrike">
                  <a:solidFill>
                    <a:srgbClr val="333333"/>
                  </a:solidFill>
                  <a:latin typeface="Times New Roman"/>
                </a:rPr>
                <a:t>ψευδής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375920" y="1758960"/>
            <a:ext cx="2716560" cy="825480"/>
          </a:xfrm>
          <a:prstGeom prst="rect">
            <a:avLst/>
          </a:prstGeom>
          <a:solidFill>
            <a:srgbClr val="bdd7e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while (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συνθήκη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εντολή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Eντολές και έλεγχος ροή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35049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ντολή do-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whil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i = 1, s = 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 += i++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while (i &lt;= 10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484960" y="2209680"/>
            <a:ext cx="2667960" cy="2666880"/>
            <a:chOff x="5484960" y="2209680"/>
            <a:chExt cx="2667960" cy="2666880"/>
          </a:xfrm>
        </p:grpSpPr>
        <p:sp>
          <p:nvSpPr>
            <p:cNvPr id="125" name=""/>
            <p:cNvSpPr/>
            <p:nvPr/>
          </p:nvSpPr>
          <p:spPr>
            <a:xfrm>
              <a:off x="5486400" y="3733560"/>
              <a:ext cx="1828800" cy="762120"/>
            </a:xfrm>
            <a:prstGeom prst="diamond">
              <a:avLst/>
            </a:prstGeom>
            <a:solidFill>
              <a:srgbClr val="ffff99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συνθήκη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715000" y="2742840"/>
              <a:ext cx="1371600" cy="5335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εντολή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400800" y="4495680"/>
              <a:ext cx="0" cy="3808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315200" y="4114440"/>
              <a:ext cx="38088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400800" y="3276360"/>
              <a:ext cx="0" cy="4572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484960" y="4419360"/>
              <a:ext cx="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000" spc="-1" strike="noStrike">
                  <a:solidFill>
                    <a:srgbClr val="333333"/>
                  </a:solidFill>
                  <a:latin typeface="Times New Roman"/>
                </a:rPr>
                <a:t>ψευδής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246800" y="4174920"/>
              <a:ext cx="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000" spc="-1" strike="noStrike">
                  <a:solidFill>
                    <a:srgbClr val="333333"/>
                  </a:solidFill>
                  <a:latin typeface="Times New Roman"/>
                </a:rPr>
                <a:t>αληθής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7696080" y="2438280"/>
              <a:ext cx="0" cy="16761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6400800" y="2438280"/>
              <a:ext cx="129528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400800" y="2209680"/>
              <a:ext cx="0" cy="5331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1147320" y="1828800"/>
            <a:ext cx="2899440" cy="1191240"/>
          </a:xfrm>
          <a:prstGeom prst="rect">
            <a:avLst/>
          </a:prstGeom>
          <a:solidFill>
            <a:srgbClr val="bdd7e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εντολή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while (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συνθήκη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Eντολές και έλεγχος ροή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44956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ντολή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77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i, s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77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or (i=1, s=0; i &lt;= 10; i++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77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 += i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24000" y="1981080"/>
            <a:ext cx="3063960" cy="1557000"/>
          </a:xfrm>
          <a:prstGeom prst="rect">
            <a:avLst/>
          </a:prstGeom>
          <a:solidFill>
            <a:srgbClr val="bdd7e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or (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αρχικοποίηση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συνθήκη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βήμα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εντολή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5866920" y="1295280"/>
            <a:ext cx="3053160" cy="4343400"/>
            <a:chOff x="5866920" y="1295280"/>
            <a:chExt cx="3053160" cy="4343400"/>
          </a:xfrm>
        </p:grpSpPr>
        <p:sp>
          <p:nvSpPr>
            <p:cNvPr id="140" name=""/>
            <p:cNvSpPr/>
            <p:nvPr/>
          </p:nvSpPr>
          <p:spPr>
            <a:xfrm>
              <a:off x="6251400" y="2590560"/>
              <a:ext cx="1828800" cy="762120"/>
            </a:xfrm>
            <a:prstGeom prst="diamond">
              <a:avLst/>
            </a:prstGeom>
            <a:solidFill>
              <a:srgbClr val="ffff99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συνθήκη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80000" y="3733560"/>
              <a:ext cx="1371600" cy="5335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εντολή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165800" y="3352680"/>
              <a:ext cx="0" cy="3808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83440" y="2971800"/>
              <a:ext cx="38088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8461440" y="2971800"/>
              <a:ext cx="2880" cy="26668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165800" y="5029200"/>
              <a:ext cx="0" cy="2286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5870520" y="5257800"/>
              <a:ext cx="129528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>
              <a:off x="5866920" y="2361960"/>
              <a:ext cx="3240" cy="289584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70520" y="2361960"/>
              <a:ext cx="129528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251400" y="3276360"/>
              <a:ext cx="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000" spc="-1" strike="noStrike">
                  <a:solidFill>
                    <a:srgbClr val="333333"/>
                  </a:solidFill>
                  <a:latin typeface="Times New Roman"/>
                </a:rPr>
                <a:t>αληθής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013960" y="2514600"/>
              <a:ext cx="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000" spc="-1" strike="noStrike">
                  <a:solidFill>
                    <a:srgbClr val="333333"/>
                  </a:solidFill>
                  <a:latin typeface="Times New Roman"/>
                </a:rPr>
                <a:t>ψευδής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480000" y="4495680"/>
              <a:ext cx="1371600" cy="5335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βήμα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165800" y="4267080"/>
              <a:ext cx="0" cy="2286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51400" y="1676160"/>
              <a:ext cx="1828800" cy="5335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αρχικοποίηση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165800" y="2209680"/>
              <a:ext cx="0" cy="3808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165800" y="1295280"/>
              <a:ext cx="0" cy="3808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Eντολές και έλεγχος ροή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v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ντολή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break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s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or (i=0, s=0; i &lt; 10; i++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x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canf("%d", &amp;x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x == 9999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break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 += x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Sum is: %d\n", s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Eντολές και έλεγχος ροή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v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ντολή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ontinu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s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or (i=0, s=0; i &lt; 10; i++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x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canf("%d", &amp;x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x == 9999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ntinue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 += x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Sum is: %d\n", s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Eντολές και έλεγχος ροή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v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ντολή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witch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ch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witch (ch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ase 'a'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alpha\n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break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ase 'b'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ase 'c'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beta or c\n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break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efault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other\n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Eντολές και έλεγχος ροή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x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τικέτες και εντολή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got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i = 1, s = 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loop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 += i++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i &lt; 10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goto loop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The sum is %d\n", s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Όχι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goto: 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ομημένος προγραμματισμός!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χόλια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Μεταξύ </a:t>
            </a:r>
            <a:r>
              <a:rPr b="1" lang="el-GR" sz="3200" spc="-1" strike="noStrike">
                <a:solidFill>
                  <a:srgbClr val="003366"/>
                </a:solidFill>
                <a:latin typeface="Courier New"/>
              </a:rPr>
              <a:t>/*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και </a:t>
            </a:r>
            <a:r>
              <a:rPr b="1" lang="el-GR" sz="3200" spc="-1" strike="noStrike">
                <a:solidFill>
                  <a:srgbClr val="003366"/>
                </a:solidFill>
                <a:latin typeface="Courier New"/>
              </a:rPr>
              <a:t>*/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#include &lt;stdio.h&g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/* This simple program greets th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world by saying "hello" *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main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 /* eh? */ "Hello world!\n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ο παρακάτω είναι λάθο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/* Nested /* comments */ are wrong! *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Εκτύπωση με την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printf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πλοί τύποι δεδομέν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int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Courier New"/>
              </a:rPr>
              <a:t>%d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char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Courier New"/>
              </a:rPr>
              <a:t>%c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double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Courier New"/>
              </a:rPr>
              <a:t>%lf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tring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Courier New"/>
              </a:rPr>
              <a:t>%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%d, %lf, %c, %s\n"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42, 1.2, 'a', "hello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ποτέλεσ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42, 1.200000, a, hell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Εισαγωγή με την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scanf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Ίδιοι κωδικοί για τους απλούς τύπου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d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c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canf("%d", &amp;n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canf("%lf", &amp;d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canf("%c", &amp;c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Ένα πιο σύνθετο παράδειγμα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#include &lt;stdio.h&g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main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Give me a number: 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canf("%d", &amp;n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Here is the number: %d\n", n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And its half: %lf\n"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(double) n / 2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Τελεστές και εκφράσει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ριθμητικοί τελεστέ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+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-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*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/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%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χεσιακοί τελεστέ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==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!=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&lt;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&gt;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&lt;=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&gt;=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Λογικοί τελεστέ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&amp;&amp;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λογική σύζευξη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(και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||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λογική διάζευξη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(ή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!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λογική άρνηση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(όχι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.χ.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003366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x % 3 != 0) &amp;&amp; !finish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Τελεστές και εκφράσει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ελεστές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bit 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ρος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bit (bitwise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&amp;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σύζευξη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bit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(AND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|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διάζευξη bit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(OR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^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αποκλειστική διάζευξη bit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(XOR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~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άρνηση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(NO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&lt;&lt;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ολίσθηση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bit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αριστερά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&gt;&gt;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ολίσθηση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bit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δεξιά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(0x0101 &amp; 0xfff0) &lt;&lt; 2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0x040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Τελεστές και εκφράσει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ελεστής συνθήκη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(a &gt;= b) ? a : b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ελεστής παράθεση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-1, b+5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ελεστές ανάθεση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 = b+1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 += x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ισοδύναμο με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 = a + x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ελεστές αύξησης και μείωση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++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--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τιμή πριν τη μεταβολή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++a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--a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τιμή μετά τη μεταβολή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Eντολές και έλεγχος ροή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ενή εντολή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ντολή έκφραση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 = b+5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++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ντολή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if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a &gt;= b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max = a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max = b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3T16:28:41Z</dcterms:created>
  <dc:creator>Nikolaos S. Papaspyrou</dc:creator>
  <dc:description/>
  <dc:language>en-US</dc:language>
  <cp:lastModifiedBy>Nikolaos S. Papaspyrou</cp:lastModifiedBy>
  <cp:lastPrinted>2000-02-14T22:10:23Z</cp:lastPrinted>
  <dcterms:modified xsi:type="dcterms:W3CDTF">2000-02-15T18:44:37Z</dcterms:modified>
  <cp:revision>14</cp:revision>
  <dc:subject>ΛΟΓ102: Τεχνολογία Λογισμικού Ι</dc:subject>
  <dc:title>Διαφάνειες παρουσίασης</dc:title>
</cp:coreProperties>
</file>