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81F8-877D-4B82-8516-CE9936256DF7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9FCA-502C-4DAB-B8AD-74E4D4B02C76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2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χόλι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ισαγωγή στις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intf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αι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can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Τελεστές και εκφρά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ντολές και ροή ελέγχου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θετη εντολ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 &gt;= b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in =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 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 =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in 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i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 = 1, s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i &lt;= 10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410080" y="2362320"/>
            <a:ext cx="3046320" cy="2666880"/>
            <a:chOff x="5410080" y="2362320"/>
            <a:chExt cx="3046320" cy="2666880"/>
          </a:xfrm>
        </p:grpSpPr>
        <p:sp>
          <p:nvSpPr>
            <p:cNvPr id="109" name=""/>
            <p:cNvSpPr/>
            <p:nvPr/>
          </p:nvSpPr>
          <p:spPr>
            <a:xfrm>
              <a:off x="5790960" y="2895480"/>
              <a:ext cx="1828800" cy="76212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συνθήκ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19560" y="4038480"/>
              <a:ext cx="13716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εντολή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05360" y="365760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19760" y="3276720"/>
              <a:ext cx="3812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3276720"/>
              <a:ext cx="0" cy="17524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5360" y="4572000"/>
              <a:ext cx="0" cy="228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410080" y="480060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410080" y="2666520"/>
              <a:ext cx="0" cy="2133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10080" y="266688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05360" y="2362320"/>
              <a:ext cx="0" cy="533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90960" y="358128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αληθ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50280" y="281952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ψευδ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5920" y="1758960"/>
            <a:ext cx="2716560" cy="825480"/>
          </a:xfrm>
          <a:prstGeom prst="rect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νθήκη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ντ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do-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i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 = 1, s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i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i &lt;= 1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484960" y="2209680"/>
            <a:ext cx="2667960" cy="2666880"/>
            <a:chOff x="5484960" y="2209680"/>
            <a:chExt cx="2667960" cy="2666880"/>
          </a:xfrm>
        </p:grpSpPr>
        <p:sp>
          <p:nvSpPr>
            <p:cNvPr id="125" name=""/>
            <p:cNvSpPr/>
            <p:nvPr/>
          </p:nvSpPr>
          <p:spPr>
            <a:xfrm>
              <a:off x="5486400" y="3733560"/>
              <a:ext cx="1828800" cy="76212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συνθήκ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15000" y="2742840"/>
              <a:ext cx="13716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εντολή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00800" y="449568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4114440"/>
              <a:ext cx="3808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00800" y="3276360"/>
              <a:ext cx="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84960" y="44193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ψευδ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46800" y="417492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αληθ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696080" y="2438280"/>
              <a:ext cx="0" cy="1676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400800" y="243828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00800" y="2209680"/>
              <a:ext cx="0" cy="533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147320" y="1828800"/>
            <a:ext cx="2899440" cy="1191240"/>
          </a:xfrm>
          <a:prstGeom prst="rect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ντ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νθήκη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77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,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77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1, s=0; i &lt;= 1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77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0" y="1981080"/>
            <a:ext cx="3063960" cy="1557000"/>
          </a:xfrm>
          <a:prstGeom prst="rect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χικοποίηση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νθήκη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βήμα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ντ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866920" y="1295280"/>
            <a:ext cx="3053160" cy="4343400"/>
            <a:chOff x="5866920" y="1295280"/>
            <a:chExt cx="3053160" cy="4343400"/>
          </a:xfrm>
        </p:grpSpPr>
        <p:sp>
          <p:nvSpPr>
            <p:cNvPr id="140" name=""/>
            <p:cNvSpPr/>
            <p:nvPr/>
          </p:nvSpPr>
          <p:spPr>
            <a:xfrm>
              <a:off x="6251400" y="2590560"/>
              <a:ext cx="1828800" cy="76212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συνθήκ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80000" y="3733560"/>
              <a:ext cx="13716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εντολή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65800" y="335268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83440" y="2971800"/>
              <a:ext cx="3808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8461440" y="2971800"/>
              <a:ext cx="2880" cy="2666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65800" y="5029200"/>
              <a:ext cx="0" cy="228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70520" y="525780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5866920" y="2361960"/>
              <a:ext cx="3240" cy="28958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70520" y="236196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51400" y="32763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αληθ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13960" y="251460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ψευδ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80000" y="4495680"/>
              <a:ext cx="13716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βήμα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165800" y="4267080"/>
              <a:ext cx="0" cy="228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51400" y="1676160"/>
              <a:ext cx="18288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αρχικοποίησ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65800" y="220968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5800" y="129528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rea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, s=0; i &lt; 10; i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d", &amp;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x == 9999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Sum is: %d\n",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tinu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, s=0; i &lt; 10; i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d", &amp;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x == 9999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tinu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Sum is: %d\n",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witch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ch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witch (ch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ase 'a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alpha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ase 'b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ase 'c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beta or c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fault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other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x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τικέτες και 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o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 = 1, s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op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i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i &lt; 1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oto loo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The sum is %d\n",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Όχι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oto: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ομημένος προγραμματισμός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χόλι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ταξύ </a:t>
            </a:r>
            <a:r>
              <a:rPr b="1" lang="el-GR" sz="3200" spc="-1" strike="noStrike">
                <a:solidFill>
                  <a:srgbClr val="003366"/>
                </a:solidFill>
                <a:latin typeface="Courier New"/>
              </a:rPr>
              <a:t>/*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αι </a:t>
            </a:r>
            <a:r>
              <a:rPr b="1" lang="el-GR" sz="3200" spc="-1" strike="noStrike">
                <a:solidFill>
                  <a:srgbClr val="003366"/>
                </a:solidFill>
                <a:latin typeface="Courier New"/>
              </a:rPr>
              <a:t>*/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* This simple program greets th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orld by saying "hello"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 /* eh? */ "Hello world!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παρακάτω είναι λάθ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* Nested /* comments */ are wrong!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κτύπωση με τη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rintf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λοί τύποι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%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ar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%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ouble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%lf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tring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%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, %lf, %c, %s\n"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, 1.2, 'a', "hello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, 1.200000, a, hell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με τη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canf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Ίδιοι κωδικοί για τους απλούς τύπου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d", &amp;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lf", &amp;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c", &amp;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Ένα πιο σύνθετο παράδειγμ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Give me a number: 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d", &amp;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Here is the number: %d\n", 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And its half: %lf\n"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double) n / 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ελεστές και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ιθμητικοί τελεσ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+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-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*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/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%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χεσιακοί τελεσ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==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!=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lt;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gt;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lt;=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gt;=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Λογικοί τελεσ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amp;&amp;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λογική σύζευξη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κα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||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λογική διάζευξη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ή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!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λογική άρνηση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όχ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.χ.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003366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x % 3 != 0) &amp;&amp; !finish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ελεστές και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έ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it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it (bitwise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amp;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ύζευξη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i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AN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|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ιάζευξη bi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O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^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ποκλειστική διάζευξη bi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XO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~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άρνηση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NO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lt;&lt;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ολίσθηση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it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στερ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gt;&gt;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ολίσθηση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it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ξι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0x0101 &amp; 0xfff0) &lt;&lt; 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0x04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ελεστές και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ής συνθήκ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a &gt;= b) ? a : b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ής παράθε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-1, b+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ές ανάθε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b+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+= x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ισοδύναμο με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a + 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ές αύξησης και μείω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++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--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ιμή πριν τη μεταβ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++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--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ιμή μετά τη μεταβ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ενή εντολ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έκφρα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b+5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 &gt;= b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 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 =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0-02-15T18:44:37Z</dcterms:modified>
  <cp:revision>14</cp:revision>
  <dc:subject>ΛΟΓ102: Τεχνολογία Λογισμικού Ι</dc:subject>
  <dc:title>Διαφάνειες παρουσίασης</dc:title>
</cp:coreProperties>
</file>