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B90B-BFBF-4CBA-A082-CF102025AA4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7C1B-C94B-41BF-9A27-6921F81B706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 αναζήτη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91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97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102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111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116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148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 σε αυ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ULL;     // not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;        //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&l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15T18:44:54Z</dcterms:modified>
  <cp:revision>111</cp:revision>
  <dc:subject>ΛΟΓ102: Τεχνολογία Λογισμικού Ι</dc:subject>
  <dc:title>Διαφάνειες παρουσίασης</dc:title>
</cp:coreProperties>
</file>