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37AE-2D5C-4B1B-80D8-EAACDF26559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4162-CEA6-474C-B4BB-4DF5BE61592A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αδικά δένδρα αναζήτησ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arch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ά δένδρα με τι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κάτω ιδιότητε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ια κάθε κόμβο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αριστερ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ικρό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ι οι κόμβοι του</a:t>
            </a:r>
            <a:br>
              <a:rPr sz="2800"/>
            </a:b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δεξιού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ιού έχου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ιμέ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γαλύτερες ή ίσε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ς τιμής του κόμβ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638680" y="1905120"/>
            <a:ext cx="3124440" cy="4419360"/>
            <a:chOff x="5638680" y="1905120"/>
            <a:chExt cx="3124440" cy="4419360"/>
          </a:xfrm>
        </p:grpSpPr>
        <p:sp>
          <p:nvSpPr>
            <p:cNvPr id="91" name=""/>
            <p:cNvSpPr/>
            <p:nvPr/>
          </p:nvSpPr>
          <p:spPr>
            <a:xfrm>
              <a:off x="5638680" y="2262240"/>
              <a:ext cx="3124440" cy="406224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324480" y="3900600"/>
              <a:ext cx="381240" cy="285480"/>
              <a:chOff x="6324480" y="3900600"/>
              <a:chExt cx="381240" cy="285480"/>
            </a:xfrm>
          </p:grpSpPr>
          <p:sp>
            <p:nvSpPr>
              <p:cNvPr id="97" name=""/>
              <p:cNvSpPr/>
              <p:nvPr/>
            </p:nvSpPr>
            <p:spPr>
              <a:xfrm>
                <a:off x="65149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244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788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335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867280" y="3900600"/>
              <a:ext cx="381240" cy="285480"/>
              <a:chOff x="5867280" y="3900600"/>
              <a:chExt cx="381240" cy="285480"/>
            </a:xfrm>
          </p:grpSpPr>
          <p:sp>
            <p:nvSpPr>
              <p:cNvPr id="102" name=""/>
              <p:cNvSpPr/>
              <p:nvPr/>
            </p:nvSpPr>
            <p:spPr>
              <a:xfrm>
                <a:off x="6057720" y="3900600"/>
                <a:ext cx="0" cy="1900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7280" y="409068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21640" y="413820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76360" y="41860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848720" y="5326200"/>
              <a:ext cx="685440" cy="571320"/>
              <a:chOff x="7848720" y="5326200"/>
              <a:chExt cx="685440" cy="57132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7905600" y="5268960"/>
                <a:ext cx="57132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848720" y="561204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91440" y="5612040"/>
                <a:ext cx="0" cy="2854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8229600" y="5826240"/>
              <a:ext cx="380880" cy="284040"/>
              <a:chOff x="8229600" y="5826240"/>
              <a:chExt cx="380880" cy="284040"/>
            </a:xfrm>
          </p:grpSpPr>
          <p:sp>
            <p:nvSpPr>
              <p:cNvPr id="111" name=""/>
              <p:cNvSpPr/>
              <p:nvPr/>
            </p:nvSpPr>
            <p:spPr>
              <a:xfrm>
                <a:off x="84200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296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772400" y="5826240"/>
              <a:ext cx="380880" cy="284040"/>
              <a:chOff x="7772400" y="5826240"/>
              <a:chExt cx="380880" cy="284040"/>
            </a:xfrm>
          </p:grpSpPr>
          <p:sp>
            <p:nvSpPr>
              <p:cNvPr id="116" name=""/>
              <p:cNvSpPr/>
              <p:nvPr/>
            </p:nvSpPr>
            <p:spPr>
              <a:xfrm>
                <a:off x="7962840" y="5826240"/>
                <a:ext cx="0" cy="189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772400" y="601524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477120" y="4400640"/>
              <a:ext cx="685440" cy="569880"/>
              <a:chOff x="6477120" y="4400640"/>
              <a:chExt cx="685440" cy="569880"/>
            </a:xfrm>
          </p:grpSpPr>
          <p:sp>
            <p:nvSpPr>
              <p:cNvPr id="121" name=""/>
              <p:cNvSpPr/>
              <p:nvPr/>
            </p:nvSpPr>
            <p:spPr>
              <a:xfrm rot="5400000">
                <a:off x="653472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647712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1984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858000" y="4898880"/>
              <a:ext cx="380880" cy="285840"/>
              <a:chOff x="6858000" y="4898880"/>
              <a:chExt cx="380880" cy="285840"/>
            </a:xfrm>
          </p:grpSpPr>
          <p:sp>
            <p:nvSpPr>
              <p:cNvPr id="125" name=""/>
              <p:cNvSpPr/>
              <p:nvPr/>
            </p:nvSpPr>
            <p:spPr>
              <a:xfrm>
                <a:off x="70484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80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123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9667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400800" y="4898880"/>
              <a:ext cx="380880" cy="285840"/>
              <a:chOff x="6400800" y="4898880"/>
              <a:chExt cx="380880" cy="285840"/>
            </a:xfrm>
          </p:grpSpPr>
          <p:sp>
            <p:nvSpPr>
              <p:cNvPr id="130" name=""/>
              <p:cNvSpPr/>
              <p:nvPr/>
            </p:nvSpPr>
            <p:spPr>
              <a:xfrm>
                <a:off x="659124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00800" y="5089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55160" y="513684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0952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543800" y="4400640"/>
              <a:ext cx="685440" cy="569880"/>
              <a:chOff x="7543800" y="4400640"/>
              <a:chExt cx="685440" cy="56988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7601400" y="434268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543800" y="468576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86520" y="468576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467480" y="4898880"/>
              <a:ext cx="381240" cy="285840"/>
              <a:chOff x="7467480" y="4898880"/>
              <a:chExt cx="381240" cy="285840"/>
            </a:xfrm>
          </p:grpSpPr>
          <p:sp>
            <p:nvSpPr>
              <p:cNvPr id="139" name=""/>
              <p:cNvSpPr/>
              <p:nvPr/>
            </p:nvSpPr>
            <p:spPr>
              <a:xfrm>
                <a:off x="7657920" y="4898880"/>
                <a:ext cx="0" cy="19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67480" y="508932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21840" y="5136840"/>
                <a:ext cx="272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76560" y="5184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144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77120" y="2475000"/>
              <a:ext cx="685440" cy="569880"/>
              <a:chOff x="6477120" y="2475000"/>
              <a:chExt cx="685440" cy="569880"/>
            </a:xfrm>
          </p:grpSpPr>
          <p:sp>
            <p:nvSpPr>
              <p:cNvPr id="148" name=""/>
              <p:cNvSpPr/>
              <p:nvPr/>
            </p:nvSpPr>
            <p:spPr>
              <a:xfrm rot="5400000">
                <a:off x="653472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47712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1984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H="1">
              <a:off x="6248520" y="2975040"/>
              <a:ext cx="38088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10280" y="2975040"/>
              <a:ext cx="304920" cy="426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85764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43800" y="3900600"/>
              <a:ext cx="304920" cy="5000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77320" y="4898880"/>
              <a:ext cx="152280" cy="427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4880" y="2387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16760" y="331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136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3416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51680" y="5232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80080" y="4305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 δυαδικά δένδρα αναζήτησης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ευκολύνουν την αναζήτηση στοιχείων σε αυτ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δρομι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η τιμή που ζητείται είναι στη ρίζα, βρέθηκ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ικρό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αριστερό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 είναι μεγαλύτερη από την τιμή της ρίζας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κεί να αναζητηθεί στο δεξί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 αναζήτηση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Node * treeSearch (tree t, int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NULL;     // not fou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-&gt;data ==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t;        // fou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-&gt;data &lt; ke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treeSearch(t-&gt;lef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treeSearch(t-&gt;right, ke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4-16T11:32:50Z</cp:lastPrinted>
  <dcterms:modified xsi:type="dcterms:W3CDTF">2000-05-15T18:44:54Z</dcterms:modified>
  <cp:revision>111</cp:revision>
  <dc:subject>ΛΟΓ102: Τεχνολογία Λογισμικού Ι</dc:subject>
  <dc:title>Διαφάνειες παρουσίασης</dc:title>
</cp:coreProperties>
</file>