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69CC-3C6D-4C99-9CBD-C955CCC9C1CB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880" y="45720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102: Τεχνολογία Λογισμικού 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102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376A-860D-46C4-922A-544FF5FCC94E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12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υαδικά δένδρα αναζήτηση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 αναζήτηση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Binary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earch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tre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υαδικά δένδρα με τις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ακάτω ιδιότητες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για κάθε κόμβο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λοι οι κόμβοι του</a:t>
            </a:r>
            <a:br>
              <a:rPr sz="2800"/>
            </a:br>
            <a:r>
              <a:rPr b="0" lang="el-GR" sz="2800" spc="-1" strike="noStrike">
                <a:solidFill>
                  <a:srgbClr val="004c2b"/>
                </a:solidFill>
                <a:latin typeface="Times New Roman"/>
              </a:rPr>
              <a:t>αριστερού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παιδιού έχουν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ιμέ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μικρότερες ή ίσες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ης τιμής του κόμβ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λοι οι κόμβοι του</a:t>
            </a:r>
            <a:br>
              <a:rPr sz="2800"/>
            </a:br>
            <a:r>
              <a:rPr b="0" lang="el-GR" sz="2800" spc="-1" strike="noStrike">
                <a:solidFill>
                  <a:srgbClr val="004c2b"/>
                </a:solidFill>
                <a:latin typeface="Times New Roman"/>
              </a:rPr>
              <a:t>δεξιού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παιδιού έχουν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ιμέ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μεγαλύτερες ή ίσες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ης τιμής του κόμβ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638680" y="1905120"/>
            <a:ext cx="3124440" cy="4419360"/>
            <a:chOff x="5638680" y="1905120"/>
            <a:chExt cx="3124440" cy="4419360"/>
          </a:xfrm>
        </p:grpSpPr>
        <p:sp>
          <p:nvSpPr>
            <p:cNvPr id="91" name=""/>
            <p:cNvSpPr/>
            <p:nvPr/>
          </p:nvSpPr>
          <p:spPr>
            <a:xfrm>
              <a:off x="5638680" y="2262240"/>
              <a:ext cx="3124440" cy="406224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5943600" y="3402000"/>
              <a:ext cx="685440" cy="569880"/>
              <a:chOff x="5943600" y="3402000"/>
              <a:chExt cx="685440" cy="569880"/>
            </a:xfrm>
          </p:grpSpPr>
          <p:sp>
            <p:nvSpPr>
              <p:cNvPr id="93" name=""/>
              <p:cNvSpPr/>
              <p:nvPr/>
            </p:nvSpPr>
            <p:spPr>
              <a:xfrm rot="5400000">
                <a:off x="6001200" y="334404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5943600" y="368712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286320" y="368712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6324480" y="3900600"/>
              <a:ext cx="381240" cy="285480"/>
              <a:chOff x="6324480" y="3900600"/>
              <a:chExt cx="381240" cy="285480"/>
            </a:xfrm>
          </p:grpSpPr>
          <p:sp>
            <p:nvSpPr>
              <p:cNvPr id="97" name=""/>
              <p:cNvSpPr/>
              <p:nvPr/>
            </p:nvSpPr>
            <p:spPr>
              <a:xfrm>
                <a:off x="6514920" y="3900600"/>
                <a:ext cx="0" cy="1900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324480" y="409068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378840" y="4138200"/>
                <a:ext cx="272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33560" y="418608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867280" y="3900600"/>
              <a:ext cx="381240" cy="285480"/>
              <a:chOff x="5867280" y="3900600"/>
              <a:chExt cx="381240" cy="285480"/>
            </a:xfrm>
          </p:grpSpPr>
          <p:sp>
            <p:nvSpPr>
              <p:cNvPr id="102" name=""/>
              <p:cNvSpPr/>
              <p:nvPr/>
            </p:nvSpPr>
            <p:spPr>
              <a:xfrm>
                <a:off x="6057720" y="3900600"/>
                <a:ext cx="0" cy="1900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867280" y="409068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921640" y="4138200"/>
                <a:ext cx="272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976360" y="418608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7848720" y="5326200"/>
              <a:ext cx="685440" cy="571320"/>
              <a:chOff x="7848720" y="5326200"/>
              <a:chExt cx="685440" cy="571320"/>
            </a:xfrm>
          </p:grpSpPr>
          <p:sp>
            <p:nvSpPr>
              <p:cNvPr id="107" name=""/>
              <p:cNvSpPr/>
              <p:nvPr/>
            </p:nvSpPr>
            <p:spPr>
              <a:xfrm rot="5400000">
                <a:off x="7905600" y="5268960"/>
                <a:ext cx="57132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7848720" y="561204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191440" y="5612040"/>
                <a:ext cx="0" cy="2854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8229600" y="5826240"/>
              <a:ext cx="380880" cy="284040"/>
              <a:chOff x="8229600" y="5826240"/>
              <a:chExt cx="380880" cy="284040"/>
            </a:xfrm>
          </p:grpSpPr>
          <p:sp>
            <p:nvSpPr>
              <p:cNvPr id="111" name=""/>
              <p:cNvSpPr/>
              <p:nvPr/>
            </p:nvSpPr>
            <p:spPr>
              <a:xfrm>
                <a:off x="8420040" y="5826240"/>
                <a:ext cx="0" cy="189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229600" y="601524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283960" y="606276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338320" y="611028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772400" y="5826240"/>
              <a:ext cx="380880" cy="284040"/>
              <a:chOff x="7772400" y="5826240"/>
              <a:chExt cx="380880" cy="284040"/>
            </a:xfrm>
          </p:grpSpPr>
          <p:sp>
            <p:nvSpPr>
              <p:cNvPr id="116" name=""/>
              <p:cNvSpPr/>
              <p:nvPr/>
            </p:nvSpPr>
            <p:spPr>
              <a:xfrm>
                <a:off x="7962840" y="5826240"/>
                <a:ext cx="0" cy="189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772400" y="601524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826760" y="606276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881120" y="611028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6477120" y="4400640"/>
              <a:ext cx="685440" cy="569880"/>
              <a:chOff x="6477120" y="4400640"/>
              <a:chExt cx="685440" cy="569880"/>
            </a:xfrm>
          </p:grpSpPr>
          <p:sp>
            <p:nvSpPr>
              <p:cNvPr id="121" name=""/>
              <p:cNvSpPr/>
              <p:nvPr/>
            </p:nvSpPr>
            <p:spPr>
              <a:xfrm rot="5400000">
                <a:off x="6534720" y="434268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6477120" y="468576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819840" y="468576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6858000" y="4898880"/>
              <a:ext cx="380880" cy="285840"/>
              <a:chOff x="6858000" y="4898880"/>
              <a:chExt cx="380880" cy="285840"/>
            </a:xfrm>
          </p:grpSpPr>
          <p:sp>
            <p:nvSpPr>
              <p:cNvPr id="125" name=""/>
              <p:cNvSpPr/>
              <p:nvPr/>
            </p:nvSpPr>
            <p:spPr>
              <a:xfrm>
                <a:off x="7048440" y="4898880"/>
                <a:ext cx="0" cy="19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858000" y="508932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912360" y="513684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966720" y="518472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6400800" y="4898880"/>
              <a:ext cx="380880" cy="285840"/>
              <a:chOff x="6400800" y="4898880"/>
              <a:chExt cx="380880" cy="285840"/>
            </a:xfrm>
          </p:grpSpPr>
          <p:sp>
            <p:nvSpPr>
              <p:cNvPr id="130" name=""/>
              <p:cNvSpPr/>
              <p:nvPr/>
            </p:nvSpPr>
            <p:spPr>
              <a:xfrm>
                <a:off x="6591240" y="4898880"/>
                <a:ext cx="0" cy="19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400800" y="508932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455160" y="513684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509520" y="518472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7543800" y="4400640"/>
              <a:ext cx="685440" cy="569880"/>
              <a:chOff x="7543800" y="4400640"/>
              <a:chExt cx="685440" cy="569880"/>
            </a:xfrm>
          </p:grpSpPr>
          <p:sp>
            <p:nvSpPr>
              <p:cNvPr id="135" name=""/>
              <p:cNvSpPr/>
              <p:nvPr/>
            </p:nvSpPr>
            <p:spPr>
              <a:xfrm rot="5400000">
                <a:off x="7601400" y="434268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7543800" y="468576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886520" y="468576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7467480" y="4898880"/>
              <a:ext cx="381240" cy="285840"/>
              <a:chOff x="7467480" y="4898880"/>
              <a:chExt cx="381240" cy="285840"/>
            </a:xfrm>
          </p:grpSpPr>
          <p:sp>
            <p:nvSpPr>
              <p:cNvPr id="139" name=""/>
              <p:cNvSpPr/>
              <p:nvPr/>
            </p:nvSpPr>
            <p:spPr>
              <a:xfrm>
                <a:off x="7657920" y="4898880"/>
                <a:ext cx="0" cy="19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467480" y="508932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521840" y="5136840"/>
                <a:ext cx="272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576560" y="518472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7010280" y="3402000"/>
              <a:ext cx="685440" cy="569880"/>
              <a:chOff x="7010280" y="3402000"/>
              <a:chExt cx="685440" cy="569880"/>
            </a:xfrm>
          </p:grpSpPr>
          <p:sp>
            <p:nvSpPr>
              <p:cNvPr id="144" name=""/>
              <p:cNvSpPr/>
              <p:nvPr/>
            </p:nvSpPr>
            <p:spPr>
              <a:xfrm rot="5400000">
                <a:off x="7067880" y="334404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7010280" y="368712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353000" y="368712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477120" y="2475000"/>
              <a:ext cx="685440" cy="569880"/>
              <a:chOff x="6477120" y="2475000"/>
              <a:chExt cx="685440" cy="569880"/>
            </a:xfrm>
          </p:grpSpPr>
          <p:sp>
            <p:nvSpPr>
              <p:cNvPr id="148" name=""/>
              <p:cNvSpPr/>
              <p:nvPr/>
            </p:nvSpPr>
            <p:spPr>
              <a:xfrm rot="5400000">
                <a:off x="6534720" y="241704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6477120" y="276012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819840" y="276012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 flipH="1">
              <a:off x="6248520" y="2975040"/>
              <a:ext cx="380880" cy="426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10280" y="2975040"/>
              <a:ext cx="304920" cy="426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6857640" y="3900600"/>
              <a:ext cx="304920" cy="5000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43800" y="3900600"/>
              <a:ext cx="304920" cy="5000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077320" y="4898880"/>
              <a:ext cx="152280" cy="4273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81680" y="1905120"/>
              <a:ext cx="0" cy="569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54880" y="23875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116760" y="3314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13600" y="3314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34160" y="43052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58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51680" y="52322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7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80080" y="43052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 αναζήτηση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α δυαδικά δένδρα αναζήτησης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ιευκολύνουν την αναζήτηση στοιχείων σε αυτά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αδρομική αναζήτ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 η τιμή που ζητείται είναι στη ρίζα, βρέθηκε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 είναι μικρότερη από την τιμή της ρίζας,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ρκεί να αναζητηθεί στο αριστερό παιδ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 είναι μεγαλύτερη από την τιμή της ρίζας,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ρκεί να αναζητηθεί στο δεξί παιδ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 αναζήτηση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αζήτ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reeNode * treeSearch (tree t, int ke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t =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NULL;     // not foun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t-&gt;data == ke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t;        // foun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t-&gt;data &lt; ke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treeSearch(t-&gt;left, ke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treeSearch(t-&gt;right, ke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4-16T11:32:50Z</cp:lastPrinted>
  <dcterms:modified xsi:type="dcterms:W3CDTF">2000-05-15T18:44:54Z</dcterms:modified>
  <cp:revision>111</cp:revision>
  <dc:subject>ΛΟΓ102: Τεχνολογία Λογισμικού Ι</dc:subject>
  <dc:title>Διαφάνειες παρουσίασης</dc:title>
</cp:coreProperties>
</file>