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1938-6236-4CF4-BBF6-CE928DD6542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9677-8B56-41E6-AC88-27DB94074A5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1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άσχιση δένδρ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άσταση αριθμητικών εκφρ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1 = treeDepth((*t)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2 = treeDepth((*t)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1 &lt;= d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&amp;((*t)-&gt;lef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&amp;((*t)-&gt;righ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ιρά με την οποία διασχίζονται οι κόμβ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p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άτ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bread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81360" y="2219400"/>
            <a:ext cx="4381560" cy="3316320"/>
            <a:chOff x="4581360" y="2219400"/>
            <a:chExt cx="4381560" cy="3316320"/>
          </a:xfrm>
        </p:grpSpPr>
        <p:sp>
          <p:nvSpPr>
            <p:cNvPr id="229" name=""/>
            <p:cNvSpPr/>
            <p:nvPr/>
          </p:nvSpPr>
          <p:spPr>
            <a:xfrm>
              <a:off x="6351480" y="2219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08880" y="2252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2120" y="31701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2808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32640" y="31701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8860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81360" y="418464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02120" y="42181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2016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7900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2640" y="50925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6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8860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51480" y="5092560"/>
              <a:ext cx="84312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088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2120" y="50925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280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6108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1992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92600" y="266220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51680" y="3613320"/>
              <a:ext cx="5922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3613320"/>
              <a:ext cx="1179720" cy="57132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92600" y="4627440"/>
              <a:ext cx="117972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951320" y="4627440"/>
              <a:ext cx="59220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5800" y="30481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7, 14, 12, 30, 50, 55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πλάτ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50, 7, 14, 55, 12, 30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β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ύ απλά, με χρήση αναδρο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reePrintD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", t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PrintDF(t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PrintDF(t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η βοήθε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υρά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για την αποθήκευση δεικτών προς τους κόμβους που δεν έχουν επισκεφ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reePrintB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 q =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Insert(&amp;q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, υλοποίηση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!queueIsEmpty(q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Node * n = queueRemove(&amp;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-&gt;lef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Insert(&amp;q, n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-&gt;righ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Insert(&amp;q, n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* (24 / 2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σταση σε μορφή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ού δένδ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θμοί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φύλλ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ελεστ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ου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62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σχιση 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ν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ανάμεσα σ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φορούμενη: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υνήθης μορ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τον άνθρωπ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3 * (24 / 2)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89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πριν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άγνω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 * 3 / 24 2 - 9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315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ι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μετά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οτίμ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24 2 / * 9 3 -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341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3505320"/>
            <a:ext cx="6019920" cy="2666880"/>
            <a:chOff x="1752480" y="3505320"/>
            <a:chExt cx="6019920" cy="2666880"/>
          </a:xfrm>
        </p:grpSpPr>
        <p:sp>
          <p:nvSpPr>
            <p:cNvPr id="90" name=""/>
            <p:cNvSpPr/>
            <p:nvPr/>
          </p:nvSpPr>
          <p:spPr>
            <a:xfrm>
              <a:off x="2590560" y="350532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4495680"/>
              <a:ext cx="6019920" cy="16765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286000" y="4952880"/>
              <a:ext cx="685800" cy="381240"/>
              <a:chOff x="2286000" y="4952880"/>
              <a:chExt cx="685800" cy="381240"/>
            </a:xfrm>
          </p:grpSpPr>
          <p:sp>
            <p:nvSpPr>
              <p:cNvPr id="93" name=""/>
              <p:cNvSpPr/>
              <p:nvPr/>
            </p:nvSpPr>
            <p:spPr>
              <a:xfrm>
                <a:off x="228600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2908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581280" y="4952880"/>
              <a:ext cx="685800" cy="381240"/>
              <a:chOff x="3581280" y="4952880"/>
              <a:chExt cx="685800" cy="381240"/>
            </a:xfrm>
          </p:grpSpPr>
          <p:sp>
            <p:nvSpPr>
              <p:cNvPr id="96" name=""/>
              <p:cNvSpPr/>
              <p:nvPr/>
            </p:nvSpPr>
            <p:spPr>
              <a:xfrm>
                <a:off x="358128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2436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819160" y="5054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76560" y="4952880"/>
              <a:ext cx="685800" cy="381240"/>
              <a:chOff x="4876560" y="4952880"/>
              <a:chExt cx="685800" cy="381240"/>
            </a:xfrm>
          </p:grpSpPr>
          <p:sp>
            <p:nvSpPr>
              <p:cNvPr id="100" name=""/>
              <p:cNvSpPr/>
              <p:nvPr/>
            </p:nvSpPr>
            <p:spPr>
              <a:xfrm>
                <a:off x="487656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1964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114800" y="50547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6172200" y="4952880"/>
              <a:ext cx="685800" cy="381240"/>
              <a:chOff x="6172200" y="4952880"/>
              <a:chExt cx="685800" cy="381240"/>
            </a:xfrm>
          </p:grpSpPr>
          <p:sp>
            <p:nvSpPr>
              <p:cNvPr id="104" name=""/>
              <p:cNvSpPr/>
              <p:nvPr/>
            </p:nvSpPr>
            <p:spPr>
              <a:xfrm>
                <a:off x="617220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1528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410080" y="5054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705360" y="5054760"/>
              <a:ext cx="799920" cy="457200"/>
              <a:chOff x="6705360" y="5054760"/>
              <a:chExt cx="799920" cy="457200"/>
            </a:xfrm>
          </p:grpSpPr>
          <p:sp>
            <p:nvSpPr>
              <p:cNvPr id="108" name=""/>
              <p:cNvSpPr/>
              <p:nvPr/>
            </p:nvSpPr>
            <p:spPr>
              <a:xfrm>
                <a:off x="6705360" y="505476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38520" y="505476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72120" y="535932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48080" y="543564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24400" y="551196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2438280" y="3962520"/>
              <a:ext cx="83808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360" y="3962520"/>
              <a:ext cx="190512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3680" y="3581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3240" y="3581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54280" y="514368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9560" y="514368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44840" y="514368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40480" y="514368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514600" y="5257800"/>
              <a:ext cx="533160" cy="457200"/>
              <a:chOff x="2514600" y="5257800"/>
              <a:chExt cx="533160" cy="457200"/>
            </a:xfrm>
          </p:grpSpPr>
          <p:sp>
            <p:nvSpPr>
              <p:cNvPr id="122" name=""/>
              <p:cNvSpPr/>
              <p:nvPr/>
            </p:nvSpPr>
            <p:spPr>
              <a:xfrm>
                <a:off x="2781000" y="52578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55623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90560" y="5638680"/>
                <a:ext cx="38052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66880" y="5715000"/>
                <a:ext cx="228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562000" y="5257440"/>
              <a:ext cx="1143360" cy="305280"/>
              <a:chOff x="5562000" y="5257440"/>
              <a:chExt cx="1143360" cy="30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6705360" y="52578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943600" y="556272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943600" y="525744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562000" y="525780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266720" y="5257440"/>
              <a:ext cx="1143360" cy="305280"/>
              <a:chOff x="4266720" y="5257440"/>
              <a:chExt cx="1143360" cy="305280"/>
            </a:xfrm>
          </p:grpSpPr>
          <p:sp>
            <p:nvSpPr>
              <p:cNvPr id="132" name=""/>
              <p:cNvSpPr/>
              <p:nvPr/>
            </p:nvSpPr>
            <p:spPr>
              <a:xfrm>
                <a:off x="5410080" y="52578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4648320" y="556272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648320" y="525744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266720" y="525780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971440" y="5257440"/>
              <a:ext cx="1143360" cy="305280"/>
              <a:chOff x="2971440" y="5257440"/>
              <a:chExt cx="1143360" cy="30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114800" y="52578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353040" y="556272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353040" y="525744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971440" y="525780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Doubly linked lis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ς τον επόμενο κόμβ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ς τον προηγούμενο κόμβ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List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DList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List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ListNode_tag * pre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D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 dlist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dlistInsert (d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Node * n = (D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D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prev = 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prev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-&gt;prev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στερό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ξί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638680" y="1905120"/>
            <a:ext cx="3124080" cy="4419000"/>
            <a:chOff x="5638680" y="1905120"/>
            <a:chExt cx="3124080" cy="4419000"/>
          </a:xfrm>
        </p:grpSpPr>
        <p:sp>
          <p:nvSpPr>
            <p:cNvPr id="151" name=""/>
            <p:cNvSpPr/>
            <p:nvPr/>
          </p:nvSpPr>
          <p:spPr>
            <a:xfrm>
              <a:off x="5638680" y="2261160"/>
              <a:ext cx="3124080" cy="406296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153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324480" y="3900600"/>
              <a:ext cx="380880" cy="285120"/>
              <a:chOff x="6324480" y="3900600"/>
              <a:chExt cx="380880" cy="285120"/>
            </a:xfrm>
          </p:grpSpPr>
          <p:sp>
            <p:nvSpPr>
              <p:cNvPr id="157" name=""/>
              <p:cNvSpPr/>
              <p:nvPr/>
            </p:nvSpPr>
            <p:spPr>
              <a:xfrm>
                <a:off x="65149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244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788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332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867280" y="3900600"/>
              <a:ext cx="380880" cy="285120"/>
              <a:chOff x="5867280" y="3900600"/>
              <a:chExt cx="380880" cy="285120"/>
            </a:xfrm>
          </p:grpSpPr>
          <p:sp>
            <p:nvSpPr>
              <p:cNvPr id="162" name=""/>
              <p:cNvSpPr/>
              <p:nvPr/>
            </p:nvSpPr>
            <p:spPr>
              <a:xfrm>
                <a:off x="60577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672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216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760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848360" y="5326560"/>
              <a:ext cx="685440" cy="569880"/>
              <a:chOff x="7848360" y="5326560"/>
              <a:chExt cx="685440" cy="569880"/>
            </a:xfrm>
          </p:grpSpPr>
          <p:sp>
            <p:nvSpPr>
              <p:cNvPr id="167" name=""/>
              <p:cNvSpPr/>
              <p:nvPr/>
            </p:nvSpPr>
            <p:spPr>
              <a:xfrm rot="5400000">
                <a:off x="7905960" y="5268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7848360" y="5611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91080" y="5611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229600" y="5825160"/>
              <a:ext cx="380880" cy="285120"/>
              <a:chOff x="8229600" y="5825160"/>
              <a:chExt cx="380880" cy="285120"/>
            </a:xfrm>
          </p:grpSpPr>
          <p:sp>
            <p:nvSpPr>
              <p:cNvPr id="171" name=""/>
              <p:cNvSpPr/>
              <p:nvPr/>
            </p:nvSpPr>
            <p:spPr>
              <a:xfrm>
                <a:off x="84200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296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772400" y="5825160"/>
              <a:ext cx="380880" cy="285120"/>
              <a:chOff x="7772400" y="5825160"/>
              <a:chExt cx="380880" cy="285120"/>
            </a:xfrm>
          </p:grpSpPr>
          <p:sp>
            <p:nvSpPr>
              <p:cNvPr id="176" name=""/>
              <p:cNvSpPr/>
              <p:nvPr/>
            </p:nvSpPr>
            <p:spPr>
              <a:xfrm>
                <a:off x="79628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724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476760" y="4399560"/>
              <a:ext cx="685440" cy="569880"/>
              <a:chOff x="6476760" y="4399560"/>
              <a:chExt cx="685440" cy="569880"/>
            </a:xfrm>
          </p:grpSpPr>
          <p:sp>
            <p:nvSpPr>
              <p:cNvPr id="181" name=""/>
              <p:cNvSpPr/>
              <p:nvPr/>
            </p:nvSpPr>
            <p:spPr>
              <a:xfrm rot="5400000">
                <a:off x="653436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47676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1948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58000" y="4898880"/>
              <a:ext cx="380880" cy="284760"/>
              <a:chOff x="6858000" y="4898880"/>
              <a:chExt cx="380880" cy="284760"/>
            </a:xfrm>
          </p:grpSpPr>
          <p:sp>
            <p:nvSpPr>
              <p:cNvPr id="185" name=""/>
              <p:cNvSpPr/>
              <p:nvPr/>
            </p:nvSpPr>
            <p:spPr>
              <a:xfrm>
                <a:off x="70484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580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123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667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400800" y="4898880"/>
              <a:ext cx="380880" cy="284760"/>
              <a:chOff x="6400800" y="4898880"/>
              <a:chExt cx="380880" cy="284760"/>
            </a:xfrm>
          </p:grpSpPr>
          <p:sp>
            <p:nvSpPr>
              <p:cNvPr id="190" name=""/>
              <p:cNvSpPr/>
              <p:nvPr/>
            </p:nvSpPr>
            <p:spPr>
              <a:xfrm>
                <a:off x="65912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008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551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095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543800" y="4399560"/>
              <a:ext cx="685440" cy="569880"/>
              <a:chOff x="7543800" y="4399560"/>
              <a:chExt cx="685440" cy="569880"/>
            </a:xfrm>
          </p:grpSpPr>
          <p:sp>
            <p:nvSpPr>
              <p:cNvPr id="195" name=""/>
              <p:cNvSpPr/>
              <p:nvPr/>
            </p:nvSpPr>
            <p:spPr>
              <a:xfrm rot="5400000">
                <a:off x="760140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4380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8652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4898880"/>
              <a:ext cx="380880" cy="284760"/>
              <a:chOff x="7467480" y="4898880"/>
              <a:chExt cx="380880" cy="284760"/>
            </a:xfrm>
          </p:grpSpPr>
          <p:sp>
            <p:nvSpPr>
              <p:cNvPr id="199" name=""/>
              <p:cNvSpPr/>
              <p:nvPr/>
            </p:nvSpPr>
            <p:spPr>
              <a:xfrm>
                <a:off x="765792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6748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52184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7620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204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476760" y="2475000"/>
              <a:ext cx="685440" cy="569880"/>
              <a:chOff x="6476760" y="2475000"/>
              <a:chExt cx="685440" cy="569880"/>
            </a:xfrm>
          </p:grpSpPr>
          <p:sp>
            <p:nvSpPr>
              <p:cNvPr id="208" name=""/>
              <p:cNvSpPr/>
              <p:nvPr/>
            </p:nvSpPr>
            <p:spPr>
              <a:xfrm rot="5400000">
                <a:off x="653436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47676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1948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>
              <a:off x="6247800" y="2974320"/>
              <a:ext cx="3812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10280" y="2974320"/>
              <a:ext cx="30492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8580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38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76960" y="4898880"/>
              <a:ext cx="1526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85800" y="2666880"/>
            <a:ext cx="4724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έχει</a:t>
            </a:r>
            <a:br>
              <a:rPr sz="3200"/>
            </a:b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0, 1 ή 2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Ρίζ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ο αρχικός κόμβος του δένδ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Φύλλ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κόμβοι χωρίς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υ: αριθμός συνδέσμων από τη ρίζ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e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Tree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TreeNode_tag * lef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TreeNode_tag * r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Tree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TreeNode * tre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ό δένδ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 tree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ιστική απόφαση: σε ποιο σημείο του δένδρου θα εισαχθεί ο νέος κόμβ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σοζυγισμένα δένδρ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trees)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βάθος δυο φύλλων διαφέρει το πολύ κατά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άρτηση μέγιστου βά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reeDepth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== NULL) 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 + max(treeDepth(t-&gt;left)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treeDepth(t-&gt;right));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reeBalancedInsert (tree * t, int 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t = (Tree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malloc(sizeof(Tree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t)-&gt;data =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t)-&gt;left = (*t)-&gt;righ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4-16T11:32:50Z</cp:lastPrinted>
  <dcterms:modified xsi:type="dcterms:W3CDTF">2000-05-09T16:48:40Z</dcterms:modified>
  <cp:revision>109</cp:revision>
  <dc:subject>ΛΟΓ102: Τεχνολογία Λογισμικού Ι</dc:subject>
  <dc:title>Διαφάνειες παρουσίασης</dc:title>
</cp:coreProperties>
</file>