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257F-924E-42C9-B7EB-D4CD3AC00B1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4D2-EC61-426D-857D-C47DCAF940B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ουρά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στοίβα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ομη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υκλικέ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list s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The element was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not foun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Print (s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l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l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 = l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li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st c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119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124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istNode *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υκλική κίν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lp-&gt;la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4-19T08:59:33Z</dcterms:modified>
  <cp:revision>97</cp:revision>
  <dc:subject>ΛΟΓ102: Τεχνολογία Λογισμικού Ι</dc:subject>
  <dc:title>Διαφάνειες παρουσίασης</dc:title>
</cp:coreProperties>
</file>