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9C88-97F5-48BE-A72A-F5431C1A1F14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DC18-5348-4535-9E5E-66DA8B61C3BF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0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Υλοποίηση ουρά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Υλοποίηση στοίβα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αξινομημένε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υκλικέ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 = *s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 = (*sp)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sp = (*sp)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ξέτα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tackTop (stack 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s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Nothing to see"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" in an empty stack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s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li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ListNode * s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list slistEmpty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listInsert (s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 = (ListNode *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*lp != NULL &amp;&amp; (*lp)-&gt;data &lt;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 = &amp;((*lp)-&gt;nex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next = *l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lp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listRemove (s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*lp != NULL &amp;&amp; (*lp)-&gt;data &lt;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 = &amp;((*lp)-&gt;nex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*lp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The element was"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" not found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ομημένες λίστες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 = *l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lp = (*lp)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listPrint (slist 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l !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l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 = l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la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cli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ist clistEmpty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= { NULL, NULL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676520" y="1371600"/>
            <a:ext cx="6019560" cy="1905120"/>
            <a:chOff x="1676520" y="1371600"/>
            <a:chExt cx="6019560" cy="1905120"/>
          </a:xfrm>
        </p:grpSpPr>
        <p:sp>
          <p:nvSpPr>
            <p:cNvPr id="119" name=""/>
            <p:cNvSpPr/>
            <p:nvPr/>
          </p:nvSpPr>
          <p:spPr>
            <a:xfrm>
              <a:off x="1676520" y="2133720"/>
              <a:ext cx="6019560" cy="114300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209680" y="2362320"/>
              <a:ext cx="685800" cy="380880"/>
              <a:chOff x="2209680" y="2362320"/>
              <a:chExt cx="685800" cy="380880"/>
            </a:xfrm>
          </p:grpSpPr>
          <p:sp>
            <p:nvSpPr>
              <p:cNvPr id="121" name=""/>
              <p:cNvSpPr/>
              <p:nvPr/>
            </p:nvSpPr>
            <p:spPr>
              <a:xfrm>
                <a:off x="220968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5276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505320" y="2362320"/>
              <a:ext cx="685800" cy="380880"/>
              <a:chOff x="3505320" y="2362320"/>
              <a:chExt cx="685800" cy="380880"/>
            </a:xfrm>
          </p:grpSpPr>
          <p:sp>
            <p:nvSpPr>
              <p:cNvPr id="124" name=""/>
              <p:cNvSpPr/>
              <p:nvPr/>
            </p:nvSpPr>
            <p:spPr>
              <a:xfrm>
                <a:off x="350532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4840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2743200" y="25527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800600" y="2362320"/>
              <a:ext cx="685800" cy="380880"/>
              <a:chOff x="4800600" y="2362320"/>
              <a:chExt cx="685800" cy="380880"/>
            </a:xfrm>
          </p:grpSpPr>
          <p:sp>
            <p:nvSpPr>
              <p:cNvPr id="128" name=""/>
              <p:cNvSpPr/>
              <p:nvPr/>
            </p:nvSpPr>
            <p:spPr>
              <a:xfrm>
                <a:off x="480060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4368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4038480" y="25527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095880" y="2362320"/>
              <a:ext cx="685800" cy="380880"/>
              <a:chOff x="6095880" y="2362320"/>
              <a:chExt cx="685800" cy="380880"/>
            </a:xfrm>
          </p:grpSpPr>
          <p:sp>
            <p:nvSpPr>
              <p:cNvPr id="132" name=""/>
              <p:cNvSpPr/>
              <p:nvPr/>
            </p:nvSpPr>
            <p:spPr>
              <a:xfrm>
                <a:off x="609588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3896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5334120" y="25527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362320" y="274284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62320" y="3048120"/>
              <a:ext cx="46479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29400" y="2590920"/>
              <a:ext cx="3808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10280" y="2590920"/>
              <a:ext cx="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1371600"/>
              <a:ext cx="236232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590920" y="1828800"/>
              <a:ext cx="121896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34120" y="1828800"/>
              <a:ext cx="114300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75800" y="1447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5360" y="1447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a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clistInsert (c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 = (ListNode *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l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 = l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nex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next = l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last-&gt;nex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listRemove (clist * l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l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Nothing to remove"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" from empty list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 = lp-&gt;first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typedef struct list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struct list_tag * 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} ListN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istNode *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la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queu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lp-&gt;first == lp-&gt;last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lp-&gt;firs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 = lp-&gt;las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 = lp-&gt;first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lp-&gt;last-&gt;nex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last-&gt;next = l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υκλική κίν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clistMove (clist * l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lp-&gt;first !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 = lp-&gt;first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last = lp-&gt;last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clistPrint (clist 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n = l.first; n != NULL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n = n-&gt;next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n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-&gt;next == l.firs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ουρά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queue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ueueE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mpty = { NULL, NULL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queueInsert (queue * q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 = (ListNode *) 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qp-&gt;las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p-&gt;first = q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p-&gt;last-&gt;nex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queueRemove (queue * q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q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Nothing to remove"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" from an empty queue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 = q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 = qp-&gt;first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p-&gt;first = qp-&gt;first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qp-&gt;firs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p-&gt;las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ξέτα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queueHead (queue q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q.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Nothing to see"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" in an empty queue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q.first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ac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ListNode * stac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στοίβ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stack stackEmpty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tackPush (stack * s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 = (ListNode *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next = *s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sp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tackPop (stack * s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*sp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Nothing to remove"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" from an empty stack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4-16T11:32:50Z</cp:lastPrinted>
  <dcterms:modified xsi:type="dcterms:W3CDTF">2000-04-19T08:59:33Z</dcterms:modified>
  <cp:revision>97</cp:revision>
  <dc:subject>ΛΟΓ102: Τεχνολογία Λογισμικού Ι</dc:subject>
  <dc:title>Διαφάνειες παρουσίασης</dc:title>
</cp:coreProperties>
</file>