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67067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9222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15228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39222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5228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56204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198108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198108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198108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8415360" y="6484680"/>
            <a:ext cx="933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5989D-18F7-4EB5-9C25-7B652F61AADA}" type="slidenum">
              <a:rPr b="0" lang="en-GB" sz="1400" spc="-1" strike="noStrike">
                <a:solidFill>
                  <a:srgbClr val="004c2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8280" y="6484680"/>
            <a:ext cx="84362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ctr" pos="49579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Νίκος Παπασπύρου</a:t>
            </a: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ΛΟΓ102: Τεχνολογία Λογισμικού Ι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617400" y="1066680"/>
            <a:ext cx="7917120" cy="76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90480" y="3797280"/>
            <a:ext cx="7653600" cy="48564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3048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880" y="457200"/>
            <a:ext cx="579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ahoma"/>
              </a:rPr>
              <a:t>ΛΟΓ102: Τεχνολογία Λογισμικού Ι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69920" y="2057400"/>
            <a:ext cx="34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ahoma"/>
              </a:rPr>
              <a:t>nickie@softlab.ntua.gr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28520" y="1547640"/>
            <a:ext cx="528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660066"/>
                </a:solidFill>
                <a:latin typeface="Times New Roman"/>
              </a:rPr>
              <a:t>Διδάσκων: 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Νίκος Παπασπύρου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065960" y="914400"/>
            <a:ext cx="70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333333"/>
                </a:solidFill>
                <a:latin typeface="Tahoma"/>
              </a:rPr>
              <a:t>http://www.softlab.ntua.gr/~nickie/TUC/log102/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415360" y="6484680"/>
            <a:ext cx="933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C0501-0066-4D03-9C4A-65A7BF3E37AB}" type="slidenum">
              <a:rPr b="0" lang="en-GB" sz="1400" spc="-1" strike="noStrike">
                <a:solidFill>
                  <a:srgbClr val="004c2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8280" y="6484680"/>
            <a:ext cx="84362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ctr" pos="49579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Νίκος Παπασπύρου</a:t>
            </a: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ΛΟΓ102: Τεχνολογία Λογισμικού Ι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7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3" marL="1333440" algn="ctr">
              <a:spcBef>
                <a:spcPts val="499"/>
              </a:spcBef>
              <a:buClr>
                <a:srgbClr val="333333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4" marL="1752480" algn="ctr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5" marL="1752480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6" marL="1752480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3048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Διαφάνειες παρουσίασης #1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434304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3366"/>
                </a:solidFill>
                <a:latin typeface="Times New Roman"/>
              </a:rPr>
              <a:t>Ιστορία και γενικά χαρακτηριστικά της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Hello world!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3366"/>
                </a:solidFill>
                <a:latin typeface="Times New Roman"/>
              </a:rPr>
              <a:t>Εκτέλεση προγραμμάτων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3366"/>
                </a:solidFill>
                <a:latin typeface="Times New Roman"/>
              </a:rPr>
              <a:t>Απλοί τύποι δεδομένων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3366"/>
                </a:solidFill>
                <a:latin typeface="Times New Roman"/>
              </a:rPr>
              <a:t>Ορισμός μεταβλητών, αρχικοποίηση, σταθερές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Σταθερέ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1905120"/>
                <a:tab algn="l" pos="3137040"/>
                <a:tab algn="l" pos="4762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Ακέραιες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0"/>
                <a:tab algn="l" pos="1905120"/>
                <a:tab algn="l" pos="3137040"/>
                <a:tab algn="l" pos="4762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42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0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-1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δεκαδικές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131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905120"/>
                <a:tab algn="l" pos="3137040"/>
                <a:tab algn="l" pos="4762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037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οκταδικές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131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905120"/>
                <a:tab algn="l" pos="3137040"/>
                <a:tab algn="l" pos="4762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0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x1f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δεκαεξαδικές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131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905120"/>
                <a:tab algn="l" pos="3137040"/>
                <a:tab algn="l" pos="4762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42U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42L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42UL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unsigned &amp; long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1905120"/>
                <a:tab algn="l" pos="3137040"/>
                <a:tab algn="l" pos="4762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Κινητής υποδιαστολής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0"/>
                <a:tab algn="l" pos="1905120"/>
                <a:tab algn="l" pos="3137040"/>
                <a:tab algn="l" pos="4762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42.0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-1.3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δεκαδικές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131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905120"/>
                <a:tab algn="l" pos="3137040"/>
                <a:tab algn="l" pos="4762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2.99e8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με δύναμη του 10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131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905120"/>
                <a:tab algn="l" pos="3137040"/>
                <a:tab algn="l" pos="4762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42.0F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42.0L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float &amp; long double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Σταθερέ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1905120"/>
                <a:tab algn="l" pos="3137040"/>
                <a:tab algn="l" pos="4762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Χαρακτήρα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905120"/>
                <a:tab algn="l" pos="3137040"/>
                <a:tab algn="l" pos="4762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'a'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'0'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'$'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1905120"/>
                <a:tab algn="l" pos="3137040"/>
                <a:tab algn="l" pos="4762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Ειδικοί χαρακτήρες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35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905120"/>
                <a:tab algn="l" pos="3137040"/>
                <a:tab algn="l" pos="4762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\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n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αλλαγή γραμμής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905120"/>
                <a:tab algn="l" pos="3137040"/>
                <a:tab algn="l" pos="4762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\'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απόστροφος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905120"/>
                <a:tab algn="l" pos="3137040"/>
                <a:tab algn="l" pos="4762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\\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χαρακτήρας 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\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 (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backslash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905120"/>
                <a:tab algn="l" pos="3137040"/>
                <a:tab algn="l" pos="4762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\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t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αλλαγή στήλης (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tab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905120"/>
                <a:tab algn="l" pos="3137040"/>
                <a:tab algn="l" pos="4762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\"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εισαγωγικό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905120"/>
                <a:tab algn="l" pos="3137040"/>
                <a:tab algn="l" pos="4762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\0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χαρακτήρας με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ASCII 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= 0 (null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905120"/>
                <a:tab algn="l" pos="3137040"/>
                <a:tab algn="l" pos="4762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\037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  » 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 με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ASCII 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= 37 (οκταδικό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905120"/>
                <a:tab algn="l" pos="3137040"/>
                <a:tab algn="l" pos="4762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\0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x1f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  » 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 με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ASCII 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= 1f (δεκαεξαδικό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Σταθερέ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i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1905120"/>
                <a:tab algn="l" pos="3137040"/>
                <a:tab algn="l" pos="4762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Συμβολοσειρές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1905120"/>
                <a:tab algn="l" pos="3137040"/>
                <a:tab algn="l" pos="4762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"a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bc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"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"Hello world!\n"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"a\"51\""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1905120"/>
                <a:tab algn="l" pos="3137040"/>
                <a:tab algn="l" pos="4762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Δηλώσεις σταθερών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905120"/>
                <a:tab algn="l" pos="3137040"/>
                <a:tab algn="l" pos="4762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const int size = 10, num = 5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905120"/>
                <a:tab algn="l" pos="3137040"/>
                <a:tab algn="l" pos="4762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onst double pi = 3.14159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905120"/>
                <a:tab algn="l" pos="3137040"/>
                <a:tab algn="l" pos="4762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const char newline = '\n'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Η ιστορία της 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987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0000"/>
                </a:solidFill>
                <a:latin typeface="Times New Roman"/>
              </a:rPr>
              <a:t>1969-1973</a:t>
            </a: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AT&amp;T Bell Labs, Dennis Ritchie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19987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0000"/>
                </a:solidFill>
                <a:latin typeface="Times New Roman"/>
              </a:rPr>
              <a:t>1978</a:t>
            </a: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“The C Programming Language”</a:t>
            </a:r>
            <a:br>
              <a:rPr sz="3200"/>
            </a:b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K&amp;R: Kernighan &amp; Ritchie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19987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1983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Σύσταση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ANSI Standardization Committee X3J11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19987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1989-1990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Αποδοχή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ANSI/ISO Standard</a:t>
            </a:r>
            <a:br>
              <a:rPr sz="3200"/>
            </a:br>
            <a:r>
              <a:rPr b="0" lang="en-US" sz="3200" spc="-1" strike="noStrike">
                <a:solidFill>
                  <a:srgbClr val="003366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 ANSI C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19987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1990-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Αναθεώρηση του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tandard </a:t>
            </a: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υπό εξέλιξη.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9X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Χαρακτηριστικά της 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C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(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2662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Γλώσσα προστακτικού προγραμματισμού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2662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Γλώσσα μετρίου επιπέδου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2662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Οικονομία στην έκφραση</a:t>
            </a:r>
            <a:br>
              <a:rPr sz="3200"/>
            </a:b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(λιτή και περιεκτική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2662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Σχετικά χαλαρό σύστημα τύπων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2662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Φιλοσοφία: </a:t>
            </a:r>
            <a:r>
              <a:rPr b="0" lang="el-GR" sz="3200" spc="-1" strike="noStrike">
                <a:solidFill>
                  <a:srgbClr val="ff0000"/>
                </a:solidFill>
                <a:latin typeface="Times New Roman"/>
              </a:rPr>
              <a:t>ο προγραμματιστής έχει πλήρη έλεγχο και ευθύνεται για τα σφάλματά του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Χαρακτηριστικά της 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C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(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2662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Ιδιαίτερα δημοφιλής στην πράξη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2662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Έχει χρησιμοποιηθεί για τον προγραμματισμό ευρέως φάσματος συστημάτων και εφαρμογών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2662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Έχει χρησιμοποιηθεί ως βάση για πληθώρα άλλων γλωσσών: </a:t>
            </a:r>
            <a:r>
              <a:rPr b="0" lang="el-GR" sz="3200" spc="-1" strike="noStrike">
                <a:solidFill>
                  <a:srgbClr val="ff0000"/>
                </a:solidFill>
                <a:latin typeface="Times New Roman"/>
              </a:rPr>
              <a:t>C++, Java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Hello world!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#include &lt;stdio.h&gt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void main (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rintf("Hello world!\n"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Παρατηρήσεις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Η επικοινωνία με τον «έξω» κόσμο γίνεται μέσω της </a:t>
            </a:r>
            <a:r>
              <a:rPr b="0" lang="el-GR" sz="2800" spc="-1" strike="noStrike">
                <a:solidFill>
                  <a:srgbClr val="ff0000"/>
                </a:solidFill>
                <a:latin typeface="Times New Roman"/>
              </a:rPr>
              <a:t>βιβλιοθήκης συναρτήσεων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Το σημείο έναρξης του προγράμματος είναι η «κύρια» συνάρτηση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main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Εκτέλεση προγραμμάτων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31120" y="2209680"/>
            <a:ext cx="12931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3366"/>
                </a:solidFill>
                <a:latin typeface="Times New Roman"/>
              </a:rPr>
              <a:t>Πηγαίος</a:t>
            </a:r>
            <a:br>
              <a:rPr sz="2400"/>
            </a:br>
            <a:r>
              <a:rPr b="1" lang="el-GR" sz="2400" spc="-1" strike="noStrike">
                <a:solidFill>
                  <a:srgbClr val="003366"/>
                </a:solidFill>
                <a:latin typeface="Times New Roman"/>
              </a:rPr>
              <a:t>κώδικας</a:t>
            </a:r>
            <a:br>
              <a:rPr sz="2400"/>
            </a:br>
            <a:r>
              <a:rPr b="1" lang="el-GR" sz="2400" spc="-1" strike="noStrike">
                <a:solidFill>
                  <a:srgbClr val="003366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source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048120" y="1905120"/>
            <a:ext cx="2514600" cy="990360"/>
          </a:xfrm>
          <a:prstGeom prst="rect">
            <a:avLst/>
          </a:prstGeom>
          <a:solidFill>
            <a:srgbClr val="ffcccc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33"/>
                </a:solidFill>
                <a:latin typeface="Times New Roman"/>
              </a:rPr>
              <a:t>Μεταγλωττιστής</a:t>
            </a:r>
            <a:br>
              <a:rPr sz="2400"/>
            </a:b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C (compiler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4952880"/>
            <a:ext cx="1676520" cy="990720"/>
          </a:xfrm>
          <a:prstGeom prst="rect">
            <a:avLst/>
          </a:prstGeom>
          <a:solidFill>
            <a:srgbClr val="ffcccc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33"/>
                </a:solidFill>
                <a:latin typeface="Times New Roman"/>
              </a:rPr>
              <a:t>Συνδέτης</a:t>
            </a:r>
            <a:br>
              <a:rPr sz="2400"/>
            </a:b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(linker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127280" y="4356000"/>
            <a:ext cx="17092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3366"/>
                </a:solidFill>
                <a:latin typeface="Times New Roman"/>
              </a:rPr>
              <a:t>Βιβλιοθήκη</a:t>
            </a:r>
            <a:br>
              <a:rPr sz="2400"/>
            </a:br>
            <a:r>
              <a:rPr b="1" lang="el-GR" sz="2400" spc="-1" strike="noStrike">
                <a:solidFill>
                  <a:srgbClr val="003366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library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055640" y="1589040"/>
            <a:ext cx="19332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3366"/>
                </a:solidFill>
                <a:latin typeface="Times New Roman"/>
              </a:rPr>
              <a:t>Αρχεία</a:t>
            </a:r>
            <a:br>
              <a:rPr sz="2400"/>
            </a:br>
            <a:r>
              <a:rPr b="1" lang="el-GR" sz="2400" spc="-1" strike="noStrike">
                <a:solidFill>
                  <a:srgbClr val="003366"/>
                </a:solidFill>
                <a:latin typeface="Times New Roman"/>
              </a:rPr>
              <a:t>επικεφαλίδας</a:t>
            </a:r>
            <a:br>
              <a:rPr sz="2400"/>
            </a:br>
            <a:r>
              <a:rPr b="1" lang="el-GR" sz="2400" spc="-1" strike="noStrike">
                <a:solidFill>
                  <a:srgbClr val="003366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header files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356280" y="3429000"/>
            <a:ext cx="10630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3366"/>
                </a:solidFill>
                <a:latin typeface="Times New Roman"/>
              </a:rPr>
              <a:t>Object</a:t>
            </a:r>
            <a:br>
              <a:rPr sz="2400"/>
            </a:br>
            <a:r>
              <a:rPr b="1" lang="el-GR" sz="2400" spc="-1" strike="noStrike">
                <a:solidFill>
                  <a:srgbClr val="003366"/>
                </a:solidFill>
                <a:latin typeface="Times New Roman"/>
              </a:rPr>
              <a:t>cod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8240" y="4255920"/>
            <a:ext cx="175824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3366"/>
                </a:solidFill>
                <a:latin typeface="Times New Roman"/>
              </a:rPr>
              <a:t>Εκτελέσιμο</a:t>
            </a:r>
            <a:br>
              <a:rPr sz="2400"/>
            </a:br>
            <a:r>
              <a:rPr b="1" lang="el-GR" sz="2400" spc="-1" strike="noStrike">
                <a:solidFill>
                  <a:srgbClr val="003366"/>
                </a:solidFill>
                <a:latin typeface="Times New Roman"/>
              </a:rPr>
              <a:t>πρόγραμμα</a:t>
            </a:r>
            <a:br>
              <a:rPr sz="2400"/>
            </a:br>
            <a:r>
              <a:rPr b="1" lang="el-GR" sz="2400" spc="-1" strike="noStrike">
                <a:solidFill>
                  <a:srgbClr val="003366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executable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81080" y="2133720"/>
            <a:ext cx="1067040" cy="3045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343400" y="2895480"/>
            <a:ext cx="380880" cy="6858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4190760" y="4191120"/>
            <a:ext cx="533160" cy="7617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2285640" y="5562720"/>
            <a:ext cx="1066680" cy="2286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5562720" y="1828800"/>
            <a:ext cx="761760" cy="53352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5028840" y="5334120"/>
            <a:ext cx="1219320" cy="15228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914400" y="1523880"/>
            <a:ext cx="1295280" cy="76212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33"/>
                </a:solidFill>
                <a:latin typeface="Times New Roman"/>
              </a:rPr>
              <a:t>hello.c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343400" y="3581280"/>
            <a:ext cx="1295280" cy="76212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33"/>
                </a:solidFill>
                <a:latin typeface="Times New Roman"/>
              </a:rPr>
              <a:t>hello.o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990720" y="5486400"/>
            <a:ext cx="1295280" cy="76212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33"/>
                </a:solidFill>
                <a:latin typeface="Times New Roman"/>
              </a:rPr>
              <a:t>hello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95880" y="4952880"/>
            <a:ext cx="1295640" cy="7621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33"/>
                </a:solidFill>
                <a:latin typeface="Times New Roman"/>
              </a:rPr>
              <a:t>printf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095880" y="1295280"/>
            <a:ext cx="1295640" cy="7621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33"/>
                </a:solidFill>
                <a:latin typeface="Times New Roman"/>
              </a:rPr>
              <a:t>stdio.h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Τύποι δεδομένων (απλοί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Ακέραιοι αριθμοί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har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Καθορισμός προσήμανσης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signed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unsigned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Καθορισμός μεγέθους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short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long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Αριθμοί κινητής υποδιαστολής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float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doubl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Πίνακας απλών τύπων δεδομένων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Courier New"/>
              </a:rPr>
              <a:t>char , signed char , unsigned char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signed</a:t>
            </a:r>
            <a:r>
              <a:rPr b="1" lang="en-US" sz="2400" spc="-1" strike="noStrike">
                <a:solidFill>
                  <a:srgbClr val="003366"/>
                </a:solidFill>
                <a:latin typeface="Courier New"/>
              </a:rPr>
              <a:t> short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int</a:t>
            </a:r>
            <a:r>
              <a:rPr b="1" lang="en-US" sz="2400" spc="-1" strike="noStrike">
                <a:solidFill>
                  <a:srgbClr val="003366"/>
                </a:solidFill>
                <a:latin typeface="Courier New"/>
              </a:rPr>
              <a:t> , unsigned short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int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signed</a:t>
            </a:r>
            <a:r>
              <a:rPr b="1" lang="en-US" sz="2400" spc="-1" strike="noStrike">
                <a:solidFill>
                  <a:srgbClr val="003366"/>
                </a:solidFill>
                <a:latin typeface="Courier New"/>
              </a:rPr>
              <a:t> int , unsigned int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signed</a:t>
            </a:r>
            <a:r>
              <a:rPr b="1" lang="en-US" sz="2400" spc="-1" strike="noStrike">
                <a:solidFill>
                  <a:srgbClr val="003366"/>
                </a:solidFill>
                <a:latin typeface="Courier New"/>
              </a:rPr>
              <a:t> long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int</a:t>
            </a:r>
            <a:r>
              <a:rPr b="1" lang="en-US" sz="2400" spc="-1" strike="noStrike">
                <a:solidFill>
                  <a:srgbClr val="003366"/>
                </a:solidFill>
                <a:latin typeface="Courier New"/>
              </a:rPr>
              <a:t> , unsigned long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int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Courier New"/>
              </a:rPr>
              <a:t>float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Courier New"/>
              </a:rPr>
              <a:t>doubl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Courier New"/>
              </a:rPr>
              <a:t>long doubl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3366"/>
                </a:solidFill>
                <a:latin typeface="Times New Roman"/>
              </a:rPr>
              <a:t>Με </a:t>
            </a:r>
            <a:r>
              <a:rPr b="0" lang="el-GR" sz="2400" spc="-1" strike="noStrike">
                <a:solidFill>
                  <a:srgbClr val="ff0000"/>
                </a:solidFill>
                <a:latin typeface="Times New Roman"/>
              </a:rPr>
              <a:t>κόκκινο</a:t>
            </a:r>
            <a:r>
              <a:rPr b="0" lang="el-GR" sz="2400" spc="-1" strike="noStrike">
                <a:solidFill>
                  <a:srgbClr val="003366"/>
                </a:solidFill>
                <a:latin typeface="Times New Roman"/>
              </a:rPr>
              <a:t> χρώμα όσα μπορούν να παραλειφθούν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62120" y="1752480"/>
            <a:ext cx="7619760" cy="3733920"/>
          </a:xfrm>
          <a:prstGeom prst="rect">
            <a:avLst/>
          </a:prstGeom>
          <a:noFill/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2120" y="2362320"/>
            <a:ext cx="761976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62120" y="2857680"/>
            <a:ext cx="761976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62120" y="3352680"/>
            <a:ext cx="761976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2120" y="3886200"/>
            <a:ext cx="761976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62120" y="4381560"/>
            <a:ext cx="761976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62120" y="4915080"/>
            <a:ext cx="761976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Ορισμός μεταβλητών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8001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x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x, y, z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double r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unsigned long abc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Αρχικοποίηση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x = 1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x, y = 0, z = 2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double r = 1.87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unsigned long abc = 42000000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3T16:28:41Z</dcterms:created>
  <dc:creator>Nikolaos S. Papaspyrou</dc:creator>
  <dc:description/>
  <dc:language>en-US</dc:language>
  <cp:lastModifiedBy>Nikolaos S. Papaspyrou</cp:lastModifiedBy>
  <cp:lastPrinted>2000-02-14T22:10:23Z</cp:lastPrinted>
  <dcterms:modified xsi:type="dcterms:W3CDTF">2000-02-15T18:41:54Z</dcterms:modified>
  <cp:revision>21</cp:revision>
  <dc:subject>ΛΟΓ102: Τεχνολογία Λογισμικού Ι</dc:subject>
  <dc:title>Διαφάνειες παρουσίασης</dc:title>
</cp:coreProperties>
</file>