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501E-F902-4A92-A99B-AE01292CB47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E0CC-FB33-4092-A397-861EA43A494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Ιστορία και γενικά χαρακτηριστικά 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llo worl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κτέλεση προγραμμάτ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μεταβλητών, αρχικοποίηση, σταθε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κτ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δεκαεξ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nsigned &amp; lo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.3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2.99e8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ύναμη του 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L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oat &amp; long dou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αρακτή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a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0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$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γραμ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στροφ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\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ckslash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στήλη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b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σαγωγικ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0 (nul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37 (οκτ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1f (δεκαεξ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c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Hello world!\n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\"51\"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λώσεις σταθε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int size = 10, num = 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double pi = 3.14159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char newline = '\n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Η ιστορία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69-1973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AT&amp;T Bell Labs, Dennis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78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The C Programming Language”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&amp;R: Kernighan &amp;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3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στασ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 Standardization Committee X3J1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9-1990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οχ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/ISO Standard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SI 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90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θεώρηση τ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ndard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ό εξέλιξη.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9X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προστακτικού προγραμματισμ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μετρίου επιπέ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κονομία στην έκφραση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λιτή και περιεκτική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τικά χαλαρό σύστημα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Φιλοσοφία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ο προγραμματιστής έχει πλήρη έλεγχο και ευθύνεται για τα σφάλματά τ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ιαίτερα δημοφιλής στην πρά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για τον προγραμματισμό ευρέως φάσματος συστημάτων και εφαρμογ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ως βάση για πληθώρα άλλων γλωσσών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C++, Ja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Hello world!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τηρ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πικοινωνία με τον «έξω» κόσμο γίνεται μέσω της 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βιβλιοθήκης συναρτήσ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σημείο έναρξης του προγράμματος είναι η «κύρια» συνάρτηση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έλεση προγραμμάτ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1120" y="2209680"/>
            <a:ext cx="129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ηγαίο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κώδικ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urc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19051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Μεταγλωττιστή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 (compil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952880"/>
            <a:ext cx="167652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Συνδέτη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link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27280" y="4356000"/>
            <a:ext cx="170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Βιβλιοθήκη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br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55640" y="1589040"/>
            <a:ext cx="193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πικεφαλίδ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er fil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6280" y="3429000"/>
            <a:ext cx="106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Object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240" y="4255920"/>
            <a:ext cx="1758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κτελέσιμο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ρόγραμμ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ecutabl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2133720"/>
            <a:ext cx="10670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895480"/>
            <a:ext cx="380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190760" y="4191120"/>
            <a:ext cx="53316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85640" y="55627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1828800"/>
            <a:ext cx="76176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28840" y="5334120"/>
            <a:ext cx="1219320" cy="152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5238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5812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48640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49528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print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2952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tdio.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δεδομένων (απλοί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οι αριθμο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προσήμαν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μεγέ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οί 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ας απλών τύπων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char , signed char , unsigned ch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int , unsigned 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long 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ε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κόκκινο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 χρώμα όσα μπορούν να παραλειφθούν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752480"/>
            <a:ext cx="7619760" cy="373392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36232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57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38156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9150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μεταβλητ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,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 = 0, z =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 = 1.8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 = 420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0-02-15T18:41:54Z</dcterms:modified>
  <cp:revision>21</cp:revision>
  <dc:subject>ΛΟΓ102: Τεχνολογία Λογισμικού Ι</dc:subject>
  <dc:title>Διαφάνειες παρουσίασης</dc:title>
</cp:coreProperties>
</file>