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5175-5AD0-4577-BBB7-CD3D9F51867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4C42-6CA7-4DAA-A93F-0ED32F649A90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Ιστορία και γενικά χαρακτηριστικά τη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llo world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κτέλεση προγραμμάτ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λοί τύποι δεδο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ός μεταβλητών, αρχικοποίηση, σταθερ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έραι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1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κ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37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κτ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1f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δεκαεξ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U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U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nsigned &amp; lo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ινητής υποδιαστολ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1.3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κ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2.99e8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δύναμη του 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F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L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oat &amp; long doub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αρακτή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a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0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$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αγή γραμμ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στροφ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\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αρακτήρας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ckslash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αγή στήλη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b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ισαγωγικ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αρακτήρας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0 (null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37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»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37 (οκταδικό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1f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»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1f (δεκαεξαδικό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οσειρ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c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Hello world!\n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a\"51\"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λώσεις σταθε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int size = 10, num = 5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double pi = 3.14159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char newline = '\n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Η ιστορία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1969-1973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AT&amp;T Bell Labs, Dennis Ritchi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1978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“The C Programming Language”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&amp;R: Kernighan &amp; Ritchi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83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στασ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SI Standardization Committee X3J1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89-1990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δοχ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SI/ISO Standard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NSI 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90-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θεώρηση τ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andard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ό εξέλιξη.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9X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αρακτηριστικά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λώσσα προστακτικού προγραμματισμο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λώσσα μετρίου επιπέ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κονομία στην έκφραση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λιτή και περιεκτική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ετικά χαλαρό σύστημα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Φιλοσοφία: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ο προγραμματιστής έχει πλήρη έλεγχο και ευθύνεται για τα σφάλματά τ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αρακτηριστικά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διαίτερα δημοφιλής στην πρά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χει χρησιμοποιηθεί για τον προγραμματισμό ευρέως φάσματος συστημάτων και εφαρμογ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χει χρησιμοποιηθεί ως βάση για πληθώρα άλλων γλωσσών: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C++, Jav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Hello world!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Hello world!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τηρή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επικοινωνία με τον «έξω» κόσμο γίνεται μέσω της </a:t>
            </a:r>
            <a:r>
              <a:rPr b="0" lang="el-GR" sz="2800" spc="-1" strike="noStrike">
                <a:solidFill>
                  <a:srgbClr val="ff0000"/>
                </a:solidFill>
                <a:latin typeface="Times New Roman"/>
              </a:rPr>
              <a:t>βιβλιοθήκης συναρτήσ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σημείο έναρξης του προγράμματος είναι η «κύρια» συνάρτηση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έλεση προγραμμάτ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1120" y="2209680"/>
            <a:ext cx="129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Πηγαίο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κώδικα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ourc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1905120"/>
            <a:ext cx="2514600" cy="990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Times New Roman"/>
              </a:rPr>
              <a:t>Μεταγλωττιστή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 (compile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4952880"/>
            <a:ext cx="167652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Times New Roman"/>
              </a:rPr>
              <a:t>Συνδέτη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linke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27280" y="4356000"/>
            <a:ext cx="170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Βιβλιοθήκη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ibrar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55640" y="1589040"/>
            <a:ext cx="193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Αρχεία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επικεφαλίδα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eader file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6280" y="3429000"/>
            <a:ext cx="106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Object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240" y="4255920"/>
            <a:ext cx="1758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Εκτελέσιμο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πρόγραμμα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ecutabl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2133720"/>
            <a:ext cx="106704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2895480"/>
            <a:ext cx="380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190760" y="4191120"/>
            <a:ext cx="53316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85640" y="55627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62720" y="1828800"/>
            <a:ext cx="761760" cy="533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28840" y="5334120"/>
            <a:ext cx="1219320" cy="152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52388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.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358128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.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48640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4952880"/>
            <a:ext cx="1295640" cy="7621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print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1295280"/>
            <a:ext cx="1295640" cy="7621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stdio.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ύποι δεδομένων (απλοί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έραιοι αριθμο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θορισμός προσήμαν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θορισμός μεγέθ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hor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οί κινητής υποδιαστολ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ας απλών τύπων δεδο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char , signed char , unsigned cha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shor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, unsigned shor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int , unsigned 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long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, unsigned long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flo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long dou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Με 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</a:rPr>
              <a:t>κόκκινο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 χρώμα όσα μπορούν να παραλειφθούν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752480"/>
            <a:ext cx="7619760" cy="373392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36232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8576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38156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9150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μεταβλητώ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, y,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 long ab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 =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, y = 0, z = 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 = 1.8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 long abc = 420000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0-02-15T18:41:54Z</dcterms:modified>
  <cp:revision>21</cp:revision>
  <dc:subject>ΛΟΓ102: Τεχνολογία Λογισμικού Ι</dc:subject>
  <dc:title>Διαφάνειες παρουσίασης</dc:title>
</cp:coreProperties>
</file>