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156.xml.rels" ContentType="application/vnd.openxmlformats-package.relationships+xml"/>
  <Override PartName="/ppt/slides/_rels/slide13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5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17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6.xml.rels" ContentType="application/vnd.openxmlformats-package.relationships+xml"/>
  <Override PartName="/ppt/slides/_rels/slide190.xml.rels" ContentType="application/vnd.openxmlformats-package.relationships+xml"/>
  <Override PartName="/ppt/slides/_rels/slide18.xml.rels" ContentType="application/vnd.openxmlformats-package.relationships+xml"/>
  <Override PartName="/ppt/slides/_rels/slide120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70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98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6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27.xml.rels" ContentType="application/vnd.openxmlformats-package.relationships+xml"/>
  <Override PartName="/ppt/slides/_rels/slide199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137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9.xml.rels" ContentType="application/vnd.openxmlformats-package.relationships+xml"/>
  <Override PartName="/ppt/slides/_rels/slide178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0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38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158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8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3FB6-9CCA-4BD2-AC3A-CE4CD470271E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431172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5618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br>
              <a:rPr sz="24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Βασίλης Βεσκούκης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sz="2400" spc="-1" strike="noStrike">
                <a:solidFill>
                  <a:srgbClr val="660066"/>
                </a:solidFill>
                <a:latin typeface="Tahoma"/>
              </a:rPr>
              <a:t>bxb@cs.ntua.gr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)</a:t>
            </a:r>
            <a:br>
              <a:rPr sz="24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έτρος Στεφανέας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sz="2400" spc="-1" strike="noStrike">
                <a:solidFill>
                  <a:srgbClr val="660066"/>
                </a:solidFill>
                <a:latin typeface="Tahoma"/>
              </a:rPr>
              <a:t>petros@mail.ntua.gr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316B-462A-4C03-A433-AEAC2A5430F2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5618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ιάσε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5084640"/>
            <a:ext cx="640080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Η γλώσσα προγραμματισμού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ρογραμματιστικές τεχνικ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ομές δεδομέν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520" y="32655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DRAF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59960" y="430056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3</a:t>
            </a:r>
            <a:r>
              <a:rPr b="0" lang="el-GR" sz="3600" spc="-1" strike="noStrike">
                <a:solidFill>
                  <a:srgbClr val="0099cc"/>
                </a:solidFill>
                <a:latin typeface="Tahoma"/>
              </a:rPr>
              <a:t>0/03/0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θε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κέραι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-1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κ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37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κτ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1f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δεκαεξ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U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U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nsigned &amp; lo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ινητής υποδιαστολ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.0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-1.3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κ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2.99e8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δύναμη του 1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.0F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.0L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oat &amp; long doub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ξέτα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queueHead (queue q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q.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printf(stderr, "Nothing to see"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" in an empty queue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q.first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οίβ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Last In First Out (LIFO)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,τι μπαίνει τελευταίο, βγαίνει πρώτ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οίβα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ΑΤΔ: </a:t>
            </a:r>
            <a:r>
              <a:rPr b="1" sz="2800" spc="-1" strike="noStrike">
                <a:solidFill>
                  <a:srgbClr val="660066"/>
                </a:solidFill>
                <a:latin typeface="Courier New"/>
              </a:rPr>
              <a:t>stac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stack stack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stackPush (stack * sp, int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tackPop (stack * s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tackTop (stack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8" dur="5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3" dur="500"/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6" dur="500"/>
                                        <p:tgtEl>
                                          <p:spTgt spid="9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9" dur="500"/>
                                        <p:tgtEl>
                                          <p:spTgt spid="9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2" dur="500"/>
                                        <p:tgtEl>
                                          <p:spTgt spid="9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5" dur="500"/>
                                        <p:tgtEl>
                                          <p:spTgt spid="9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8" dur="500"/>
                                        <p:tgtEl>
                                          <p:spTgt spid="9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οίβ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με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295280" y="2514600"/>
            <a:ext cx="6019920" cy="2286000"/>
            <a:chOff x="1295280" y="2514600"/>
            <a:chExt cx="6019920" cy="2286000"/>
          </a:xfrm>
        </p:grpSpPr>
        <p:sp>
          <p:nvSpPr>
            <p:cNvPr id="905" name=""/>
            <p:cNvSpPr/>
            <p:nvPr/>
          </p:nvSpPr>
          <p:spPr>
            <a:xfrm>
              <a:off x="2133720" y="2514600"/>
              <a:ext cx="137160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295280" y="3505320"/>
              <a:ext cx="601992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7" name=""/>
            <p:cNvGrpSpPr/>
            <p:nvPr/>
          </p:nvGrpSpPr>
          <p:grpSpPr>
            <a:xfrm>
              <a:off x="1828800" y="3962520"/>
              <a:ext cx="685800" cy="380880"/>
              <a:chOff x="1828800" y="3962520"/>
              <a:chExt cx="685800" cy="380880"/>
            </a:xfrm>
          </p:grpSpPr>
          <p:sp>
            <p:nvSpPr>
              <p:cNvPr id="908" name=""/>
              <p:cNvSpPr/>
              <p:nvPr/>
            </p:nvSpPr>
            <p:spPr>
              <a:xfrm>
                <a:off x="18288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1718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3124080" y="3962520"/>
              <a:ext cx="685800" cy="380880"/>
              <a:chOff x="3124080" y="3962520"/>
              <a:chExt cx="685800" cy="380880"/>
            </a:xfrm>
          </p:grpSpPr>
          <p:sp>
            <p:nvSpPr>
              <p:cNvPr id="911" name=""/>
              <p:cNvSpPr/>
              <p:nvPr/>
            </p:nvSpPr>
            <p:spPr>
              <a:xfrm>
                <a:off x="312408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46716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>
              <a:off x="2362320" y="41529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4419720" y="3962520"/>
              <a:ext cx="685800" cy="380880"/>
              <a:chOff x="4419720" y="3962520"/>
              <a:chExt cx="685800" cy="380880"/>
            </a:xfrm>
          </p:grpSpPr>
          <p:sp>
            <p:nvSpPr>
              <p:cNvPr id="915" name=""/>
              <p:cNvSpPr/>
              <p:nvPr/>
            </p:nvSpPr>
            <p:spPr>
              <a:xfrm>
                <a:off x="441972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76280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917" name=""/>
            <p:cNvSpPr/>
            <p:nvPr/>
          </p:nvSpPr>
          <p:spPr>
            <a:xfrm>
              <a:off x="365760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5715000" y="3962520"/>
              <a:ext cx="685800" cy="380880"/>
              <a:chOff x="5715000" y="3962520"/>
              <a:chExt cx="685800" cy="380880"/>
            </a:xfrm>
          </p:grpSpPr>
          <p:sp>
            <p:nvSpPr>
              <p:cNvPr id="919" name=""/>
              <p:cNvSpPr/>
              <p:nvPr/>
            </p:nvSpPr>
            <p:spPr>
              <a:xfrm>
                <a:off x="57150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0580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495288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22" name=""/>
            <p:cNvGrpSpPr/>
            <p:nvPr/>
          </p:nvGrpSpPr>
          <p:grpSpPr>
            <a:xfrm>
              <a:off x="6248520" y="4191120"/>
              <a:ext cx="799920" cy="457200"/>
              <a:chOff x="6248520" y="4191120"/>
              <a:chExt cx="799920" cy="457200"/>
            </a:xfrm>
          </p:grpSpPr>
          <p:sp>
            <p:nvSpPr>
              <p:cNvPr id="923" name=""/>
              <p:cNvSpPr/>
              <p:nvPr/>
            </p:nvSpPr>
            <p:spPr>
              <a:xfrm>
                <a:off x="6248520" y="419112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781680" y="419112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515280" y="449568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591240" y="457200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667560" y="464832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 flipH="1">
              <a:off x="1980720" y="2971800"/>
              <a:ext cx="83844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255760" y="2590920"/>
              <a:ext cx="117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to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ac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ListNode * stac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στοίβ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stack stackEmpty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stackPush (stack * s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 = (ListNode *)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2" dur="5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5" dur="500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0" dur="500"/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3" dur="500"/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8" dur="500"/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1" dur="500"/>
                                        <p:tgtEl>
                                          <p:spTgt spid="9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4" dur="500"/>
                                        <p:tgtEl>
                                          <p:spTgt spid="9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7" dur="500"/>
                                        <p:tgtEl>
                                          <p:spTgt spid="9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0" dur="500"/>
                                        <p:tgtEl>
                                          <p:spTgt spid="9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3" dur="500"/>
                                        <p:tgtEl>
                                          <p:spTgt spid="9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6" dur="500"/>
                                        <p:tgtEl>
                                          <p:spTgt spid="9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9" dur="500"/>
                                        <p:tgtEl>
                                          <p:spTgt spid="9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next = *s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sp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tackPop (stack * s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*sp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Nothing to remove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" from an empty stack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6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9" dur="500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2" dur="500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5" dur="500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8" dur="500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3" dur="500"/>
                                        <p:tgtEl>
                                          <p:spTgt spid="9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6" dur="500"/>
                                        <p:tgtEl>
                                          <p:spTgt spid="9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9" dur="500"/>
                                        <p:tgtEl>
                                          <p:spTgt spid="9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2" dur="500"/>
                                        <p:tgtEl>
                                          <p:spTgt spid="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5" dur="500"/>
                                        <p:tgtEl>
                                          <p:spTgt spid="9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8" dur="500"/>
                                        <p:tgtEl>
                                          <p:spTgt spid="9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1" dur="500"/>
                                        <p:tgtEl>
                                          <p:spTgt spid="9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4" dur="500"/>
                                        <p:tgtEl>
                                          <p:spTgt spid="9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7" dur="500"/>
                                        <p:tgtEl>
                                          <p:spTgt spid="9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0" dur="500"/>
                                        <p:tgtEl>
                                          <p:spTgt spid="9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 = *s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sult = (*sp)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sp = (*sp)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7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0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3" dur="50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6" dur="500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9" dur="50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2" dur="500"/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5" dur="500"/>
                                        <p:tgtEl>
                                          <p:spTgt spid="9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ξέτα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tackTop (stack 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s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Nothing to see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" in an empty stack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s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2" dur="5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5" dur="500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8" dur="500"/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1" dur="500"/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4" dur="500"/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7" dur="500"/>
                                        <p:tgtEl>
                                          <p:spTgt spid="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0" dur="500"/>
                                        <p:tgtEl>
                                          <p:spTgt spid="9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3" dur="500"/>
                                        <p:tgtEl>
                                          <p:spTgt spid="9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6" dur="500"/>
                                        <p:tgtEl>
                                          <p:spTgt spid="9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9" dur="500"/>
                                        <p:tgtEl>
                                          <p:spTgt spid="9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1752480" y="3581280"/>
            <a:ext cx="6019920" cy="2666880"/>
            <a:chOff x="1752480" y="3581280"/>
            <a:chExt cx="6019920" cy="2666880"/>
          </a:xfrm>
        </p:grpSpPr>
        <p:sp>
          <p:nvSpPr>
            <p:cNvPr id="940" name=""/>
            <p:cNvSpPr/>
            <p:nvPr/>
          </p:nvSpPr>
          <p:spPr>
            <a:xfrm>
              <a:off x="2590560" y="3581280"/>
              <a:ext cx="236232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52480" y="4571640"/>
              <a:ext cx="6019920" cy="16765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2286000" y="5028840"/>
              <a:ext cx="685800" cy="381240"/>
              <a:chOff x="2286000" y="5028840"/>
              <a:chExt cx="685800" cy="381240"/>
            </a:xfrm>
          </p:grpSpPr>
          <p:sp>
            <p:nvSpPr>
              <p:cNvPr id="943" name=""/>
              <p:cNvSpPr/>
              <p:nvPr/>
            </p:nvSpPr>
            <p:spPr>
              <a:xfrm>
                <a:off x="2286000" y="502884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629080" y="502884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3581280" y="5028840"/>
              <a:ext cx="685800" cy="381240"/>
              <a:chOff x="3581280" y="5028840"/>
              <a:chExt cx="685800" cy="381240"/>
            </a:xfrm>
          </p:grpSpPr>
          <p:sp>
            <p:nvSpPr>
              <p:cNvPr id="946" name=""/>
              <p:cNvSpPr/>
              <p:nvPr/>
            </p:nvSpPr>
            <p:spPr>
              <a:xfrm>
                <a:off x="3581280" y="502884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924360" y="502884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948" name=""/>
            <p:cNvSpPr/>
            <p:nvPr/>
          </p:nvSpPr>
          <p:spPr>
            <a:xfrm>
              <a:off x="2819160" y="513072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49" name=""/>
            <p:cNvGrpSpPr/>
            <p:nvPr/>
          </p:nvGrpSpPr>
          <p:grpSpPr>
            <a:xfrm>
              <a:off x="4876560" y="5028840"/>
              <a:ext cx="685800" cy="381240"/>
              <a:chOff x="4876560" y="5028840"/>
              <a:chExt cx="685800" cy="381240"/>
            </a:xfrm>
          </p:grpSpPr>
          <p:sp>
            <p:nvSpPr>
              <p:cNvPr id="950" name=""/>
              <p:cNvSpPr/>
              <p:nvPr/>
            </p:nvSpPr>
            <p:spPr>
              <a:xfrm>
                <a:off x="4876560" y="502884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219640" y="502884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952" name=""/>
            <p:cNvSpPr/>
            <p:nvPr/>
          </p:nvSpPr>
          <p:spPr>
            <a:xfrm>
              <a:off x="4114800" y="513072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6172200" y="5028840"/>
              <a:ext cx="685800" cy="381240"/>
              <a:chOff x="6172200" y="5028840"/>
              <a:chExt cx="685800" cy="381240"/>
            </a:xfrm>
          </p:grpSpPr>
          <p:sp>
            <p:nvSpPr>
              <p:cNvPr id="954" name=""/>
              <p:cNvSpPr/>
              <p:nvPr/>
            </p:nvSpPr>
            <p:spPr>
              <a:xfrm>
                <a:off x="6172200" y="502884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515280" y="502884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5410080" y="513072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6705360" y="5130720"/>
              <a:ext cx="799920" cy="457200"/>
              <a:chOff x="6705360" y="5130720"/>
              <a:chExt cx="799920" cy="457200"/>
            </a:xfrm>
          </p:grpSpPr>
          <p:sp>
            <p:nvSpPr>
              <p:cNvPr id="958" name=""/>
              <p:cNvSpPr/>
              <p:nvPr/>
            </p:nvSpPr>
            <p:spPr>
              <a:xfrm>
                <a:off x="6705360" y="513072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238520" y="513072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972120" y="543528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048080" y="551160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124400" y="558792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 flipH="1">
              <a:off x="2438280" y="4038480"/>
              <a:ext cx="838080" cy="990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419360" y="4038480"/>
              <a:ext cx="1905120" cy="990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713680" y="36572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963240" y="36572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a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654280" y="5219640"/>
              <a:ext cx="3045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949560" y="5219640"/>
              <a:ext cx="3049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244840" y="5219640"/>
              <a:ext cx="3049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540480" y="5219640"/>
              <a:ext cx="3045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71" name=""/>
            <p:cNvGrpSpPr/>
            <p:nvPr/>
          </p:nvGrpSpPr>
          <p:grpSpPr>
            <a:xfrm>
              <a:off x="2514600" y="5333760"/>
              <a:ext cx="533160" cy="457200"/>
              <a:chOff x="2514600" y="5333760"/>
              <a:chExt cx="533160" cy="457200"/>
            </a:xfrm>
          </p:grpSpPr>
          <p:sp>
            <p:nvSpPr>
              <p:cNvPr id="972" name=""/>
              <p:cNvSpPr/>
              <p:nvPr/>
            </p:nvSpPr>
            <p:spPr>
              <a:xfrm>
                <a:off x="2781000" y="533376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514600" y="563832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590560" y="5714640"/>
                <a:ext cx="38052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666880" y="5790960"/>
                <a:ext cx="228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5562000" y="5333400"/>
              <a:ext cx="1143360" cy="305280"/>
              <a:chOff x="5562000" y="5333400"/>
              <a:chExt cx="1143360" cy="305280"/>
            </a:xfrm>
          </p:grpSpPr>
          <p:sp>
            <p:nvSpPr>
              <p:cNvPr id="977" name=""/>
              <p:cNvSpPr/>
              <p:nvPr/>
            </p:nvSpPr>
            <p:spPr>
              <a:xfrm>
                <a:off x="6705360" y="533376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>
                <a:off x="5943600" y="5638680"/>
                <a:ext cx="7617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5943600" y="533340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>
                <a:off x="5562000" y="5333760"/>
                <a:ext cx="3812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4266720" y="5333400"/>
              <a:ext cx="1143360" cy="305280"/>
              <a:chOff x="4266720" y="5333400"/>
              <a:chExt cx="1143360" cy="305280"/>
            </a:xfrm>
          </p:grpSpPr>
          <p:sp>
            <p:nvSpPr>
              <p:cNvPr id="982" name=""/>
              <p:cNvSpPr/>
              <p:nvPr/>
            </p:nvSpPr>
            <p:spPr>
              <a:xfrm>
                <a:off x="5410080" y="533376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4648320" y="5638680"/>
                <a:ext cx="7617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>
                <a:off x="4648320" y="533340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4266720" y="5333760"/>
                <a:ext cx="3812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2971440" y="5333400"/>
              <a:ext cx="1143360" cy="305280"/>
              <a:chOff x="2971440" y="5333400"/>
              <a:chExt cx="1143360" cy="305280"/>
            </a:xfrm>
          </p:grpSpPr>
          <p:sp>
            <p:nvSpPr>
              <p:cNvPr id="987" name=""/>
              <p:cNvSpPr/>
              <p:nvPr/>
            </p:nvSpPr>
            <p:spPr>
              <a:xfrm>
                <a:off x="4114800" y="533376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3353040" y="5638680"/>
                <a:ext cx="7617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V="1">
                <a:off x="3353040" y="533340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2971440" y="5333760"/>
                <a:ext cx="3812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πίσης γραμμικές διατάξ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ο σύνδεσμοι σε κάθε κόμβο, προς τον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πόμενο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αι προς τον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προηγούμεν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ενική μορφή, π.χ. για υλοποίηση ουράς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κόμβου </a:t>
            </a:r>
            <a:r>
              <a:rPr b="0" sz="3200" spc="-1" strike="noStrike">
                <a:solidFill>
                  <a:srgbClr val="003366"/>
                </a:solidFill>
                <a:latin typeface="Times New Roman"/>
              </a:rPr>
              <a:t>DListNod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DListNode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DListNode_tag * 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DListNode_tag * prev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DListN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sz="3200" spc="-1" strike="noStrike">
                <a:solidFill>
                  <a:srgbClr val="003366"/>
                </a:solidFill>
                <a:latin typeface="Times New Roman"/>
              </a:rPr>
              <a:t>dli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ListNode * 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ListNode * la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dli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dlist dlistEmpty = { NULL, NULL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στην αρχ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dlistInsert (d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ListNode * n = (DListNode *)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malloc(sizeof(D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printf(stderr,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θε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αρακτή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a'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0'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$'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δικοί χαρακτήρ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λλαγή γραμμ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'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στροφ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\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αρακτήρας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ackslash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λλαγή στήλη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b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"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ισαγωγικ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0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αρακτήρας μ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CI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0 (null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037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»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CI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37 (οκταδικό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1f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»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CI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1f (δεκαεξαδικό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στην αρχή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l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prev = n-&gt;nex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first = l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prev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next = l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first-&gt;prev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fir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sz="3200" spc="-1" strike="noStrike">
                <a:solidFill>
                  <a:srgbClr val="003366"/>
                </a:solidFill>
                <a:latin typeface="Times New Roman"/>
              </a:rPr>
              <a:t>cli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la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cli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clist clistEmpty = { NULL, NULL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676520" y="1371600"/>
            <a:ext cx="6019560" cy="1905120"/>
            <a:chOff x="1676520" y="1371600"/>
            <a:chExt cx="6019560" cy="1905120"/>
          </a:xfrm>
        </p:grpSpPr>
        <p:sp>
          <p:nvSpPr>
            <p:cNvPr id="1001" name=""/>
            <p:cNvSpPr/>
            <p:nvPr/>
          </p:nvSpPr>
          <p:spPr>
            <a:xfrm>
              <a:off x="1676520" y="2133720"/>
              <a:ext cx="6019560" cy="114300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002" name=""/>
            <p:cNvGrpSpPr/>
            <p:nvPr/>
          </p:nvGrpSpPr>
          <p:grpSpPr>
            <a:xfrm>
              <a:off x="2209680" y="2362320"/>
              <a:ext cx="685800" cy="380880"/>
              <a:chOff x="2209680" y="2362320"/>
              <a:chExt cx="685800" cy="380880"/>
            </a:xfrm>
          </p:grpSpPr>
          <p:sp>
            <p:nvSpPr>
              <p:cNvPr id="1003" name=""/>
              <p:cNvSpPr/>
              <p:nvPr/>
            </p:nvSpPr>
            <p:spPr>
              <a:xfrm>
                <a:off x="220968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55276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3505320" y="2362320"/>
              <a:ext cx="685800" cy="380880"/>
              <a:chOff x="3505320" y="2362320"/>
              <a:chExt cx="685800" cy="380880"/>
            </a:xfrm>
          </p:grpSpPr>
          <p:sp>
            <p:nvSpPr>
              <p:cNvPr id="1006" name=""/>
              <p:cNvSpPr/>
              <p:nvPr/>
            </p:nvSpPr>
            <p:spPr>
              <a:xfrm>
                <a:off x="350532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84840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008" name=""/>
            <p:cNvSpPr/>
            <p:nvPr/>
          </p:nvSpPr>
          <p:spPr>
            <a:xfrm>
              <a:off x="2743200" y="25527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4800600" y="2362320"/>
              <a:ext cx="685800" cy="380880"/>
              <a:chOff x="4800600" y="2362320"/>
              <a:chExt cx="685800" cy="380880"/>
            </a:xfrm>
          </p:grpSpPr>
          <p:sp>
            <p:nvSpPr>
              <p:cNvPr id="1010" name=""/>
              <p:cNvSpPr/>
              <p:nvPr/>
            </p:nvSpPr>
            <p:spPr>
              <a:xfrm>
                <a:off x="480060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14368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012" name=""/>
            <p:cNvSpPr/>
            <p:nvPr/>
          </p:nvSpPr>
          <p:spPr>
            <a:xfrm>
              <a:off x="4038480" y="25527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013" name=""/>
            <p:cNvGrpSpPr/>
            <p:nvPr/>
          </p:nvGrpSpPr>
          <p:grpSpPr>
            <a:xfrm>
              <a:off x="6095880" y="2362320"/>
              <a:ext cx="685800" cy="380880"/>
              <a:chOff x="6095880" y="2362320"/>
              <a:chExt cx="685800" cy="380880"/>
            </a:xfrm>
          </p:grpSpPr>
          <p:sp>
            <p:nvSpPr>
              <p:cNvPr id="1014" name=""/>
              <p:cNvSpPr/>
              <p:nvPr/>
            </p:nvSpPr>
            <p:spPr>
              <a:xfrm>
                <a:off x="609588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43896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5334120" y="25527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2362320" y="274284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362320" y="3048120"/>
              <a:ext cx="46479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629400" y="2590920"/>
              <a:ext cx="3808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10280" y="2590920"/>
              <a:ext cx="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52680" y="1371600"/>
              <a:ext cx="236232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2590920" y="1828800"/>
              <a:ext cx="121896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334120" y="1828800"/>
              <a:ext cx="114300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475800" y="1447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725360" y="1447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a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clistInsert (c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 = (ListNode *)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printf(stderr,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l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first = l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nex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next = l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last-&gt;nex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clistRemove (clist * l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l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printf(stderr, "Nothing to remove"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" from empty list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sult = lp-&gt;first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lp-&gt;first == lp-&gt;last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lp-&gt;firs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first = lp-&gt;las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first = lp-&gt;first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lp-&gt;last-&gt;nex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last-&gt;next = l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clistPrint (clist 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n = l.first; n != NULL;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n = n-&gt;next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d\n", n-&gt;dat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-&gt;next == l.firs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ομη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sz="3200" spc="-1" strike="noStrike">
                <a:solidFill>
                  <a:srgbClr val="003366"/>
                </a:solidFill>
                <a:latin typeface="Times New Roman"/>
              </a:rPr>
              <a:t>sli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ListNode * sli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slist slistEmpty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slistInsert (s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 = (ListNode *)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3" dur="500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6" dur="500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1" dur="500"/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4" dur="500"/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9" dur="500"/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2" dur="500"/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5" dur="500"/>
                                        <p:tgtEl>
                                          <p:spTgt spid="10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8" dur="500"/>
                                        <p:tgtEl>
                                          <p:spTgt spid="10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1" dur="500"/>
                                        <p:tgtEl>
                                          <p:spTgt spid="10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4" dur="500"/>
                                        <p:tgtEl>
                                          <p:spTgt spid="10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7" dur="500"/>
                                        <p:tgtEl>
                                          <p:spTgt spid="10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0" dur="500"/>
                                        <p:tgtEl>
                                          <p:spTgt spid="10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ομη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*lp != NULL &amp;&amp; (*lp)-&gt;data &lt;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 = &amp;((*lp)-&gt;nex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next = *l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lp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7" dur="50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0" dur="50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3" dur="50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10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9" dur="500"/>
                                        <p:tgtEl>
                                          <p:spTgt spid="10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2" dur="500"/>
                                        <p:tgtEl>
                                          <p:spTgt spid="10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5" dur="500"/>
                                        <p:tgtEl>
                                          <p:spTgt spid="10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ομημένες λίστες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slistRemove (s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*lp != NULL &amp;&amp; (*lp)-&gt;data &lt;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 = &amp;((*lp)-&gt;nex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*lp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”%d was not found\n”,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 = *l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lp = (*lp)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6" dur="indefinite" restart="never" nodeType="tmRoot">
          <p:childTnLst>
            <p:seq>
              <p:cTn id="1577" dur="indefinite" nodeType="mainSeq">
                <p:childTnLst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2" dur="5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5" dur="500"/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8" dur="500"/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1" dur="500"/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4" dur="500"/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7" dur="500"/>
                                        <p:tgtEl>
                                          <p:spTgt spid="10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0" dur="500"/>
                                        <p:tgtEl>
                                          <p:spTgt spid="10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3" dur="500"/>
                                        <p:tgtEl>
                                          <p:spTgt spid="10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6" dur="500"/>
                                        <p:tgtEl>
                                          <p:spTgt spid="10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9" dur="500"/>
                                        <p:tgtEl>
                                          <p:spTgt spid="10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2" dur="500"/>
                                        <p:tgtEl>
                                          <p:spTgt spid="10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5" dur="500"/>
                                        <p:tgtEl>
                                          <p:spTgt spid="10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8" dur="500"/>
                                        <p:tgtEl>
                                          <p:spTgt spid="10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1" dur="500"/>
                                        <p:tgtEl>
                                          <p:spTgt spid="10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θε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βολοσειρ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c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Hello world!\n"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a\"51\"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λώσεις σταθερ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int size = 10, num = 5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double pi = 3.14159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char newline = '\n'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μετροι του προγράμματο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πικεφαλίδα του προγράμματ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main (int argc, char * argv[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μετρο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rgc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ο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ιθμός των παραμέτρ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rgv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[i]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-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στή παράμετρ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rgv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[0]</a:t>
            </a:r>
            <a:r>
              <a:rPr b="1" lang="el-GR" sz="28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όνομα του προγράμ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κέραιος αριθμός που επιστρέφεται στο λειτουργικό σύστημ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ήθως 0 για επιτυχή τερματισμ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8" dur="500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1" dur="500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6" dur="500"/>
                                        <p:tgtEl>
                                          <p:spTgt spid="10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9" dur="500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2" dur="500"/>
                                        <p:tgtEl>
                                          <p:spTgt spid="1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5" dur="500"/>
                                        <p:tgtEl>
                                          <p:spTgt spid="10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0" dur="500"/>
                                        <p:tgtEl>
                                          <p:spTgt spid="10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3" dur="500"/>
                                        <p:tgtEl>
                                          <p:spTgt spid="10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6" dur="500"/>
                                        <p:tgtEl>
                                          <p:spTgt spid="10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μετροι του προγράμματο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main (int argc, char * argv[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Program %s called with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"%d parameters:\n", argv[0]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rgc-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i = 1; i &lt; argc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 %s", argv[i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\nand will return 0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3" dur="500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6" dur="500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9" dur="500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2" dur="500"/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5" dur="500"/>
                                        <p:tgtEl>
                                          <p:spTgt spid="10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8" dur="500"/>
                                        <p:tgtEl>
                                          <p:spTgt spid="10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1" dur="500"/>
                                        <p:tgtEl>
                                          <p:spTgt spid="10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4" dur="500"/>
                                        <p:tgtEl>
                                          <p:spTgt spid="10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7" dur="500"/>
                                        <p:tgtEl>
                                          <p:spTgt spid="10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0" dur="500"/>
                                        <p:tgtEl>
                                          <p:spTgt spid="10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3" dur="500"/>
                                        <p:tgtEl>
                                          <p:spTgt spid="10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6" dur="500"/>
                                        <p:tgtEl>
                                          <p:spTgt spid="10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ές συναρτήσεις εισόδου-εξόδ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printf (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canf (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δικοί χαρακτήρες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κέραιοι αριθμο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ο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κ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u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ωρίς πρόσημο στο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κ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o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ωρίς πρόσημο στο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οκτ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x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ωρίς πρόσημο στο δεκαεξ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3" dur="5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6" dur="50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9" dur="500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4" dur="500"/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7" dur="500"/>
                                        <p:tgtEl>
                                          <p:spTgt spid="10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0" dur="500"/>
                                        <p:tgtEl>
                                          <p:spTgt spid="10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3" dur="500"/>
                                        <p:tgtEl>
                                          <p:spTgt spid="10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6" dur="500"/>
                                        <p:tgtEl>
                                          <p:spTgt spid="10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9" dur="500"/>
                                        <p:tgtEl>
                                          <p:spTgt spid="10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δικοί χαρακτήρες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ιθμοί κινητής υποδιαστολής</a:t>
            </a:r>
            <a:br>
              <a:rPr sz="28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f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ε μορφή: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[-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dd.dddddd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ε μορφή: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[-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dd.dddddd e [+/-]ddd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g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ε μορφή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f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ή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Άλλοι τύποι</a:t>
            </a:r>
            <a:br>
              <a:rPr sz="28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c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αρακτήρε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s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μβολοσειρέ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p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ίκτε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6" dur="500"/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1" dur="500"/>
                                        <p:tgtEl>
                                          <p:spTgt spid="10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6" dur="500"/>
                                        <p:tgtEl>
                                          <p:spTgt spid="10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λλαγές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έγεθος αριθμών</a:t>
            </a:r>
            <a:br>
              <a:rPr sz="28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h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οί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shor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.χ.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hd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hx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οί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long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ή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double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.χ.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d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f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οί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ng double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.χ.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ήκος αποτελέσματος</a:t>
            </a:r>
            <a:br>
              <a:rPr sz="28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ός σε μήκος 8 χαρακτήρων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20s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μβολοσειρά σε μήκος 20 χαρακτήρων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+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ός σε μήκος 8 χαρακτήρων μ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+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0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ός σε μήκος 8 χαρακτήρων, τα πρώτα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-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όπως το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8d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 στοίχιση αριστε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χαρακτήρ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putchar (int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getchar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συμβολοσειρ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puts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har * gets (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λεγχος τέλους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eof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σταθερά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OF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ριστάνει το τέλος των δεδομένων και έχει τύπο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3" dur="500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6" dur="500"/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9" dur="500"/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4" dur="500"/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7" dur="500"/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0" dur="500"/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5" dur="500"/>
                                        <p:tgtEl>
                                          <p:spTgt spid="10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8" dur="500"/>
                                        <p:tgtEl>
                                          <p:spTgt spid="10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1" dur="500"/>
                                        <p:tgtEl>
                                          <p:spTgt spid="10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τιγραφή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χαρακτήρες που διαβάζονται εκτυπώνονται, μέχρι να παρουσιαστεί τέλος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(c = getchar()) != EOF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utchar(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8" dur="500"/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1" dur="500"/>
                                        <p:tgtEl>
                                          <p:spTgt spid="10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4" dur="500"/>
                                        <p:tgtEl>
                                          <p:spTgt spid="10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7" dur="500"/>
                                        <p:tgtEl>
                                          <p:spTgt spid="10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0" dur="500"/>
                                        <p:tgtEl>
                                          <p:spTgt spid="10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3" dur="500"/>
                                        <p:tgtEl>
                                          <p:spTgt spid="10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6" dur="500"/>
                                        <p:tgtEl>
                                          <p:spTgt spid="10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9" dur="500"/>
                                        <p:tgtEl>
                                          <p:spTgt spid="10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αρ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ILE * f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νοιγμα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ILE * fopen (const char * filename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const char * mod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άμετρος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ode</a:t>
            </a:r>
            <a:br>
              <a:rPr sz="28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άγνωση (read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γγραφή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rite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ροσθήκη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ppend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είμενο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ext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υαδικά δεδομένα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nar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0" dur="indefinite" restart="never" nodeType="tmRoot">
          <p:childTnLst>
            <p:seq>
              <p:cTn id="1811" dur="indefinite" nodeType="mainSeq">
                <p:childTnLst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6" dur="500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1" dur="500"/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6" dur="500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1" dur="500"/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6" dur="500"/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είσιμο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fclose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χαρακτήρ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fputc (int c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fgetc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συμβολοσειρ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fputs (const char * s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har * fgets (char * s, int n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7" dur="indefinite" restart="never" nodeType="tmRoot">
          <p:childTnLst>
            <p:seq>
              <p:cTn id="1838" dur="indefinite" nodeType="mainSeq">
                <p:childTnLst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3" dur="500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6" dur="500"/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1" dur="500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4" dur="500"/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7" dur="500"/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2" dur="500"/>
                                        <p:tgtEl>
                                          <p:spTgt spid="10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5" dur="500"/>
                                        <p:tgtEl>
                                          <p:spTgt spid="1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8" dur="500"/>
                                        <p:tgtEl>
                                          <p:spTgt spid="10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ές συναρτήσεις εισόδου-εξόδ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fprintf (FILE * fp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fscanf (FILE * fp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λεγχος τέλους αρ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feof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9" dur="indefinite" restart="never" nodeType="tmRoot">
          <p:childTnLst>
            <p:seq>
              <p:cTn id="1870" dur="indefinite" nodeType="mainSeq">
                <p:childTnLst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5" dur="500"/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8" dur="500"/>
                                        <p:tgtEl>
                                          <p:spTgt spid="1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1" dur="500"/>
                                        <p:tgtEl>
                                          <p:spTgt spid="1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6" dur="500"/>
                                        <p:tgtEl>
                                          <p:spTgt spid="10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9" dur="500"/>
                                        <p:tgtEl>
                                          <p:spTgt spid="1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1447200" y="5257800"/>
            <a:ext cx="5639400" cy="1143000"/>
            <a:chOff x="1447200" y="5257800"/>
            <a:chExt cx="5639400" cy="1143000"/>
          </a:xfrm>
        </p:grpSpPr>
        <p:sp>
          <p:nvSpPr>
            <p:cNvPr id="136" name=""/>
            <p:cNvSpPr/>
            <p:nvPr/>
          </p:nvSpPr>
          <p:spPr>
            <a:xfrm>
              <a:off x="6172200" y="5257800"/>
              <a:ext cx="914400" cy="11430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16200000">
              <a:off x="3237480" y="4152960"/>
              <a:ext cx="304920" cy="3886200"/>
            </a:xfrm>
            <a:custGeom>
              <a:avLst/>
              <a:gdLst>
                <a:gd name="textAreaLeft" fmla="*/ -360 w 304920"/>
                <a:gd name="textAreaRight" fmla="*/ 213480 w 304920"/>
                <a:gd name="textAreaTop" fmla="*/ 161640 h 3886200"/>
                <a:gd name="textAreaBottom" fmla="*/ 3724560 h 38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333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χόλι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ξύ </a:t>
            </a:r>
            <a:r>
              <a:rPr b="1" lang="el-GR" sz="3200" spc="-1" strike="noStrike">
                <a:solidFill>
                  <a:srgbClr val="003366"/>
                </a:solidFill>
                <a:latin typeface="Courier New"/>
              </a:rPr>
              <a:t>/*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αι </a:t>
            </a:r>
            <a:r>
              <a:rPr b="1" lang="el-GR" sz="3200" spc="-1" strike="noStrike">
                <a:solidFill>
                  <a:srgbClr val="003366"/>
                </a:solidFill>
                <a:latin typeface="Courier New"/>
              </a:rPr>
              <a:t>*/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660066"/>
                </a:solidFill>
                <a:latin typeface="Courier New"/>
              </a:rPr>
              <a:t>/* </a:t>
            </a:r>
            <a:r>
              <a:rPr b="1" i="1" sz="2400" spc="-1" strike="noStrike">
                <a:solidFill>
                  <a:srgbClr val="660066"/>
                </a:solidFill>
                <a:latin typeface="Courier New"/>
              </a:rPr>
              <a:t>This simple program greets th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660066"/>
                </a:solidFill>
                <a:latin typeface="Courier New"/>
              </a:rPr>
              <a:t>   </a:t>
            </a:r>
            <a:r>
              <a:rPr b="1" i="1" sz="2400" spc="-1" strike="noStrike">
                <a:solidFill>
                  <a:srgbClr val="660066"/>
                </a:solidFill>
                <a:latin typeface="Courier New"/>
              </a:rPr>
              <a:t>world by saying "hello"</a:t>
            </a:r>
            <a:r>
              <a:rPr b="1" sz="2400" spc="-1" strike="noStrike">
                <a:solidFill>
                  <a:srgbClr val="660066"/>
                </a:solidFill>
                <a:latin typeface="Courier New"/>
              </a:rPr>
              <a:t>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 </a:t>
            </a:r>
            <a:r>
              <a:rPr b="1" sz="2400" spc="-1" strike="noStrike">
                <a:solidFill>
                  <a:srgbClr val="660066"/>
                </a:solidFill>
                <a:latin typeface="Courier New"/>
              </a:rPr>
              <a:t>/* </a:t>
            </a:r>
            <a:r>
              <a:rPr b="1" i="1" sz="2400" spc="-1" strike="noStrike">
                <a:solidFill>
                  <a:srgbClr val="660066"/>
                </a:solidFill>
                <a:latin typeface="Courier New"/>
              </a:rPr>
              <a:t>eh?</a:t>
            </a:r>
            <a:r>
              <a:rPr b="1" sz="2400" spc="-1" strike="noStrike">
                <a:solidFill>
                  <a:srgbClr val="660066"/>
                </a:solidFill>
                <a:latin typeface="Courier New"/>
              </a:rPr>
              <a:t> */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"Hello world!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παρακάτω είναι λάθ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/* </a:t>
            </a:r>
            <a:r>
              <a:rPr b="1" i="1" lang="en-US" sz="2400" spc="-1" strike="noStrike">
                <a:solidFill>
                  <a:srgbClr val="660066"/>
                </a:solidFill>
                <a:latin typeface="Courier New"/>
              </a:rPr>
              <a:t>Nested </a:t>
            </a:r>
            <a:r>
              <a:rPr b="1" lang="en-US" sz="2400" spc="-1" strike="noStrike">
                <a:solidFill>
                  <a:srgbClr val="004c2b"/>
                </a:solidFill>
                <a:latin typeface="Courier New"/>
              </a:rPr>
              <a:t>/* </a:t>
            </a:r>
            <a:r>
              <a:rPr b="1" i="1" lang="en-US" sz="2400" spc="-1" strike="noStrike">
                <a:solidFill>
                  <a:srgbClr val="004c2b"/>
                </a:solidFill>
                <a:latin typeface="Courier New"/>
              </a:rPr>
              <a:t>comments </a:t>
            </a:r>
            <a:r>
              <a:rPr b="1" lang="en-US" sz="2400" spc="-1" strike="noStrike">
                <a:solidFill>
                  <a:srgbClr val="004c2b"/>
                </a:solidFill>
                <a:latin typeface="Courier New"/>
              </a:rPr>
              <a:t>*/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urier New"/>
              </a:rPr>
              <a:t>are wrong!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πολλών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_t fwrite (const void * p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_t size, size_t num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_t fread (void * p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_t size, size_t num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ακέραιος τύπο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χρησιμοποιείται για τη μέτρηση χώρου μνήμης σ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yte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0" dur="indefinite" restart="never" nodeType="tmRoot">
          <p:childTnLst>
            <p:seq>
              <p:cTn id="1891" dur="indefinite" nodeType="mainSeq">
                <p:childTnLst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6" dur="500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9" dur="500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2" dur="500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5" dur="500"/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τιγραφή δυαδικών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main (int argc, char * argv[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ILE * fin, * fou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signed char buffer[100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_t coun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in = fopen(argv[1], "rb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fin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ut = fopen(argv[2], "wb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fou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6" dur="indefinite" restart="never" nodeType="tmRoot">
          <p:childTnLst>
            <p:seq>
              <p:cTn id="1907" dur="indefinite" nodeType="mainSeq">
                <p:childTnLst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2" dur="500"/>
                                        <p:tgtEl>
                                          <p:spTgt spid="1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5" dur="500"/>
                                        <p:tgtEl>
                                          <p:spTgt spid="10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8" dur="500"/>
                                        <p:tgtEl>
                                          <p:spTgt spid="10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1" dur="500"/>
                                        <p:tgtEl>
                                          <p:spTgt spid="10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4" dur="500"/>
                                        <p:tgtEl>
                                          <p:spTgt spid="10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7" dur="500"/>
                                        <p:tgtEl>
                                          <p:spTgt spid="10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0" dur="500"/>
                                        <p:tgtEl>
                                          <p:spTgt spid="10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3" dur="500"/>
                                        <p:tgtEl>
                                          <p:spTgt spid="10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6" dur="500"/>
                                        <p:tgtEl>
                                          <p:spTgt spid="10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9" dur="500"/>
                                        <p:tgtEl>
                                          <p:spTgt spid="10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2" dur="500"/>
                                        <p:tgtEl>
                                          <p:spTgt spid="10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5" dur="500"/>
                                        <p:tgtEl>
                                          <p:spTgt spid="10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συνεχίζεται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!feof(fin)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unt = fread(buffer, 1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1000, fi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write(buffer, 1, count, fou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close(fi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close(fou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6" dur="indefinite" restart="never" nodeType="tmRoot">
          <p:childTnLst>
            <p:seq>
              <p:cTn id="1947" dur="indefinite" nodeType="mainSeq">
                <p:childTnLst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2" dur="500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5" dur="500"/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8" dur="500"/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1" dur="500"/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4" dur="500"/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7" dur="500"/>
                                        <p:tgtEl>
                                          <p:spTgt spid="10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0" dur="500"/>
                                        <p:tgtEl>
                                          <p:spTgt spid="10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3" dur="500"/>
                                        <p:tgtEl>
                                          <p:spTgt spid="10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6" dur="500"/>
                                        <p:tgtEl>
                                          <p:spTgt spid="10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 και έξοδ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dio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έχει όλες τις συναρτήσεις εισόδου-εξόδ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οκαθορισμένα αρχεί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di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τυπική είσοδο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dou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τυπική έξοδο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der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τυπική έξοδος σφαλμάτω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Ισοδυναμί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...) </a:t>
            </a:r>
            <a:r>
              <a:rPr b="1" sz="2400" spc="-1" strike="noStrike">
                <a:solidFill>
                  <a:srgbClr val="333333"/>
                </a:solidFill>
                <a:latin typeface="Symbol"/>
                <a:ea typeface="Symbol"/>
              </a:rPr>
              <a:t>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fprintf(stdout, ...)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canf(...)  </a:t>
            </a:r>
            <a:r>
              <a:rPr b="1" sz="2400" spc="-1" strike="noStrike">
                <a:solidFill>
                  <a:srgbClr val="333333"/>
                </a:solidFill>
                <a:latin typeface="Symbol"/>
                <a:ea typeface="Symbol"/>
              </a:rPr>
              <a:t>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fscanf(stdin, ...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.λπ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αρτήσεις διαχείρισης αρχείων με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υχαία πρόσβα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andom acces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χείριση συμβολοσειρών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ring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_t strlen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έτρηση αριθμού χαρακτήρων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har * strcpy (char * s1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const char *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τιγραφ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ην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har * strcat (char * s1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const char *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ροσθήκη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ο τέλος τη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trcmp (const char * s1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char *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ύγκριση των συμβολοσειρών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αι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7" dur="indefinite" restart="never" nodeType="tmRoot">
          <p:childTnLst>
            <p:seq>
              <p:cTn id="1978" dur="indefinite" nodeType="mainSeq">
                <p:childTnLst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3" dur="500"/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6" dur="500"/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9" dur="500"/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2" dur="500"/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5" dur="500"/>
                                        <p:tgtEl>
                                          <p:spTgt spid="10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8" dur="500"/>
                                        <p:tgtEl>
                                          <p:spTgt spid="10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1" dur="500"/>
                                        <p:tgtEl>
                                          <p:spTgt spid="10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4" dur="500"/>
                                        <p:tgtEl>
                                          <p:spTgt spid="10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7" dur="500"/>
                                        <p:tgtEl>
                                          <p:spTgt spid="10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0" dur="500"/>
                                        <p:tgtEl>
                                          <p:spTgt spid="10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τροπή συμβολοσειρών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dlib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atoi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τατροπ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σ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ong int atol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τατροπ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σ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long in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atof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τατροπ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σ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double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7" dur="500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0" dur="500"/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3" dur="500"/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6" dur="500"/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9" dur="500"/>
                                        <p:tgtEl>
                                          <p:spTgt spid="10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2" dur="500"/>
                                        <p:tgtEl>
                                          <p:spTgt spid="10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5" dur="500"/>
                                        <p:tgtEl>
                                          <p:spTgt spid="10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α δυνατή υλοποίηση της </a:t>
            </a:r>
            <a:r>
              <a:rPr b="0" sz="3200" spc="-1" strike="noStrike">
                <a:solidFill>
                  <a:srgbClr val="003366"/>
                </a:solidFill>
                <a:latin typeface="Times New Roman"/>
              </a:rPr>
              <a:t>strcm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trcmp (const char * s1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char * s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*s1 == *s2 &amp;&amp; *s1 != '\0'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 s1++; s2++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(*s1)-(*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πόθεση: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 οι τιμές του τύπου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ar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ναι στο διάστημα 0-255 (όχι αρνητικές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25120" y="3805200"/>
            <a:ext cx="613188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*s1 &amp;&amp; *s1++ == *s2++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ροεπεξεργαστή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reprocessor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includ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include "myheader.h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de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define MAX_CHARS 10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MAX_CHARS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define INC(x) ((x)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C(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C(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6" dur="indefinite" restart="never" nodeType="tmRoot">
          <p:childTnLst>
            <p:seq>
              <p:cTn id="2037" dur="indefinite" nodeType="mainSeq">
                <p:childTnLst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2" dur="500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5" dur="500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8" dur="500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3" dur="500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6" dur="500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9" dur="500"/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2" dur="500"/>
                                        <p:tgtEl>
                                          <p:spTgt spid="10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5" dur="500"/>
                                        <p:tgtEl>
                                          <p:spTgt spid="10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8" dur="500"/>
                                        <p:tgtEl>
                                          <p:spTgt spid="10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ροεπεξεργαστή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reprocessor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έ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ifdef,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ifndef, #else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ι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endi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define DEBU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ifdef DEBU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debugging is on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debugging is off\n"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endi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ifndef DEBU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ptimizations allowed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endi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5" dur="500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8" dur="500"/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1" dur="500"/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4" dur="500"/>
                                        <p:tgtEl>
                                          <p:spTgt spid="10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7" dur="500"/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0" dur="500"/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3" dur="500"/>
                                        <p:tgtEl>
                                          <p:spTgt spid="10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6" dur="500"/>
                                        <p:tgtEl>
                                          <p:spTgt spid="10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9" dur="500"/>
                                        <p:tgtEl>
                                          <p:spTgt spid="10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2" dur="500"/>
                                        <p:tgtEl>
                                          <p:spTgt spid="10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Binary tre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ο σύνδεσμοι σε κάθε κόμβ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ριστερό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εξί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ιδ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5638680" y="1905120"/>
            <a:ext cx="3124080" cy="4419000"/>
            <a:chOff x="5638680" y="1905120"/>
            <a:chExt cx="3124080" cy="4419000"/>
          </a:xfrm>
        </p:grpSpPr>
        <p:sp>
          <p:nvSpPr>
            <p:cNvPr id="1084" name=""/>
            <p:cNvSpPr/>
            <p:nvPr/>
          </p:nvSpPr>
          <p:spPr>
            <a:xfrm>
              <a:off x="5638680" y="2261160"/>
              <a:ext cx="3124080" cy="406296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085" name=""/>
            <p:cNvGrpSpPr/>
            <p:nvPr/>
          </p:nvGrpSpPr>
          <p:grpSpPr>
            <a:xfrm>
              <a:off x="5943600" y="3402000"/>
              <a:ext cx="685440" cy="569880"/>
              <a:chOff x="5943600" y="3402000"/>
              <a:chExt cx="685440" cy="569880"/>
            </a:xfrm>
          </p:grpSpPr>
          <p:sp>
            <p:nvSpPr>
              <p:cNvPr id="1086" name=""/>
              <p:cNvSpPr/>
              <p:nvPr/>
            </p:nvSpPr>
            <p:spPr>
              <a:xfrm rot="5400000">
                <a:off x="600120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>
                <a:off x="594360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28632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6324480" y="3900600"/>
              <a:ext cx="380880" cy="285120"/>
              <a:chOff x="6324480" y="3900600"/>
              <a:chExt cx="380880" cy="285120"/>
            </a:xfrm>
          </p:grpSpPr>
          <p:sp>
            <p:nvSpPr>
              <p:cNvPr id="1090" name=""/>
              <p:cNvSpPr/>
              <p:nvPr/>
            </p:nvSpPr>
            <p:spPr>
              <a:xfrm>
                <a:off x="6514920" y="390060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324480" y="4090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378840" y="413820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433200" y="4185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5867280" y="3900600"/>
              <a:ext cx="380880" cy="285120"/>
              <a:chOff x="5867280" y="3900600"/>
              <a:chExt cx="380880" cy="285120"/>
            </a:xfrm>
          </p:grpSpPr>
          <p:sp>
            <p:nvSpPr>
              <p:cNvPr id="1095" name=""/>
              <p:cNvSpPr/>
              <p:nvPr/>
            </p:nvSpPr>
            <p:spPr>
              <a:xfrm>
                <a:off x="6057720" y="390060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867280" y="4090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921640" y="413820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976000" y="4185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99" name=""/>
            <p:cNvGrpSpPr/>
            <p:nvPr/>
          </p:nvGrpSpPr>
          <p:grpSpPr>
            <a:xfrm>
              <a:off x="7848360" y="5326560"/>
              <a:ext cx="685440" cy="569880"/>
              <a:chOff x="7848360" y="5326560"/>
              <a:chExt cx="685440" cy="569880"/>
            </a:xfrm>
          </p:grpSpPr>
          <p:sp>
            <p:nvSpPr>
              <p:cNvPr id="1100" name=""/>
              <p:cNvSpPr/>
              <p:nvPr/>
            </p:nvSpPr>
            <p:spPr>
              <a:xfrm rot="5400000">
                <a:off x="7905960" y="526860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H="1">
                <a:off x="7848360" y="561168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191080" y="561168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8229600" y="5825160"/>
              <a:ext cx="380880" cy="285120"/>
              <a:chOff x="8229600" y="5825160"/>
              <a:chExt cx="380880" cy="285120"/>
            </a:xfrm>
          </p:grpSpPr>
          <p:sp>
            <p:nvSpPr>
              <p:cNvPr id="1104" name=""/>
              <p:cNvSpPr/>
              <p:nvPr/>
            </p:nvSpPr>
            <p:spPr>
              <a:xfrm>
                <a:off x="8420040" y="582516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229600" y="601488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82839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83383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7772400" y="5825160"/>
              <a:ext cx="380880" cy="285120"/>
              <a:chOff x="7772400" y="5825160"/>
              <a:chExt cx="380880" cy="285120"/>
            </a:xfrm>
          </p:grpSpPr>
          <p:sp>
            <p:nvSpPr>
              <p:cNvPr id="1109" name=""/>
              <p:cNvSpPr/>
              <p:nvPr/>
            </p:nvSpPr>
            <p:spPr>
              <a:xfrm>
                <a:off x="7962840" y="582516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772400" y="601488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8267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8811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476760" y="4399560"/>
              <a:ext cx="685440" cy="569880"/>
              <a:chOff x="6476760" y="4399560"/>
              <a:chExt cx="685440" cy="569880"/>
            </a:xfrm>
          </p:grpSpPr>
          <p:sp>
            <p:nvSpPr>
              <p:cNvPr id="1114" name=""/>
              <p:cNvSpPr/>
              <p:nvPr/>
            </p:nvSpPr>
            <p:spPr>
              <a:xfrm rot="5400000">
                <a:off x="6534360" y="434160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>
                <a:off x="6476760" y="468468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819480" y="468468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6858000" y="4898880"/>
              <a:ext cx="380880" cy="284760"/>
              <a:chOff x="6858000" y="4898880"/>
              <a:chExt cx="380880" cy="284760"/>
            </a:xfrm>
          </p:grpSpPr>
          <p:sp>
            <p:nvSpPr>
              <p:cNvPr id="1118" name=""/>
              <p:cNvSpPr/>
              <p:nvPr/>
            </p:nvSpPr>
            <p:spPr>
              <a:xfrm>
                <a:off x="7048440" y="489888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858000" y="508860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912360" y="513612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966720" y="518364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6400800" y="4898880"/>
              <a:ext cx="380880" cy="284760"/>
              <a:chOff x="6400800" y="4898880"/>
              <a:chExt cx="380880" cy="2847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591240" y="489888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400800" y="508860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455160" y="513612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509520" y="518364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7543800" y="4399560"/>
              <a:ext cx="685440" cy="569880"/>
              <a:chOff x="7543800" y="4399560"/>
              <a:chExt cx="685440" cy="569880"/>
            </a:xfrm>
          </p:grpSpPr>
          <p:sp>
            <p:nvSpPr>
              <p:cNvPr id="1128" name=""/>
              <p:cNvSpPr/>
              <p:nvPr/>
            </p:nvSpPr>
            <p:spPr>
              <a:xfrm rot="5400000">
                <a:off x="7601400" y="434160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>
                <a:off x="7543800" y="468468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886520" y="468468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31" name=""/>
            <p:cNvGrpSpPr/>
            <p:nvPr/>
          </p:nvGrpSpPr>
          <p:grpSpPr>
            <a:xfrm>
              <a:off x="7467480" y="4898880"/>
              <a:ext cx="380880" cy="284760"/>
              <a:chOff x="7467480" y="4898880"/>
              <a:chExt cx="380880" cy="284760"/>
            </a:xfrm>
          </p:grpSpPr>
          <p:sp>
            <p:nvSpPr>
              <p:cNvPr id="1132" name=""/>
              <p:cNvSpPr/>
              <p:nvPr/>
            </p:nvSpPr>
            <p:spPr>
              <a:xfrm>
                <a:off x="7657920" y="489888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467480" y="508860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521840" y="513612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576200" y="518364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7010280" y="3402000"/>
              <a:ext cx="685440" cy="569880"/>
              <a:chOff x="7010280" y="3402000"/>
              <a:chExt cx="685440" cy="569880"/>
            </a:xfrm>
          </p:grpSpPr>
          <p:sp>
            <p:nvSpPr>
              <p:cNvPr id="1137" name=""/>
              <p:cNvSpPr/>
              <p:nvPr/>
            </p:nvSpPr>
            <p:spPr>
              <a:xfrm rot="5400000">
                <a:off x="706788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701028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35300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6476760" y="2475000"/>
              <a:ext cx="685440" cy="569880"/>
              <a:chOff x="6476760" y="2475000"/>
              <a:chExt cx="685440" cy="569880"/>
            </a:xfrm>
          </p:grpSpPr>
          <p:sp>
            <p:nvSpPr>
              <p:cNvPr id="1141" name=""/>
              <p:cNvSpPr/>
              <p:nvPr/>
            </p:nvSpPr>
            <p:spPr>
              <a:xfrm rot="5400000">
                <a:off x="6534360" y="2417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>
                <a:off x="6476760" y="2760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819480" y="2760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144" name=""/>
            <p:cNvSpPr/>
            <p:nvPr/>
          </p:nvSpPr>
          <p:spPr>
            <a:xfrm flipH="1">
              <a:off x="6247800" y="2974320"/>
              <a:ext cx="381240" cy="427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010280" y="2974320"/>
              <a:ext cx="304920" cy="427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6858000" y="3900600"/>
              <a:ext cx="304560" cy="498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543800" y="3900600"/>
              <a:ext cx="304560" cy="498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076960" y="4898880"/>
              <a:ext cx="152640" cy="427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781680" y="1905120"/>
              <a:ext cx="0" cy="569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685800" y="2666880"/>
            <a:ext cx="4724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κόμβος έχει</a:t>
            </a:r>
            <a:br>
              <a:rPr sz="3200"/>
            </a:b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0, 1 ή 2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ιδιά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Ρίζ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: ο αρχικός κόμβος του δένδ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Φύλλ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: κόμβοι χωρίς παιδιά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Βάθο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όμβου: αριθμός συνδέσμων από τη ρίζ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3" dur="indefinite" restart="never" nodeType="tmRoot">
          <p:childTnLst>
            <p:seq>
              <p:cTn id="2104" dur="indefinite" nodeType="mainSeq">
                <p:childTnLst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4" dur="500"/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9" dur="500"/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4" dur="500"/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9" dur="500"/>
                                        <p:tgtEl>
                                          <p:spTgt spid="1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κτύπωση με τη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rintf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λοί τύποι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int</a:t>
            </a: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333333"/>
                </a:solidFill>
                <a:latin typeface="Courier New"/>
              </a:rPr>
              <a:t>%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char</a:t>
            </a: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333333"/>
                </a:solidFill>
                <a:latin typeface="Courier New"/>
              </a:rPr>
              <a:t>%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double</a:t>
            </a: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333333"/>
                </a:solidFill>
                <a:latin typeface="Courier New"/>
              </a:rPr>
              <a:t>%lf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string</a:t>
            </a: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333333"/>
                </a:solidFill>
                <a:latin typeface="Courier New"/>
              </a:rPr>
              <a:t>%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d %lf %c %s\n"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42, 1.2, 'a', "hello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 1.200000 a hell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κόμβου </a:t>
            </a:r>
            <a:r>
              <a:rPr b="0" sz="3200" spc="-1" strike="noStrike">
                <a:solidFill>
                  <a:srgbClr val="003366"/>
                </a:solidFill>
                <a:latin typeface="Times New Roman"/>
              </a:rPr>
              <a:t>TreeNod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TreeNode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TreeNode_tag * lef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TreeNode_tag * righ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TreeN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TreeNode * tre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ενό δένδρ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tree treeEmpty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0" dur="indefinite" restart="never" nodeType="tmRoot">
          <p:childTnLst>
            <p:seq>
              <p:cTn id="2131" dur="indefinite" nodeType="mainSeq">
                <p:childTnLst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6" dur="500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9" dur="500"/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2" dur="500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5" dur="500"/>
                                        <p:tgtEl>
                                          <p:spTgt spid="1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8" dur="500"/>
                                        <p:tgtEl>
                                          <p:spTgt spid="1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1" dur="500"/>
                                        <p:tgtEl>
                                          <p:spTgt spid="1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6" dur="500"/>
                                        <p:tgtEl>
                                          <p:spTgt spid="1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9" dur="500"/>
                                        <p:tgtEl>
                                          <p:spTgt spid="1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4" dur="500"/>
                                        <p:tgtEl>
                                          <p:spTgt spid="1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7" dur="500"/>
                                        <p:tgtEl>
                                          <p:spTgt spid="1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ε δένδ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ριστική απόφαση: σε ποιο σημείο του δένδρου θα εισαχθεί ο νέος κόμβ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σοζυγισμένα δένδρ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alanced trees)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βάθος δυο φύλλων διαφέρει το πολύ κατά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άρτηση μέγιστου βάθ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treeDepth (tree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t == NULL) 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1 + max(treeDepth(t-&gt;left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reeDepth(t-&gt;right));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8" dur="indefinite" restart="never" nodeType="tmRoot">
          <p:childTnLst>
            <p:seq>
              <p:cTn id="2169" dur="indefinite" nodeType="mainSeq">
                <p:childTnLst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4" dur="50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7" dur="500"/>
                                        <p:tgtEl>
                                          <p:spTgt spid="1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0" dur="500"/>
                                        <p:tgtEl>
                                          <p:spTgt spid="1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5" dur="500"/>
                                        <p:tgtEl>
                                          <p:spTgt spid="1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8" dur="500"/>
                                        <p:tgtEl>
                                          <p:spTgt spid="1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1" dur="500"/>
                                        <p:tgtEl>
                                          <p:spTgt spid="1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4" dur="500"/>
                                        <p:tgtEl>
                                          <p:spTgt spid="1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7" dur="500"/>
                                        <p:tgtEl>
                                          <p:spTgt spid="1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0" dur="500"/>
                                        <p:tgtEl>
                                          <p:spTgt spid="1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3" dur="500"/>
                                        <p:tgtEl>
                                          <p:spTgt spid="1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ε ισοζυγισμένα δένδ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treeBalancedInsert (tree * t, int 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*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t = (TreeNode *)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malloc(sizeof(Tree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*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*t)-&gt;data =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*t)-&gt;left = (*t)-&gt;righ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4" dur="indefinite" restart="never" nodeType="tmRoot">
          <p:childTnLst>
            <p:seq>
              <p:cTn id="2205" dur="indefinite" nodeType="mainSeq">
                <p:childTnLst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0" dur="500"/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3" dur="500"/>
                                        <p:tgtEl>
                                          <p:spTgt spid="1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6" dur="500"/>
                                        <p:tgtEl>
                                          <p:spTgt spid="1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9" dur="500"/>
                                        <p:tgtEl>
                                          <p:spTgt spid="1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2" dur="500"/>
                                        <p:tgtEl>
                                          <p:spTgt spid="1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5" dur="500"/>
                                        <p:tgtEl>
                                          <p:spTgt spid="1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8" dur="500"/>
                                        <p:tgtEl>
                                          <p:spTgt spid="1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1" dur="500"/>
                                        <p:tgtEl>
                                          <p:spTgt spid="1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4" dur="500"/>
                                        <p:tgtEl>
                                          <p:spTgt spid="1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7" dur="500"/>
                                        <p:tgtEl>
                                          <p:spTgt spid="1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0" dur="500"/>
                                        <p:tgtEl>
                                          <p:spTgt spid="1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3" dur="500"/>
                                        <p:tgtEl>
                                          <p:spTgt spid="1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ε ισοζυγισμένα δένδρ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d1 = treeDepth((*t)-&gt;lef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d2 = treeDepth((*t)-&gt;righ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d1 &lt;= d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reeBalancedInsert(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&amp;((*t)-&gt;left), 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reeBalancedInsert(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&amp;((*t)-&gt;right), 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4" dur="indefinite" restart="never" nodeType="tmRoot">
          <p:childTnLst>
            <p:seq>
              <p:cTn id="2245" dur="indefinite" nodeType="mainSeq">
                <p:childTnLst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0" dur="500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3" dur="500"/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6" dur="500"/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9" dur="500"/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2" dur="500"/>
                                        <p:tgtEl>
                                          <p:spTgt spid="1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5" dur="500"/>
                                        <p:tgtEl>
                                          <p:spTgt spid="1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8" dur="500"/>
                                        <p:tgtEl>
                                          <p:spTgt spid="1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1" dur="500"/>
                                        <p:tgtEl>
                                          <p:spTgt spid="1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4" dur="500"/>
                                        <p:tgtEl>
                                          <p:spTgt spid="1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7" dur="500"/>
                                        <p:tgtEl>
                                          <p:spTgt spid="1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ένδρα γενικής μορφή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κόμβος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χει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3366"/>
                </a:solidFill>
                <a:latin typeface="Times New Roman"/>
              </a:rPr>
              <a:t>k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γόνους,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που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</a:t>
            </a:r>
            <a:r>
              <a:rPr b="1" lang="el-GR" sz="3200" spc="-1" strike="noStrike">
                <a:solidFill>
                  <a:srgbClr val="003366"/>
                </a:solidFill>
                <a:latin typeface="Times New Roman"/>
              </a:rPr>
              <a:t>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971640" y="2841480"/>
            <a:ext cx="4084560" cy="2171880"/>
            <a:chOff x="971640" y="2841480"/>
            <a:chExt cx="4084560" cy="2171880"/>
          </a:xfrm>
        </p:grpSpPr>
        <p:sp>
          <p:nvSpPr>
            <p:cNvPr id="1162" name=""/>
            <p:cNvSpPr/>
            <p:nvPr/>
          </p:nvSpPr>
          <p:spPr>
            <a:xfrm flipH="1">
              <a:off x="1957680" y="3273480"/>
              <a:ext cx="107928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036960" y="32734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036960" y="3273480"/>
              <a:ext cx="108108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1403640" y="4136760"/>
              <a:ext cx="50472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908360" y="4136760"/>
              <a:ext cx="50472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605320" y="284148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946600" y="28749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525680" y="37051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865520" y="37386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605320" y="37051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925720" y="37386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757680" y="37051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00760" y="37386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008440" y="456876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349720" y="46022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971640" y="456876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311480" y="46022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13440" y="4138560"/>
              <a:ext cx="431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13440" y="45702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552920" y="46036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84360" y="511164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84360" y="5516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ωδικοποίηση με δυαδικά δένδρ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5076720" y="1844640"/>
            <a:ext cx="3598920" cy="3661920"/>
            <a:chOff x="5076720" y="1844640"/>
            <a:chExt cx="3598920" cy="3661920"/>
          </a:xfrm>
        </p:grpSpPr>
        <p:sp>
          <p:nvSpPr>
            <p:cNvPr id="1185" name=""/>
            <p:cNvSpPr/>
            <p:nvPr/>
          </p:nvSpPr>
          <p:spPr>
            <a:xfrm flipH="1">
              <a:off x="7040520" y="2265480"/>
              <a:ext cx="50472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7762680" y="4702320"/>
              <a:ext cx="50292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580080" y="3921120"/>
              <a:ext cx="53208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688160" y="3921120"/>
              <a:ext cx="57636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6537240" y="3129120"/>
              <a:ext cx="50328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040520" y="3129120"/>
              <a:ext cx="57636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112160" y="184464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453440" y="18781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608880" y="270828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948360" y="27417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256520" y="348948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577280" y="35226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832880" y="428148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167680" y="43210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126120" y="348948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467400" y="35226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329600" y="506268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688160" y="5140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680160" y="428148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021440" y="43210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076720" y="3429000"/>
              <a:ext cx="647640" cy="358920"/>
            </a:xfrm>
            <a:prstGeom prst="rightArrow">
              <a:avLst>
                <a:gd name="adj1" fmla="val 50000"/>
                <a:gd name="adj2" fmla="val 45110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8" dur="indefinite" restart="never" nodeType="tmRoot">
          <p:childTnLst>
            <p:seq>
              <p:cTn id="2279" dur="indefinite" nodeType="mainSeq">
                <p:childTnLst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4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9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4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ειρά με την οποία διασχίζονται οι κόμβο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ά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βάθο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epth firs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ά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λάτο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breadth firs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4581360" y="2219400"/>
            <a:ext cx="4381560" cy="3316320"/>
            <a:chOff x="4581360" y="2219400"/>
            <a:chExt cx="4381560" cy="3316320"/>
          </a:xfrm>
        </p:grpSpPr>
        <p:sp>
          <p:nvSpPr>
            <p:cNvPr id="1209" name=""/>
            <p:cNvSpPr/>
            <p:nvPr/>
          </p:nvSpPr>
          <p:spPr>
            <a:xfrm>
              <a:off x="6351480" y="2219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608880" y="22525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172120" y="317016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428080" y="32036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532640" y="3170160"/>
              <a:ext cx="841320" cy="44316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788600" y="32036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581360" y="418464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2120" y="42181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120160" y="418464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379000" y="4218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532640" y="5092560"/>
              <a:ext cx="841320" cy="44316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6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788600" y="51260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351480" y="5092560"/>
              <a:ext cx="84312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608880" y="51260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172120" y="509256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428080" y="51260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761080" y="418464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19920" y="4218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592600" y="266220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951680" y="3613320"/>
              <a:ext cx="59220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003640" y="3613320"/>
              <a:ext cx="1179720" cy="57132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592600" y="4627440"/>
              <a:ext cx="117972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7951320" y="4627440"/>
              <a:ext cx="59220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85800" y="3048120"/>
            <a:ext cx="37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τά βάθο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42, 10, 7, 14, 12, 30, 50, 55, 5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τά πλάτο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42, 10, 50, 7, 14, 55, 12, 30, 5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5" dur="indefinite" restart="never" nodeType="tmRoot">
          <p:childTnLst>
            <p:seq>
              <p:cTn id="2296" dur="indefinite" nodeType="mainSeq">
                <p:childTnLst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1" dur="500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4" dur="500"/>
                                        <p:tgtEl>
                                          <p:spTgt spid="1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7" dur="500"/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2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7" dur="500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2" dur="500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7" dur="500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2" dur="500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κατά βάθ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λύ απλά, με χρήση αναδρομ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treePrintDF (tree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t !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d ", t-&gt;dat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reePrintDF(t-&gt;lef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reePrintDF(t-&gt;righ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3" dur="indefinite" restart="never" nodeType="tmRoot">
          <p:childTnLst>
            <p:seq>
              <p:cTn id="2334" dur="indefinite" nodeType="mainSeq">
                <p:childTnLst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9" dur="500"/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2" dur="500"/>
                                        <p:tgtEl>
                                          <p:spTgt spid="1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7" dur="500"/>
                                        <p:tgtEl>
                                          <p:spTgt spid="1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0" dur="500"/>
                                        <p:tgtEl>
                                          <p:spTgt spid="1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3" dur="500"/>
                                        <p:tgtEl>
                                          <p:spTgt spid="1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6" dur="500"/>
                                        <p:tgtEl>
                                          <p:spTgt spid="1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9" dur="500"/>
                                        <p:tgtEl>
                                          <p:spTgt spid="1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2" dur="500"/>
                                        <p:tgtEl>
                                          <p:spTgt spid="1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5" dur="500"/>
                                        <p:tgtEl>
                                          <p:spTgt spid="1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8" dur="500"/>
                                        <p:tgtEl>
                                          <p:spTgt spid="1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1" dur="500"/>
                                        <p:tgtEl>
                                          <p:spTgt spid="1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κατά πλάτ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τη βοήθει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υρά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για την αποθήκευση δεικτών προς τους κόμβους που δεν έχουμε επισκεφθε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treePrintBF (tree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ueue q = queue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t !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ueueInsert(&amp;q,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8" dur="500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1" dur="500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6" dur="500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9" dur="500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2" dur="500"/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5" dur="500"/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8" dur="500"/>
                                        <p:tgtEl>
                                          <p:spTgt spid="1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1" dur="500"/>
                                        <p:tgtEl>
                                          <p:spTgt spid="1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κατά πλάτος, υλοποίηση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!queueIsEmpty(q)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reeNode * n = queueRemove(&amp;q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d ", n-&gt;dat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-&gt;left !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ueueInsert(&amp;q, n-&gt;lef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-&gt;right !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ueueInsert(&amp;q, n-&gt;righ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2" dur="indefinite" restart="never" nodeType="tmRoot">
          <p:childTnLst>
            <p:seq>
              <p:cTn id="2403" dur="indefinite" nodeType="mainSeq">
                <p:childTnLst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8" dur="500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1" dur="500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4" dur="500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7" dur="500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0" dur="500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3" dur="500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6" dur="500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9" dur="500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2" dur="500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5" dur="500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8" dur="500"/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3 * (24 / 2) + (9 - 3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σταση σε μορφή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αδικού δένδρ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ριθμοί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α φύλλ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ελεστέ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στου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πόλοιπους κόμβ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1242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68580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άσχιση κατά βάθο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9" dur="indefinite" restart="never" nodeType="tmRoot">
          <p:childTnLst>
            <p:seq>
              <p:cTn id="2440" dur="indefinite" nodeType="mainSeq">
                <p:childTnLst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5" dur="500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8" dur="500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3" dur="500"/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6" dur="500"/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9" dur="500"/>
                                        <p:tgtEl>
                                          <p:spTgt spid="1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9" dur="500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με τη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canf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Ίδιοι κωδικοί για τους απλούς τύπ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har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canf("%d", &amp;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canf("%lf", &amp;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canf("%c", &amp;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νθεματικ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ράστα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fix not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τελεστής ανάμεσα στ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φορούμενη: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ειάζονται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ενθέ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συνήθης μορφ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τον άνθρωπ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3 * (24 / 2)) + (9 - 3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1269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0" dur="indefinite" restart="never" nodeType="tmRoot">
          <p:childTnLst>
            <p:seq>
              <p:cTn id="2471" dur="indefinite" nodeType="mainSeq">
                <p:childTnLst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6" dur="500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9" dur="500"/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2" dur="500"/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5" dur="500"/>
                                        <p:tgtEl>
                                          <p:spTgt spid="1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8" dur="500"/>
                                        <p:tgtEl>
                                          <p:spTgt spid="1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3" dur="500"/>
                                        <p:tgtEl>
                                          <p:spTgt spid="1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6" dur="500"/>
                                        <p:tgtEl>
                                          <p:spTgt spid="1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Προθεματικ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ράστα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fix not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τελεστής πριν τ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χι διφορούμενη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 χρειάζονται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ενθέ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λή μηχανικ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άγνω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+ * 3 / 24 2 - 9 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94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1295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7" dur="indefinite" restart="never" nodeType="tmRoot">
          <p:childTnLst>
            <p:seq>
              <p:cTn id="2498" dur="indefinite" nodeType="mainSeq">
                <p:childTnLst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3" dur="50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6" dur="500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9" dur="500"/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2" dur="500"/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5" dur="500"/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0" dur="500"/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3" dur="500"/>
                                        <p:tgtEl>
                                          <p:spTgt spid="1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πιθεματικ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ράστα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tfix not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τελεστής μετά τ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χι διφορούμενη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 χρειάζονται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ενθέ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λή μηχανικ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οτίμη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3 24 2 / * 9 3 - +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1321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4" dur="indefinite" restart="never" nodeType="tmRoot">
          <p:childTnLst>
            <p:seq>
              <p:cTn id="2525" dur="indefinite" nodeType="mainSeq">
                <p:childTnLst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0" dur="500"/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3" dur="500"/>
                                        <p:tgtEl>
                                          <p:spTgt spid="1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6" dur="500"/>
                                        <p:tgtEl>
                                          <p:spTgt spid="1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9" dur="500"/>
                                        <p:tgtEl>
                                          <p:spTgt spid="1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2" dur="500"/>
                                        <p:tgtEl>
                                          <p:spTgt spid="1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7" dur="500"/>
                                        <p:tgtEl>
                                          <p:spTgt spid="1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0" dur="500"/>
                                        <p:tgtEl>
                                          <p:spTgt spid="1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 αναζήτη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Binary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arch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tre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αδικά δένδρα με τις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κάτω ιδιότητες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ια κάθε κόμβο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λοι οι κόμβοι του</a:t>
            </a:r>
            <a:br>
              <a:rPr sz="2800"/>
            </a:br>
            <a:r>
              <a:rPr b="0" lang="el-GR" sz="2800" spc="-1" strike="noStrike">
                <a:solidFill>
                  <a:srgbClr val="004c2b"/>
                </a:solidFill>
                <a:latin typeface="Times New Roman"/>
              </a:rPr>
              <a:t>αριστερού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ιδιού έχουν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ιμέ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ικρότερες ή ίσε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ς τιμής τ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λοι οι κόμβοι του</a:t>
            </a:r>
            <a:br>
              <a:rPr sz="2800"/>
            </a:br>
            <a:r>
              <a:rPr b="0" lang="el-GR" sz="2800" spc="-1" strike="noStrike">
                <a:solidFill>
                  <a:srgbClr val="004c2b"/>
                </a:solidFill>
                <a:latin typeface="Times New Roman"/>
              </a:rPr>
              <a:t>δεξιού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ιδιού έχουν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ιμέ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εγαλύτερες ή ίσε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ς τιμής τ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5638680" y="1905120"/>
            <a:ext cx="3124440" cy="4419360"/>
            <a:chOff x="5638680" y="1905120"/>
            <a:chExt cx="3124440" cy="4419360"/>
          </a:xfrm>
        </p:grpSpPr>
        <p:sp>
          <p:nvSpPr>
            <p:cNvPr id="1347" name=""/>
            <p:cNvSpPr/>
            <p:nvPr/>
          </p:nvSpPr>
          <p:spPr>
            <a:xfrm>
              <a:off x="5638680" y="2262240"/>
              <a:ext cx="3124440" cy="406224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348" name=""/>
            <p:cNvGrpSpPr/>
            <p:nvPr/>
          </p:nvGrpSpPr>
          <p:grpSpPr>
            <a:xfrm>
              <a:off x="5943600" y="3402000"/>
              <a:ext cx="685440" cy="569880"/>
              <a:chOff x="5943600" y="3402000"/>
              <a:chExt cx="685440" cy="569880"/>
            </a:xfrm>
          </p:grpSpPr>
          <p:sp>
            <p:nvSpPr>
              <p:cNvPr id="1349" name=""/>
              <p:cNvSpPr/>
              <p:nvPr/>
            </p:nvSpPr>
            <p:spPr>
              <a:xfrm rot="5400000">
                <a:off x="600120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594360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28632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6324480" y="3900600"/>
              <a:ext cx="381240" cy="285480"/>
              <a:chOff x="6324480" y="3900600"/>
              <a:chExt cx="381240" cy="285480"/>
            </a:xfrm>
          </p:grpSpPr>
          <p:sp>
            <p:nvSpPr>
              <p:cNvPr id="1353" name=""/>
              <p:cNvSpPr/>
              <p:nvPr/>
            </p:nvSpPr>
            <p:spPr>
              <a:xfrm>
                <a:off x="6514920" y="3900600"/>
                <a:ext cx="0" cy="1900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324480" y="40906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378840" y="4138200"/>
                <a:ext cx="272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433560" y="41860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5867280" y="3900600"/>
              <a:ext cx="381240" cy="285480"/>
              <a:chOff x="5867280" y="3900600"/>
              <a:chExt cx="381240" cy="285480"/>
            </a:xfrm>
          </p:grpSpPr>
          <p:sp>
            <p:nvSpPr>
              <p:cNvPr id="1358" name=""/>
              <p:cNvSpPr/>
              <p:nvPr/>
            </p:nvSpPr>
            <p:spPr>
              <a:xfrm>
                <a:off x="6057720" y="3900600"/>
                <a:ext cx="0" cy="1900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867280" y="40906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921640" y="4138200"/>
                <a:ext cx="272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976360" y="41860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7848720" y="5326200"/>
              <a:ext cx="685440" cy="571320"/>
              <a:chOff x="7848720" y="5326200"/>
              <a:chExt cx="685440" cy="571320"/>
            </a:xfrm>
          </p:grpSpPr>
          <p:sp>
            <p:nvSpPr>
              <p:cNvPr id="1363" name=""/>
              <p:cNvSpPr/>
              <p:nvPr/>
            </p:nvSpPr>
            <p:spPr>
              <a:xfrm rot="5400000">
                <a:off x="7905600" y="5268960"/>
                <a:ext cx="57132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>
                <a:off x="7848720" y="561204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8191440" y="5612040"/>
                <a:ext cx="0" cy="2854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8229600" y="5826240"/>
              <a:ext cx="380880" cy="284040"/>
              <a:chOff x="8229600" y="5826240"/>
              <a:chExt cx="380880" cy="284040"/>
            </a:xfrm>
          </p:grpSpPr>
          <p:sp>
            <p:nvSpPr>
              <p:cNvPr id="1367" name=""/>
              <p:cNvSpPr/>
              <p:nvPr/>
            </p:nvSpPr>
            <p:spPr>
              <a:xfrm>
                <a:off x="8420040" y="5826240"/>
                <a:ext cx="0" cy="189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8229600" y="601524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82839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83383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7772400" y="5826240"/>
              <a:ext cx="380880" cy="284040"/>
              <a:chOff x="7772400" y="5826240"/>
              <a:chExt cx="380880" cy="284040"/>
            </a:xfrm>
          </p:grpSpPr>
          <p:sp>
            <p:nvSpPr>
              <p:cNvPr id="1372" name=""/>
              <p:cNvSpPr/>
              <p:nvPr/>
            </p:nvSpPr>
            <p:spPr>
              <a:xfrm>
                <a:off x="7962840" y="5826240"/>
                <a:ext cx="0" cy="189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772400" y="601524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8267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8811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76" name=""/>
            <p:cNvGrpSpPr/>
            <p:nvPr/>
          </p:nvGrpSpPr>
          <p:grpSpPr>
            <a:xfrm>
              <a:off x="6477120" y="4400640"/>
              <a:ext cx="685440" cy="569880"/>
              <a:chOff x="6477120" y="4400640"/>
              <a:chExt cx="685440" cy="569880"/>
            </a:xfrm>
          </p:grpSpPr>
          <p:sp>
            <p:nvSpPr>
              <p:cNvPr id="1377" name=""/>
              <p:cNvSpPr/>
              <p:nvPr/>
            </p:nvSpPr>
            <p:spPr>
              <a:xfrm rot="5400000">
                <a:off x="6534720" y="434268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>
                <a:off x="6477120" y="468576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819840" y="468576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6858000" y="4898880"/>
              <a:ext cx="380880" cy="285840"/>
              <a:chOff x="6858000" y="4898880"/>
              <a:chExt cx="380880" cy="285840"/>
            </a:xfrm>
          </p:grpSpPr>
          <p:sp>
            <p:nvSpPr>
              <p:cNvPr id="1381" name=""/>
              <p:cNvSpPr/>
              <p:nvPr/>
            </p:nvSpPr>
            <p:spPr>
              <a:xfrm>
                <a:off x="7048440" y="4898880"/>
                <a:ext cx="0" cy="19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858000" y="5089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912360" y="513684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966720" y="5184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85" name=""/>
            <p:cNvGrpSpPr/>
            <p:nvPr/>
          </p:nvGrpSpPr>
          <p:grpSpPr>
            <a:xfrm>
              <a:off x="6400800" y="4898880"/>
              <a:ext cx="380880" cy="285840"/>
              <a:chOff x="6400800" y="4898880"/>
              <a:chExt cx="380880" cy="285840"/>
            </a:xfrm>
          </p:grpSpPr>
          <p:sp>
            <p:nvSpPr>
              <p:cNvPr id="1386" name=""/>
              <p:cNvSpPr/>
              <p:nvPr/>
            </p:nvSpPr>
            <p:spPr>
              <a:xfrm>
                <a:off x="6591240" y="4898880"/>
                <a:ext cx="0" cy="19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400800" y="5089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455160" y="513684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509520" y="5184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7543800" y="4400640"/>
              <a:ext cx="685440" cy="569880"/>
              <a:chOff x="7543800" y="4400640"/>
              <a:chExt cx="685440" cy="569880"/>
            </a:xfrm>
          </p:grpSpPr>
          <p:sp>
            <p:nvSpPr>
              <p:cNvPr id="1391" name=""/>
              <p:cNvSpPr/>
              <p:nvPr/>
            </p:nvSpPr>
            <p:spPr>
              <a:xfrm rot="5400000">
                <a:off x="7601400" y="434268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H="1">
                <a:off x="7543800" y="468576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886520" y="468576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94" name=""/>
            <p:cNvGrpSpPr/>
            <p:nvPr/>
          </p:nvGrpSpPr>
          <p:grpSpPr>
            <a:xfrm>
              <a:off x="7467480" y="4898880"/>
              <a:ext cx="381240" cy="285840"/>
              <a:chOff x="7467480" y="4898880"/>
              <a:chExt cx="381240" cy="285840"/>
            </a:xfrm>
          </p:grpSpPr>
          <p:sp>
            <p:nvSpPr>
              <p:cNvPr id="1395" name=""/>
              <p:cNvSpPr/>
              <p:nvPr/>
            </p:nvSpPr>
            <p:spPr>
              <a:xfrm>
                <a:off x="7657920" y="4898880"/>
                <a:ext cx="0" cy="19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467480" y="508932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521840" y="5136840"/>
                <a:ext cx="272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576560" y="5184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7010280" y="3402000"/>
              <a:ext cx="685440" cy="569880"/>
              <a:chOff x="7010280" y="3402000"/>
              <a:chExt cx="685440" cy="569880"/>
            </a:xfrm>
          </p:grpSpPr>
          <p:sp>
            <p:nvSpPr>
              <p:cNvPr id="1400" name=""/>
              <p:cNvSpPr/>
              <p:nvPr/>
            </p:nvSpPr>
            <p:spPr>
              <a:xfrm rot="5400000">
                <a:off x="706788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>
                <a:off x="701028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35300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477120" y="2475000"/>
              <a:ext cx="685440" cy="569880"/>
              <a:chOff x="6477120" y="2475000"/>
              <a:chExt cx="685440" cy="569880"/>
            </a:xfrm>
          </p:grpSpPr>
          <p:sp>
            <p:nvSpPr>
              <p:cNvPr id="1404" name=""/>
              <p:cNvSpPr/>
              <p:nvPr/>
            </p:nvSpPr>
            <p:spPr>
              <a:xfrm rot="5400000">
                <a:off x="6534720" y="2417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H="1">
                <a:off x="6477120" y="2760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819840" y="2760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407" name=""/>
            <p:cNvSpPr/>
            <p:nvPr/>
          </p:nvSpPr>
          <p:spPr>
            <a:xfrm flipH="1">
              <a:off x="6248520" y="2975040"/>
              <a:ext cx="380880" cy="426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010280" y="2975040"/>
              <a:ext cx="304920" cy="426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6857640" y="3900600"/>
              <a:ext cx="304920" cy="5000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543800" y="3900600"/>
              <a:ext cx="304920" cy="5000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8077320" y="4898880"/>
              <a:ext cx="152280" cy="4273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781680" y="1905120"/>
              <a:ext cx="0" cy="569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554880" y="2387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116760" y="3314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113600" y="3314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634160" y="4305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951680" y="5232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580080" y="4305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1" dur="indefinite" restart="never" nodeType="tmRoot">
          <p:childTnLst>
            <p:seq>
              <p:cTn id="2552" dur="indefinite" nodeType="mainSeq">
                <p:childTnLst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7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 αναζήτη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 δυαδικά δένδρα αναζήτησης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ευκολύνουν την αναζήτησ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δρομική αναζήτ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 η τιμή που ζητείται είναι στη ρίζα, βρέθηκ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 είναι μικρότερη από την τιμή της ρίζας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κεί να αναζητηθεί στο αριστερό παιδ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 είναι μεγαλύτερη από την τιμή της ρίζας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κεί να αναζητηθεί στο δεξί παιδ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όστος αναζήτησης: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(log </a:t>
            </a:r>
            <a:r>
              <a:rPr b="0" i="1" lang="en-US" sz="32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πό την προϋπόθεση το δένδρο να είναι ισοζυγισμέν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8" dur="indefinite" restart="never" nodeType="tmRoot">
          <p:childTnLst>
            <p:seq>
              <p:cTn id="2559" dur="indefinite" nodeType="mainSeq">
                <p:childTnLst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4" dur="500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9" dur="500"/>
                                        <p:tgtEl>
                                          <p:spTgt spid="1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2" dur="500"/>
                                        <p:tgtEl>
                                          <p:spTgt spid="1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5" dur="500"/>
                                        <p:tgtEl>
                                          <p:spTgt spid="1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8" dur="500"/>
                                        <p:tgtEl>
                                          <p:spTgt spid="1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3" dur="500"/>
                                        <p:tgtEl>
                                          <p:spTgt spid="1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6" dur="500"/>
                                        <p:tgtEl>
                                          <p:spTgt spid="1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 αναζήτη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ζήτ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reeNode * treeSearch (tree t, int ke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NULL;     /* not found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t-&gt;data == ke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t;        /* found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t-&gt;data &gt; ke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treeSearch(t-&gt;left, ke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treeSearch(t-&gt;right, ke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7" dur="indefinite" restart="never" nodeType="tmRoot">
          <p:childTnLst>
            <p:seq>
              <p:cTn id="2588" dur="indefinite" nodeType="mainSeq">
                <p:childTnLst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3" dur="500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6" dur="500"/>
                                        <p:tgtEl>
                                          <p:spTgt spid="1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9" dur="500"/>
                                        <p:tgtEl>
                                          <p:spTgt spid="1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2" dur="500"/>
                                        <p:tgtEl>
                                          <p:spTgt spid="1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5" dur="500"/>
                                        <p:tgtEl>
                                          <p:spTgt spid="1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8" dur="500"/>
                                        <p:tgtEl>
                                          <p:spTgt spid="1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1" dur="500"/>
                                        <p:tgtEl>
                                          <p:spTgt spid="1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4" dur="500"/>
                                        <p:tgtEl>
                                          <p:spTgt spid="1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7" dur="500"/>
                                        <p:tgtEl>
                                          <p:spTgt spid="1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0" dur="500"/>
                                        <p:tgtEl>
                                          <p:spTgt spid="1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3" dur="500"/>
                                        <p:tgtEl>
                                          <p:spTgt spid="14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6" dur="500"/>
                                        <p:tgtEl>
                                          <p:spTgt spid="14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ες σε συναρτήσει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int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(*p) (int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f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", (*p)(3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(*q) (double) = &amp;sqr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είκτες ισοδύναμοι με συναρτή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f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", p(3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λοκλήρωση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integral (double a, double b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(*f) (double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double step = 1e-6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result = 0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x=a; x&lt;=b; x += ste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sult += f(x) * ste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 = integral(0, 3.14159, si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966360" y="2819520"/>
            <a:ext cx="16941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ακό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λγόριθμος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7" dur="indefinite" restart="never" nodeType="tmRoot">
          <p:childTnLst>
            <p:seq>
              <p:cTn id="2628" dur="indefinite" nodeType="mainSeq">
                <p:childTnLst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3" dur="500"/>
                                        <p:tgtEl>
                                          <p:spTgt spid="1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6" dur="500"/>
                                        <p:tgtEl>
                                          <p:spTgt spid="1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9" dur="500"/>
                                        <p:tgtEl>
                                          <p:spTgt spid="1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2" dur="500"/>
                                        <p:tgtEl>
                                          <p:spTgt spid="1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5" dur="500"/>
                                        <p:tgtEl>
                                          <p:spTgt spid="1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8" dur="500"/>
                                        <p:tgtEl>
                                          <p:spTgt spid="1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1" dur="500"/>
                                        <p:tgtEl>
                                          <p:spTgt spid="1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4" dur="500"/>
                                        <p:tgtEl>
                                          <p:spTgt spid="1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7" dur="500"/>
                                        <p:tgtEl>
                                          <p:spTgt spid="1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0" dur="500"/>
                                        <p:tgtEl>
                                          <p:spTgt spid="1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3" dur="500"/>
                                        <p:tgtEl>
                                          <p:spTgt spid="1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6" dur="500"/>
                                        <p:tgtEl>
                                          <p:spTgt spid="14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9" dur="500"/>
                                        <p:tgtEl>
                                          <p:spTgt spid="14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2" dur="500"/>
                                        <p:tgtEl>
                                          <p:spTgt spid="14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7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φυσαλίδ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 δεδομένα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* a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ύ βρίσκοντα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όσα είνα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iz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ί μέγεθος έχει καθέ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arison f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ώς γίνεται η σύγκρι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σύγκριση των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int (*comparison) (void * x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*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8" dur="indefinite" restart="never" nodeType="tmRoot">
          <p:childTnLst>
            <p:seq>
              <p:cTn id="2679" dur="indefinite" nodeType="mainSeq">
                <p:childTnLst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4" dur="500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7" dur="500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0" dur="500"/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3" dur="500"/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6" dur="500"/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1" dur="500"/>
                                        <p:tgtEl>
                                          <p:spTgt spid="1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4" dur="500"/>
                                        <p:tgtEl>
                                          <p:spTgt spid="1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7" dur="500"/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φυσαλίδ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bsort (void * a, int n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mparison f, int siz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, j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i = 0; i &lt; n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j = n-1; j &gt; i; j--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signed char * px =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unsigned char *) a +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j-1) * siz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signed char * py =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unsigned char *) a +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j * siz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8" dur="indefinite" restart="never" nodeType="tmRoot">
          <p:childTnLst>
            <p:seq>
              <p:cTn id="2709" dur="indefinite" nodeType="mainSeq">
                <p:childTnLst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4" dur="500"/>
                                        <p:tgtEl>
                                          <p:spTgt spid="1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7" dur="500"/>
                                        <p:tgtEl>
                                          <p:spTgt spid="1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0" dur="500"/>
                                        <p:tgtEl>
                                          <p:spTgt spid="1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3" dur="500"/>
                                        <p:tgtEl>
                                          <p:spTgt spid="1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6" dur="500"/>
                                        <p:tgtEl>
                                          <p:spTgt spid="1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9" dur="500"/>
                                        <p:tgtEl>
                                          <p:spTgt spid="1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2" dur="500"/>
                                        <p:tgtEl>
                                          <p:spTgt spid="1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5" dur="500"/>
                                        <p:tgtEl>
                                          <p:spTgt spid="1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8" dur="500"/>
                                        <p:tgtEl>
                                          <p:spTgt spid="1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1" dur="500"/>
                                        <p:tgtEl>
                                          <p:spTgt spid="1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4" dur="500"/>
                                        <p:tgtEl>
                                          <p:spTgt spid="1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7" dur="500"/>
                                        <p:tgtEl>
                                          <p:spTgt spid="1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Ένα πιο σύνθετο παράδειγμ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celcius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farenhei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Give the temperature (C): ")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canf("%d", &amp;celcius)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arenheit = 9.0 * celcius / 5.0 + 32.0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d degrees Celcius 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"is %lf degrees Farenheit"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elcius, farenheit)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φυσαλίδ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f(px, py) &gt; 0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k = 0; k &lt; size; k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signed char temp = *p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px++ = *p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py++ = tem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8" dur="indefinite" restart="never" nodeType="tmRoot">
          <p:childTnLst>
            <p:seq>
              <p:cTn id="2749" dur="indefinite" nodeType="mainSeq">
                <p:childTnLst>
                  <p:par>
                    <p:cTn id="2750" fill="hold">
                      <p:stCondLst>
                        <p:cond delay="indefinite"/>
                      </p:stCondLst>
                      <p:childTnLst>
                        <p:par>
                          <p:cTn id="2751" fill="hold">
                            <p:stCondLst>
                              <p:cond delay="0"/>
                            </p:stCondLst>
                            <p:childTnLst>
                              <p:par>
                                <p:cTn id="27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4" dur="500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7" dur="500"/>
                                        <p:tgtEl>
                                          <p:spTgt spid="1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0" dur="500"/>
                                        <p:tgtEl>
                                          <p:spTgt spid="1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3" dur="500"/>
                                        <p:tgtEl>
                                          <p:spTgt spid="1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6" dur="500"/>
                                        <p:tgtEl>
                                          <p:spTgt spid="1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9" dur="500"/>
                                        <p:tgtEl>
                                          <p:spTgt spid="1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2" dur="500"/>
                                        <p:tgtEl>
                                          <p:spTgt spid="1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5" dur="500"/>
                                        <p:tgtEl>
                                          <p:spTgt spid="1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8" dur="500"/>
                                        <p:tgtEl>
                                          <p:spTgt spid="1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1" dur="500"/>
                                        <p:tgtEl>
                                          <p:spTgt spid="1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4" dur="500"/>
                                        <p:tgtEl>
                                          <p:spTgt spid="1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7" dur="500"/>
                                        <p:tgtEl>
                                          <p:spTgt spid="1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φυσαλίδ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άρτηση σύγκρισης για ακέραι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ntcompare (void * x, void * 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*((int *) x) - *((int *)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ήση για πίνακα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x[] = { 44, 55, 12, 42, ...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sort(x, n, intcompare, sizeof(int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8" dur="indefinite" restart="never" nodeType="tmRoot">
          <p:childTnLst>
            <p:seq>
              <p:cTn id="2789" dur="indefinite" nodeType="mainSeq">
                <p:childTnLst>
                  <p:par>
                    <p:cTn id="2790" fill="hold">
                      <p:stCondLst>
                        <p:cond delay="indefinite"/>
                      </p:stCondLst>
                      <p:childTnLst>
                        <p:par>
                          <p:cTn id="2791" fill="hold">
                            <p:stCondLst>
                              <p:cond delay="0"/>
                            </p:stCondLst>
                            <p:childTnLst>
                              <p:par>
                                <p:cTn id="27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4" dur="50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7" dur="500"/>
                                        <p:tgtEl>
                                          <p:spTgt spid="1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0" dur="500"/>
                                        <p:tgtEl>
                                          <p:spTgt spid="1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3" dur="500"/>
                                        <p:tgtEl>
                                          <p:spTgt spid="1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6" dur="500"/>
                                        <p:tgtEl>
                                          <p:spTgt spid="1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7" fill="hold">
                      <p:stCondLst>
                        <p:cond delay="indefinite"/>
                      </p:stCondLst>
                      <p:childTnLst>
                        <p:par>
                          <p:cTn id="2808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1" dur="500"/>
                                        <p:tgtEl>
                                          <p:spTgt spid="1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4" dur="500"/>
                                        <p:tgtEl>
                                          <p:spTgt spid="1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7" dur="500"/>
                                        <p:tgtEl>
                                          <p:spTgt spid="1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0" dur="500"/>
                                        <p:tgtEl>
                                          <p:spTgt spid="1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αριθμητικών εκφράσε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Έκφραση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: δυαδικό δένδρο ειδικής μορφ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όμβοι τριών ειδών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ιθμητικές σταθερές (φύλλα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εστές με ένα τελούμεν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εστές με δύο 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ληροφορία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ιμή σταθεράς, 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μβολο τελεστ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δεσμοι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όμβος δένδρου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ExprNode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num { EXP_const, EXP_unop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_binop } </a:t>
            </a:r>
            <a:r>
              <a:rPr b="1" sz="2400" spc="-1" strike="noStrike">
                <a:solidFill>
                  <a:srgbClr val="660066"/>
                </a:solidFill>
                <a:latin typeface="Courier New"/>
              </a:rPr>
              <a:t>code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ion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</a:t>
            </a:r>
            <a:r>
              <a:rPr b="1" sz="2400" spc="-1" strike="noStrike">
                <a:solidFill>
                  <a:srgbClr val="003366"/>
                </a:solidFill>
                <a:latin typeface="Courier New"/>
              </a:rPr>
              <a:t>constant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har </a:t>
            </a:r>
            <a:r>
              <a:rPr b="1" sz="2400" spc="-1" strike="noStrike">
                <a:solidFill>
                  <a:srgbClr val="004c2b"/>
                </a:solidFill>
                <a:latin typeface="Courier New"/>
              </a:rPr>
              <a:t>op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ExprNode_tag *</a:t>
            </a:r>
            <a:r>
              <a:rPr b="1" sz="2400" spc="-1" strike="noStrike">
                <a:solidFill>
                  <a:srgbClr val="004c2b"/>
                </a:solidFill>
                <a:latin typeface="Courier New"/>
              </a:rPr>
              <a:t>arg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</a:t>
            </a:r>
            <a:r>
              <a:rPr b="1" sz="2400" spc="-1" strike="noStrike">
                <a:solidFill>
                  <a:srgbClr val="003366"/>
                </a:solidFill>
                <a:latin typeface="Courier New"/>
              </a:rPr>
              <a:t>unop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har </a:t>
            </a:r>
            <a:r>
              <a:rPr b="1" sz="2400" spc="-1" strike="noStrike">
                <a:solidFill>
                  <a:srgbClr val="004c2b"/>
                </a:solidFill>
                <a:latin typeface="Courier New"/>
              </a:rPr>
              <a:t>op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ExprNode_tag *</a:t>
            </a:r>
            <a:r>
              <a:rPr b="1" sz="2400" spc="-1" strike="noStrike">
                <a:solidFill>
                  <a:srgbClr val="004c2b"/>
                </a:solidFill>
                <a:latin typeface="Courier New"/>
              </a:rPr>
              <a:t>arg1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, *</a:t>
            </a:r>
            <a:r>
              <a:rPr b="1" sz="2400" spc="-1" strike="noStrike">
                <a:solidFill>
                  <a:srgbClr val="004c2b"/>
                </a:solidFill>
                <a:latin typeface="Courier New"/>
              </a:rPr>
              <a:t>arg2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</a:t>
            </a:r>
            <a:r>
              <a:rPr b="1" sz="2400" spc="-1" strike="noStrike">
                <a:solidFill>
                  <a:srgbClr val="003366"/>
                </a:solidFill>
                <a:latin typeface="Courier New"/>
              </a:rPr>
              <a:t>binop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</a:t>
            </a:r>
            <a:r>
              <a:rPr b="1" sz="2400" spc="-1" strike="noStrike">
                <a:solidFill>
                  <a:srgbClr val="660066"/>
                </a:solidFill>
                <a:latin typeface="Courier New"/>
              </a:rPr>
              <a:t>data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ExprNode, *exp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1" dur="indefinite" restart="never" nodeType="tmRoot">
          <p:childTnLst>
            <p:seq>
              <p:cTn id="2822" dur="indefinite" nodeType="mainSeq">
                <p:childTnLst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7" dur="500"/>
                                        <p:tgtEl>
                                          <p:spTgt spid="1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8" fill="hold">
                      <p:stCondLst>
                        <p:cond delay="indefinite"/>
                      </p:stCondLst>
                      <p:childTnLst>
                        <p:par>
                          <p:cTn id="2829" fill="hold">
                            <p:stCondLst>
                              <p:cond delay="0"/>
                            </p:stCondLst>
                            <p:childTnLst>
                              <p:par>
                                <p:cTn id="28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2" dur="500"/>
                                        <p:tgtEl>
                                          <p:spTgt spid="1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7" dur="500"/>
                                        <p:tgtEl>
                                          <p:spTgt spid="1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8" fill="hold">
                      <p:stCondLst>
                        <p:cond delay="indefinite"/>
                      </p:stCondLst>
                      <p:childTnLst>
                        <p:par>
                          <p:cTn id="2839" fill="hold">
                            <p:stCondLst>
                              <p:cond delay="0"/>
                            </p:stCondLst>
                            <p:childTnLst>
                              <p:par>
                                <p:cTn id="28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2" dur="500"/>
                                        <p:tgtEl>
                                          <p:spTgt spid="1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fill="hold">
                      <p:stCondLst>
                        <p:cond delay="indefinite"/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7" dur="500"/>
                                        <p:tgtEl>
                                          <p:spTgt spid="1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fill="hold">
                      <p:stCondLst>
                        <p:cond delay="indefinite"/>
                      </p:stCondLst>
                      <p:childTnLst>
                        <p:par>
                          <p:cTn id="2849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2" dur="500"/>
                                        <p:tgtEl>
                                          <p:spTgt spid="1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7" dur="500"/>
                                        <p:tgtEl>
                                          <p:spTgt spid="1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8" fill="hold">
                      <p:stCondLst>
                        <p:cond delay="indefinite"/>
                      </p:stCondLst>
                      <p:childTnLst>
                        <p:par>
                          <p:cTn id="2859" fill="hold">
                            <p:stCondLst>
                              <p:cond delay="0"/>
                            </p:stCondLst>
                            <p:childTnLst>
                              <p:par>
                                <p:cTn id="28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2" dur="500"/>
                                        <p:tgtEl>
                                          <p:spTgt spid="1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7" dur="500"/>
                                        <p:tgtEl>
                                          <p:spTgt spid="1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2" dur="500"/>
                                        <p:tgtEl>
                                          <p:spTgt spid="1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7" dur="500"/>
                                        <p:tgtEl>
                                          <p:spTgt spid="1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8" fill="hold">
                      <p:stCondLst>
                        <p:cond delay="indefinite"/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2" dur="500"/>
                                        <p:tgtEl>
                                          <p:spTgt spid="14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3" fill="hold">
                      <p:stCondLst>
                        <p:cond delay="indefinite"/>
                      </p:stCondLst>
                      <p:childTnLst>
                        <p:par>
                          <p:cTn id="2884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7" dur="500"/>
                                        <p:tgtEl>
                                          <p:spTgt spid="14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8" fill="hold">
                      <p:stCondLst>
                        <p:cond delay="indefinite"/>
                      </p:stCondLst>
                      <p:childTnLst>
                        <p:par>
                          <p:cTn id="2889" fill="hold">
                            <p:stCondLst>
                              <p:cond delay="0"/>
                            </p:stCondLst>
                            <p:childTnLst>
                              <p:par>
                                <p:cTn id="28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2" dur="500"/>
                                        <p:tgtEl>
                                          <p:spTgt spid="14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3" fill="hold">
                      <p:stCondLst>
                        <p:cond delay="indefinite"/>
                      </p:stCondLst>
                      <p:childTnLst>
                        <p:par>
                          <p:cTn id="2894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7" dur="500"/>
                                        <p:tgtEl>
                                          <p:spTgt spid="14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ή σταθερώ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 exprConst (double constan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Node * e = (ExprNode *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malloc(sizeof(Expr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e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-&gt;code = EXP_con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-&gt;data.constant = constan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8" dur="indefinite" restart="never" nodeType="tmRoot">
          <p:childTnLst>
            <p:seq>
              <p:cTn id="2899" dur="indefinite" nodeType="mainSeq">
                <p:childTnLst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4" dur="500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7" dur="500"/>
                                        <p:tgtEl>
                                          <p:spTgt spid="1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0" dur="500"/>
                                        <p:tgtEl>
                                          <p:spTgt spid="1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3" dur="500"/>
                                        <p:tgtEl>
                                          <p:spTgt spid="1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6" dur="500"/>
                                        <p:tgtEl>
                                          <p:spTgt spid="1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9" dur="500"/>
                                        <p:tgtEl>
                                          <p:spTgt spid="1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2" dur="500"/>
                                        <p:tgtEl>
                                          <p:spTgt spid="1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5" dur="500"/>
                                        <p:tgtEl>
                                          <p:spTgt spid="1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8" dur="500"/>
                                        <p:tgtEl>
                                          <p:spTgt spid="1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1" dur="500"/>
                                        <p:tgtEl>
                                          <p:spTgt spid="1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4" dur="500"/>
                                        <p:tgtEl>
                                          <p:spTgt spid="1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7" dur="500"/>
                                        <p:tgtEl>
                                          <p:spTgt spid="1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ή τελεστών με δύο τελούμεν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 exprBinop (expr arg1, char op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 arg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Node * e = (ExprNode *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malloc(sizeof(Expr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e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-&gt;code = EXP_bino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-&gt;data.binop.op = o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-&gt;data.binop.arg1 = arg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-&gt;data.binop.arg2 = arg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8" dur="indefinite" restart="never" nodeType="tmRoot">
          <p:childTnLst>
            <p:seq>
              <p:cTn id="2939" dur="indefinite" nodeType="mainSeq">
                <p:childTnLst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4" dur="500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7" dur="500"/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0" dur="500"/>
                                        <p:tgtEl>
                                          <p:spTgt spid="1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3" dur="500"/>
                                        <p:tgtEl>
                                          <p:spTgt spid="1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6" dur="500"/>
                                        <p:tgtEl>
                                          <p:spTgt spid="1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9" dur="500"/>
                                        <p:tgtEl>
                                          <p:spTgt spid="1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2" dur="500"/>
                                        <p:tgtEl>
                                          <p:spTgt spid="1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5" dur="500"/>
                                        <p:tgtEl>
                                          <p:spTgt spid="1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8" dur="500"/>
                                        <p:tgtEl>
                                          <p:spTgt spid="1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1" dur="500"/>
                                        <p:tgtEl>
                                          <p:spTgt spid="1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4" dur="500"/>
                                        <p:tgtEl>
                                          <p:spTgt spid="1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7" dur="500"/>
                                        <p:tgtEl>
                                          <p:spTgt spid="14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0" dur="500"/>
                                        <p:tgtEl>
                                          <p:spTgt spid="14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3" dur="500"/>
                                        <p:tgtEl>
                                          <p:spTgt spid="14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6" dur="500"/>
                                        <p:tgtEl>
                                          <p:spTgt spid="14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κατασκευή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κφραση: </a:t>
            </a:r>
            <a:r>
              <a:rPr b="1" lang="el-GR" sz="28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3 * (24 / 2) + (9 - 3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5334120" y="2795760"/>
            <a:ext cx="3504600" cy="2691000"/>
            <a:chOff x="5334120" y="2795760"/>
            <a:chExt cx="3504600" cy="2691000"/>
          </a:xfrm>
        </p:grpSpPr>
        <p:sp>
          <p:nvSpPr>
            <p:cNvPr id="1447" name=""/>
            <p:cNvSpPr/>
            <p:nvPr/>
          </p:nvSpPr>
          <p:spPr>
            <a:xfrm>
              <a:off x="6750000" y="2795760"/>
              <a:ext cx="673920" cy="35424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001640" y="282240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806080" y="3556440"/>
              <a:ext cx="674280" cy="35388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088320" y="358272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694640" y="3556440"/>
              <a:ext cx="672840" cy="35388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949880" y="35827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34120" y="4367520"/>
              <a:ext cx="673920" cy="35388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573880" y="43941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164440" y="4367520"/>
              <a:ext cx="674280" cy="35388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22920" y="43941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750000" y="5094000"/>
              <a:ext cx="673920" cy="35388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007040" y="51206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806080" y="5094000"/>
              <a:ext cx="674280" cy="35388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76720" y="51206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77320" y="4367520"/>
              <a:ext cx="674280" cy="35388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553080" y="4394160"/>
              <a:ext cx="149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143040" y="3150000"/>
              <a:ext cx="1887120" cy="40608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030160" y="3910320"/>
              <a:ext cx="4734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671800" y="3910320"/>
              <a:ext cx="943200" cy="45720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143040" y="4721760"/>
              <a:ext cx="943200" cy="37188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7231320" y="4374000"/>
              <a:ext cx="673920" cy="35388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7479000" y="44006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7566120" y="3916800"/>
              <a:ext cx="4734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470" name=""/>
          <p:cNvSpPr/>
          <p:nvPr/>
        </p:nvSpPr>
        <p:spPr>
          <a:xfrm>
            <a:off x="685800" y="19810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 e =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Binop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Binop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Const(3),'*'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Binop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Const(24), '/'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Const(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), '+'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Binop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Const(9), '-'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Const(3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7" dur="indefinite" restart="never" nodeType="tmRoot">
          <p:childTnLst>
            <p:seq>
              <p:cTn id="2988" dur="indefinite" nodeType="mainSeq">
                <p:childTnLst>
                  <p:par>
                    <p:cTn id="2989" fill="hold">
                      <p:stCondLst>
                        <p:cond delay="indefinite"/>
                      </p:stCondLst>
                      <p:childTnLst>
                        <p:par>
                          <p:cTn id="2990" fill="hold">
                            <p:stCondLst>
                              <p:cond delay="0"/>
                            </p:stCondLst>
                            <p:childTnLst>
                              <p:par>
                                <p:cTn id="2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3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fill="hold">
                      <p:stCondLst>
                        <p:cond delay="indefinite"/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8" dur="500"/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1" dur="500"/>
                                        <p:tgtEl>
                                          <p:spTgt spid="1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4" dur="500"/>
                                        <p:tgtEl>
                                          <p:spTgt spid="1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1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3" dur="500"/>
                                        <p:tgtEl>
                                          <p:spTgt spid="1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6" dur="500"/>
                                        <p:tgtEl>
                                          <p:spTgt spid="1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9" dur="500"/>
                                        <p:tgtEl>
                                          <p:spTgt spid="1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2" dur="500"/>
                                        <p:tgtEl>
                                          <p:spTgt spid="1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5" dur="500"/>
                                        <p:tgtEl>
                                          <p:spTgt spid="1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8" dur="500"/>
                                        <p:tgtEl>
                                          <p:spTgt spid="1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1" dur="500"/>
                                        <p:tgtEl>
                                          <p:spTgt spid="14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4" dur="500"/>
                                        <p:tgtEl>
                                          <p:spTgt spid="14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7" dur="500"/>
                                        <p:tgtEl>
                                          <p:spTgt spid="14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τροφή έκφραση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exprFree (expr 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witch (e-&gt;code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un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Free(e-&gt;data.unop.ar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bin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Free(e-&gt;data.binop.arg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Free(e-&gt;data.binop.arg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8" dur="indefinite" restart="never" nodeType="tmRoot">
          <p:childTnLst>
            <p:seq>
              <p:cTn id="3039" dur="indefinite" nodeType="mainSeq">
                <p:childTnLst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4" dur="500"/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7" dur="500"/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0" dur="500"/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3" dur="500"/>
                                        <p:tgtEl>
                                          <p:spTgt spid="1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6" dur="500"/>
                                        <p:tgtEl>
                                          <p:spTgt spid="1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9" dur="500"/>
                                        <p:tgtEl>
                                          <p:spTgt spid="1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2" dur="500"/>
                                        <p:tgtEl>
                                          <p:spTgt spid="1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5" dur="500"/>
                                        <p:tgtEl>
                                          <p:spTgt spid="1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8" dur="500"/>
                                        <p:tgtEl>
                                          <p:spTgt spid="1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1" dur="500"/>
                                        <p:tgtEl>
                                          <p:spTgt spid="1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4" dur="500"/>
                                        <p:tgtEl>
                                          <p:spTgt spid="14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7" dur="500"/>
                                        <p:tgtEl>
                                          <p:spTgt spid="14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0" dur="500"/>
                                        <p:tgtEl>
                                          <p:spTgt spid="14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κτύπωση έκφρα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exprPrint (expr 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witch (e-&gt;code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const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lg", e-&gt;data.constan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un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(%c", e-&gt;data.unop.o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Print(e-&gt;data.unop.ar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)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1" dur="indefinite" restart="never" nodeType="tmRoot">
          <p:childTnLst>
            <p:seq>
              <p:cTn id="3082" dur="indefinite" nodeType="mainSeq">
                <p:childTnLst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7" dur="500"/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0" dur="500"/>
                                        <p:tgtEl>
                                          <p:spTgt spid="1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3" dur="500"/>
                                        <p:tgtEl>
                                          <p:spTgt spid="1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6" dur="500"/>
                                        <p:tgtEl>
                                          <p:spTgt spid="1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9" dur="500"/>
                                        <p:tgtEl>
                                          <p:spTgt spid="1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2" dur="500"/>
                                        <p:tgtEl>
                                          <p:spTgt spid="1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5" dur="500"/>
                                        <p:tgtEl>
                                          <p:spTgt spid="1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8" dur="500"/>
                                        <p:tgtEl>
                                          <p:spTgt spid="1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1" dur="500"/>
                                        <p:tgtEl>
                                          <p:spTgt spid="1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4" dur="500"/>
                                        <p:tgtEl>
                                          <p:spTgt spid="14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7" dur="500"/>
                                        <p:tgtEl>
                                          <p:spTgt spid="14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κτύπωση έκφρα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bin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(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Print(e-&gt;data.binop.arg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c", e-&gt;data.binop.o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prPrint(e-&gt;data.binop.arg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)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8" dur="indefinite" restart="never" nodeType="tmRoot">
          <p:childTnLst>
            <p:seq>
              <p:cTn id="3119" dur="indefinite" nodeType="mainSeq">
                <p:childTnLst>
                  <p:par>
                    <p:cTn id="3120" fill="hold">
                      <p:stCondLst>
                        <p:cond delay="indefinite"/>
                      </p:stCondLst>
                      <p:childTnLst>
                        <p:par>
                          <p:cTn id="3121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4" dur="500"/>
                                        <p:tgtEl>
                                          <p:spTgt spid="1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7" dur="500"/>
                                        <p:tgtEl>
                                          <p:spTgt spid="1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0" dur="500"/>
                                        <p:tgtEl>
                                          <p:spTgt spid="1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3" dur="500"/>
                                        <p:tgtEl>
                                          <p:spTgt spid="1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6" dur="500"/>
                                        <p:tgtEl>
                                          <p:spTgt spid="1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9" dur="500"/>
                                        <p:tgtEl>
                                          <p:spTgt spid="1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2" dur="500"/>
                                        <p:tgtEl>
                                          <p:spTgt spid="1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5" dur="500"/>
                                        <p:tgtEl>
                                          <p:spTgt spid="1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8" dur="500"/>
                                        <p:tgtEl>
                                          <p:spTgt spid="14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1" dur="500"/>
                                        <p:tgtEl>
                                          <p:spTgt spid="1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ελεστές και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ιθμητικοί τελεσ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+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-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*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/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%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χεσιακοί τελεσ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==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!=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lt;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gt;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lt;=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gt;=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Λογικοί τελεσ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amp;&amp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λογική σύζευξ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κα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||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λογική διάζευξ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ή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!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λογική άρνησ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όχ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.χ.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003366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x % 3 != 0) &amp;&amp; !finish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λογισμός έκφρα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exprCalc (expr 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witch (e-&gt;code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const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e-&gt;data.constan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un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witch (e-&gt;data.unop.op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'+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exprCalc(e-&gt;da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op.ar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'-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- exprCalc(e-&gt;da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op.ar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2" dur="indefinite" restart="never" nodeType="tmRoot">
          <p:childTnLst>
            <p:seq>
              <p:cTn id="3153" dur="indefinite" nodeType="mainSeq">
                <p:childTnLst>
                  <p:par>
                    <p:cTn id="3154" fill="hold">
                      <p:stCondLst>
                        <p:cond delay="indefinite"/>
                      </p:stCondLst>
                      <p:childTnLst>
                        <p:par>
                          <p:cTn id="3155" fill="hold">
                            <p:stCondLst>
                              <p:cond delay="0"/>
                            </p:stCondLst>
                            <p:childTnLst>
                              <p:par>
                                <p:cTn id="3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8" dur="500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1" dur="500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4" dur="500"/>
                                        <p:tgtEl>
                                          <p:spTgt spid="1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7" dur="500"/>
                                        <p:tgtEl>
                                          <p:spTgt spid="1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0" dur="500"/>
                                        <p:tgtEl>
                                          <p:spTgt spid="1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3" dur="500"/>
                                        <p:tgtEl>
                                          <p:spTgt spid="1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6" dur="500"/>
                                        <p:tgtEl>
                                          <p:spTgt spid="1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9" dur="500"/>
                                        <p:tgtEl>
                                          <p:spTgt spid="1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2" dur="500"/>
                                        <p:tgtEl>
                                          <p:spTgt spid="1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5" dur="500"/>
                                        <p:tgtEl>
                                          <p:spTgt spid="1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8" dur="500"/>
                                        <p:tgtEl>
                                          <p:spTgt spid="14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1" dur="500"/>
                                        <p:tgtEl>
                                          <p:spTgt spid="14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4" dur="500"/>
                                        <p:tgtEl>
                                          <p:spTgt spid="14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7" dur="500"/>
                                        <p:tgtEl>
                                          <p:spTgt spid="14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λογισμός έκφρα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EXP_bin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witch (e-&gt;data.binop.op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'+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exprCalc(e-&gt;da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inop.arg1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+ exprCalc(e-&gt;da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inop.arg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ase '-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exprCalc(e-&gt;da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inop.arg1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- exprCalc(e-&gt;da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inop.arg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8" dur="indefinite" restart="never" nodeType="tmRoot">
          <p:childTnLst>
            <p:seq>
              <p:cTn id="3199" dur="indefinite" nodeType="mainSeq">
                <p:childTnLst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4" dur="500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7" dur="500"/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0" dur="500"/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3" dur="500"/>
                                        <p:tgtEl>
                                          <p:spTgt spid="1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6" dur="500"/>
                                        <p:tgtEl>
                                          <p:spTgt spid="1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9" dur="500"/>
                                        <p:tgtEl>
                                          <p:spTgt spid="1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2" dur="500"/>
                                        <p:tgtEl>
                                          <p:spTgt spid="1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5" dur="500"/>
                                        <p:tgtEl>
                                          <p:spTgt spid="1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8" dur="500"/>
                                        <p:tgtEl>
                                          <p:spTgt spid="1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1" dur="500"/>
                                        <p:tgtEl>
                                          <p:spTgt spid="1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4" dur="500"/>
                                        <p:tgtEl>
                                          <p:spTgt spid="14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7" dur="500"/>
                                        <p:tgtEl>
                                          <p:spTgt spid="14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0" dur="500"/>
                                        <p:tgtEl>
                                          <p:spTgt spid="14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3" dur="500"/>
                                        <p:tgtEl>
                                          <p:spTgt spid="14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έντρα δυαδικής αναζήτηση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ενδρικές δομές δεδομένων στις οποί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λα τα στοιχεία στο αριστερό υποδέντρο της ρίζας είναι μικρότερα από την ρίζ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λα τα στοιχεία στο δεξί υποδέντρο της ρίζας είναι μεγαλύτερα ή ίσα με την ρίζ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αριστερό και το δεξί υποδέντρο είναι δέντρα δυαδικής αναζήτη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inary Search Trees - BS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έντρα δυαδικής αναζήτηση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γενική εικόνα ενός τέτοιου δέντρ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85" name=""/>
          <p:cNvGrpSpPr/>
          <p:nvPr/>
        </p:nvGrpSpPr>
        <p:grpSpPr>
          <a:xfrm>
            <a:off x="1619280" y="2205000"/>
            <a:ext cx="5356080" cy="3043440"/>
            <a:chOff x="1619280" y="2205000"/>
            <a:chExt cx="5356080" cy="3043440"/>
          </a:xfrm>
        </p:grpSpPr>
        <p:pic>
          <p:nvPicPr>
            <p:cNvPr id="1486" name="" descr=""/>
            <p:cNvPicPr/>
            <p:nvPr/>
          </p:nvPicPr>
          <p:blipFill>
            <a:blip r:embed="rId2"/>
            <a:stretch/>
          </p:blipFill>
          <p:spPr>
            <a:xfrm>
              <a:off x="1619280" y="2205000"/>
              <a:ext cx="5356080" cy="30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7" name=""/>
            <p:cNvSpPr/>
            <p:nvPr/>
          </p:nvSpPr>
          <p:spPr>
            <a:xfrm>
              <a:off x="5509440" y="43657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333333"/>
                  </a:solidFill>
                  <a:latin typeface="Arial"/>
                </a:rPr>
                <a:t>&gt;=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αδείγματα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BS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γκυρα δέντ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0" name="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7161120" cy="438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αδείγματα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BS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η-έγκυρα δέντ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3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291360" cy="4322520"/>
          </a:xfrm>
          <a:prstGeom prst="rect">
            <a:avLst/>
          </a:prstGeom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</p:pic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τρων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85800" y="4292640"/>
            <a:ext cx="777240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order: 23 18 12 20 44 35 5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torder: 12 20 18 35 52 44 2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order: 12 18 20 23 35 44 5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96" name="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6359400" cy="2425680"/>
          </a:xfrm>
          <a:prstGeom prst="rect">
            <a:avLst/>
          </a:prstGeom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</p:pic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Ζύγισμα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BS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άλογα με τη σειρά άφιξης των στοιχείων και τον τρόπο δημιουργίας του δέντρ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ST,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ια τα ίδια στοιχεία δεν προκύπτει πάντα το ίδιο δέντρ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ύψος του δέντρου σχετίζεται με το χρόνο αναζήτησης ενός στοιχείου μέσα στο δέντρ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Ζύγισμα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BS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ζήτηση με πολυπλοκότητα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 Ο(Ν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[χειρότερη περίπτωση]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έχρι Ο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Log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)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[καλύτερη περίπτωση]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01" name="" descr=""/>
          <p:cNvPicPr/>
          <p:nvPr/>
        </p:nvPicPr>
        <p:blipFill>
          <a:blip r:embed="rId2"/>
          <a:stretch/>
        </p:blipFill>
        <p:spPr>
          <a:xfrm>
            <a:off x="2050920" y="2997360"/>
            <a:ext cx="4969080" cy="3230280"/>
          </a:xfrm>
          <a:prstGeom prst="rect">
            <a:avLst/>
          </a:prstGeom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</p:pic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Ζύγισμα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BS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κειμένου μια αναζήτηση να διατρέχει όσο το δυνατόν μικρότερο μέρος του δέντρου, αυτό πρέπει να είναι «ζυγισμένο»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«Ζυγισμένο»: το βάθος του αριστερού υποδέντρου δεν διαφέρει περισσότερο από 1 από αυτό του δεξιού (ιδανικά: είναι ίσα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 κατά την προσθήκη νέων στοιχείων στο δέντρο η ζυγαριά «γείρει» δεξιά ή αριστερά, απαιτείται διόρθωση του δέντρ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ελεστές και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it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it (bitwise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amp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ύζευξη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AN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|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ιάζευξη bi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O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^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ποκλειστική διάζευξη bi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XO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~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άρνησ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NO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lt;&lt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ολίσθηση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t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στε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gt;&gt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ολίσθηση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t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ξι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0x0101 &amp; 0xfff0) &lt;&lt; 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0x04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αδείγματα ζυγισμένων δέντρ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505" name=""/>
          <p:cNvGrpSpPr/>
          <p:nvPr/>
        </p:nvGrpSpPr>
        <p:grpSpPr>
          <a:xfrm>
            <a:off x="468360" y="1628640"/>
            <a:ext cx="3357360" cy="4581720"/>
            <a:chOff x="468360" y="1628640"/>
            <a:chExt cx="3357360" cy="4581720"/>
          </a:xfrm>
        </p:grpSpPr>
        <p:sp>
          <p:nvSpPr>
            <p:cNvPr id="1506" name=""/>
            <p:cNvSpPr/>
            <p:nvPr/>
          </p:nvSpPr>
          <p:spPr>
            <a:xfrm>
              <a:off x="468360" y="1628640"/>
              <a:ext cx="550440" cy="495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920160" y="2278440"/>
              <a:ext cx="550080" cy="495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458720" y="3004560"/>
              <a:ext cx="550440" cy="495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3960" y="1738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073880" y="2397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624680" y="3114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899360" y="3664800"/>
              <a:ext cx="550080" cy="495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064600" y="3775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908640" y="2068560"/>
              <a:ext cx="164880" cy="21996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348920" y="2729160"/>
              <a:ext cx="219960" cy="27504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899360" y="3444840"/>
              <a:ext cx="164880" cy="21996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394720" y="4358880"/>
              <a:ext cx="550080" cy="495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561760" y="4469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339640" y="4160160"/>
              <a:ext cx="164880" cy="21996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835000" y="4986000"/>
              <a:ext cx="550440" cy="495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000600" y="5096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835000" y="4799160"/>
              <a:ext cx="164880" cy="24156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275280" y="5701680"/>
              <a:ext cx="550440" cy="495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440880" y="5811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275280" y="5426640"/>
              <a:ext cx="164880" cy="27504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3059280" y="1413000"/>
            <a:ext cx="3801600" cy="2692080"/>
            <a:chOff x="3059280" y="1413000"/>
            <a:chExt cx="3801600" cy="2692080"/>
          </a:xfrm>
        </p:grpSpPr>
        <p:sp>
          <p:nvSpPr>
            <p:cNvPr id="1527" name=""/>
            <p:cNvSpPr/>
            <p:nvPr/>
          </p:nvSpPr>
          <p:spPr>
            <a:xfrm>
              <a:off x="3059280" y="3578400"/>
              <a:ext cx="584640" cy="5266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97840" y="2865240"/>
              <a:ext cx="584640" cy="5266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170600" y="2173680"/>
              <a:ext cx="584640" cy="5266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236760" y="3694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761640" y="2991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345920" y="2290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813920" y="1413000"/>
              <a:ext cx="584640" cy="5266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989960" y="1527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3526920" y="3344400"/>
              <a:ext cx="175320" cy="2340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4053240" y="2642040"/>
              <a:ext cx="233640" cy="29268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4638240" y="1881360"/>
              <a:ext cx="292320" cy="3510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340240" y="2150640"/>
              <a:ext cx="584640" cy="5266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517720" y="2270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281920" y="1939680"/>
              <a:ext cx="175320" cy="2340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808240" y="2817720"/>
              <a:ext cx="584640" cy="5266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984640" y="29358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808240" y="2619000"/>
              <a:ext cx="175320" cy="25704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276240" y="3578400"/>
              <a:ext cx="584640" cy="52668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451200" y="3694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76240" y="3286080"/>
              <a:ext cx="175320" cy="29232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5796000" y="4365720"/>
            <a:ext cx="2754000" cy="1901520"/>
            <a:chOff x="5796000" y="4365720"/>
            <a:chExt cx="2754000" cy="1901520"/>
          </a:xfrm>
        </p:grpSpPr>
        <p:sp>
          <p:nvSpPr>
            <p:cNvPr id="1548" name=""/>
            <p:cNvSpPr/>
            <p:nvPr/>
          </p:nvSpPr>
          <p:spPr>
            <a:xfrm>
              <a:off x="6648480" y="5748840"/>
              <a:ext cx="576360" cy="518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796000" y="5738040"/>
              <a:ext cx="576360" cy="518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360120" y="5057280"/>
              <a:ext cx="576360" cy="518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824160" y="5864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957640" y="5864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533640" y="5173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994080" y="4365720"/>
              <a:ext cx="576360" cy="518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168320" y="4482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821280" y="5518440"/>
              <a:ext cx="57600" cy="23004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6244560" y="5518440"/>
              <a:ext cx="230040" cy="2880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6821280" y="4826880"/>
              <a:ext cx="230400" cy="23004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512840" y="5091840"/>
              <a:ext cx="576360" cy="518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686000" y="5207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455240" y="4884120"/>
              <a:ext cx="172800" cy="2304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974000" y="5748840"/>
              <a:ext cx="576000" cy="518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8147880" y="5864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974000" y="5553360"/>
              <a:ext cx="172800" cy="25308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282440" y="5748840"/>
              <a:ext cx="576000" cy="51840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454520" y="5864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7628040" y="5576040"/>
              <a:ext cx="57240" cy="1728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68" name=""/>
          <p:cNvSpPr/>
          <p:nvPr/>
        </p:nvSpPr>
        <p:spPr>
          <a:xfrm>
            <a:off x="2411280" y="1989000"/>
            <a:ext cx="719280" cy="432000"/>
          </a:xfrm>
          <a:prstGeom prst="rightArrow">
            <a:avLst>
              <a:gd name="adj1" fmla="val 50000"/>
              <a:gd name="adj2" fmla="val 41625"/>
            </a:avLst>
          </a:prstGeom>
          <a:solidFill>
            <a:srgbClr val="333333"/>
          </a:solidFill>
          <a:ln w="9360">
            <a:solidFill>
              <a:srgbClr val="a9b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rot="2581800">
            <a:off x="5579640" y="4221000"/>
            <a:ext cx="719280" cy="432000"/>
          </a:xfrm>
          <a:prstGeom prst="rightArrow">
            <a:avLst>
              <a:gd name="adj1" fmla="val 50000"/>
              <a:gd name="adj2" fmla="val 41625"/>
            </a:avLst>
          </a:prstGeom>
          <a:solidFill>
            <a:srgbClr val="333333"/>
          </a:solidFill>
          <a:ln w="9360">
            <a:solidFill>
              <a:srgbClr val="a9b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Ζυγισμένα δέντρ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περίπτωση όπου το ύψος του αριστερού υποδέντρου είναι </a:t>
            </a:r>
            <a:r>
              <a:rPr b="1" i="1" lang="el-GR" sz="3200" spc="-1" strike="noStrike">
                <a:solidFill>
                  <a:srgbClr val="003366"/>
                </a:solidFill>
                <a:latin typeface="Times New Roman"/>
              </a:rPr>
              <a:t>ακριβώς ίσο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με το ύψος του δεξιού, δεν επιτυγχάνεται εύκολ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 από την παραπάνω περίπτωση υπήρχαν </a:t>
            </a:r>
            <a:r>
              <a:rPr b="1" lang="el-GR" sz="3200" spc="-1" strike="noStrike">
                <a:solidFill>
                  <a:srgbClr val="003366"/>
                </a:solidFill>
                <a:latin typeface="Times New Roman"/>
              </a:rPr>
              <a:t>«μικρές» αποκλίσει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, οι επιδόσεις του δέντρου στην αναζήτηση δεν θα επηρεάζονταν ιδιαίτε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έντρα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α δέντρ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 (Adelson-Velskii and Landis)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ναι ένα δέντρ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ST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υ οποίου </a:t>
            </a:r>
            <a:r>
              <a:rPr b="0" i="1" lang="el-GR" sz="3200" spc="-1" strike="noStrike">
                <a:solidFill>
                  <a:srgbClr val="003366"/>
                </a:solidFill>
                <a:latin typeface="Times New Roman"/>
              </a:rPr>
              <a:t>το ύψος του αριστερού υποδέντρου διαφέρει από αυτό του δεξιού το πολύ κατά 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δεξί και αριστερό υποδέντρο ενός δέντρ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ναι επίσης δέντρα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κενό δέντρο είναι δέντρ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ιδιότητες αυτές διατηρούνται με παρεμβάσεις (αναδιάταξη) καθώς νέα στοιχεία προστίθενται στο δέντρο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έντρα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575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5400720" cy="4983120"/>
          </a:xfrm>
          <a:prstGeom prst="rect">
            <a:avLst/>
          </a:prstGeom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</p:pic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έντρα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α δέντρ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λέγεται «ψηλό από αριστερά» όταν το ύψος του αριστερού υποδέντρου είναι μεγαλύτερο από αυτό του δεξιού (κατά πόσο;;;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τίστοιχα για το «ψηλό από δεξιά»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πάρχουν αρκετοί τρόποι με τους οποίους η προσθήκη ή η διαγραφή στοιχείων σε ένα δέντρ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βιάζει τη συνθήκη χαρακτηρισμού τ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ιάταξη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χαρακτηριστική ιδιότητα ενός δέντρ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πορεί να παύει να ισχύει με την προσθήκη νέων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επαναφορά της ιδιότητας σε ισχύ, γίνεται με </a:t>
            </a:r>
            <a:r>
              <a:rPr b="1" i="1" lang="el-GR" sz="3200" spc="-1" strike="noStrike">
                <a:solidFill>
                  <a:srgbClr val="003366"/>
                </a:solidFill>
                <a:latin typeface="Times New Roman"/>
              </a:rPr>
              <a:t>περιστροφ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του δέντρου, ανάλογα με την περίπτωση αναδιάταξης που συντρέχε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ή περιστροφή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581" name=""/>
          <p:cNvGrpSpPr/>
          <p:nvPr/>
        </p:nvGrpSpPr>
        <p:grpSpPr>
          <a:xfrm>
            <a:off x="250560" y="1916280"/>
            <a:ext cx="8591400" cy="3892320"/>
            <a:chOff x="250560" y="1916280"/>
            <a:chExt cx="8591400" cy="3892320"/>
          </a:xfrm>
        </p:grpSpPr>
        <p:sp>
          <p:nvSpPr>
            <p:cNvPr id="1582" name=""/>
            <p:cNvSpPr/>
            <p:nvPr/>
          </p:nvSpPr>
          <p:spPr>
            <a:xfrm>
              <a:off x="2248560" y="2122560"/>
              <a:ext cx="660600" cy="58752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102040" y="3958560"/>
              <a:ext cx="1101240" cy="95472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32880" y="3958560"/>
              <a:ext cx="1028160" cy="95472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1146960" y="3297600"/>
              <a:ext cx="440280" cy="660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909520" y="2563200"/>
              <a:ext cx="734400" cy="4406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001880" y="43963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X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543760" y="44697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441080" y="2783520"/>
              <a:ext cx="660600" cy="58752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129840" y="3003840"/>
              <a:ext cx="1101240" cy="95472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498120" y="3515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Z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028240" y="3297600"/>
              <a:ext cx="587160" cy="660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2028240" y="2563200"/>
              <a:ext cx="293760" cy="293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381040" y="220680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574280" y="286596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250560" y="4913640"/>
              <a:ext cx="381960" cy="82152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661400" y="4913640"/>
              <a:ext cx="351720" cy="82152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50920" y="5808600"/>
              <a:ext cx="1762200" cy="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436280" y="2356920"/>
              <a:ext cx="0" cy="25700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421880" y="3395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h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289400" y="3972600"/>
              <a:ext cx="2934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389000" y="2775960"/>
              <a:ext cx="660600" cy="6087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492600" y="3972600"/>
              <a:ext cx="1101240" cy="9878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023800" y="3091320"/>
              <a:ext cx="1028160" cy="9878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5537520" y="2723760"/>
              <a:ext cx="366840" cy="36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961040" y="3311640"/>
              <a:ext cx="366840" cy="660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392440" y="35503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X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934680" y="45046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846760" y="2188440"/>
              <a:ext cx="660600" cy="6087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740720" y="3972600"/>
              <a:ext cx="1101240" cy="9878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108280" y="4504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Z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565680" y="2577240"/>
              <a:ext cx="807840" cy="3668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7079400" y="3311640"/>
              <a:ext cx="440280" cy="6714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521480" y="286596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980320" y="228060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4582800" y="4058280"/>
              <a:ext cx="440280" cy="94212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051960" y="4058280"/>
              <a:ext cx="366840" cy="86868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656600" y="4926960"/>
              <a:ext cx="1688760" cy="144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17760" y="5069520"/>
              <a:ext cx="109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4c2b"/>
                  </a:solidFill>
                  <a:latin typeface="Arial Narrow"/>
                </a:rPr>
                <a:t>New item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935240" y="4220280"/>
              <a:ext cx="109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4c2b"/>
                  </a:solidFill>
                  <a:latin typeface="Arial Narrow"/>
                </a:rPr>
                <a:t>New Item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289400" y="4926960"/>
              <a:ext cx="2934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289400" y="3017880"/>
              <a:ext cx="2934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289400" y="2356920"/>
              <a:ext cx="2934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1719360" y="2283120"/>
              <a:ext cx="0" cy="4406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086560" y="1916280"/>
              <a:ext cx="1174320" cy="881280"/>
            </a:xfrm>
            <a:prstGeom prst="re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ή περιστροφή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627" name=""/>
          <p:cNvGrpSpPr/>
          <p:nvPr/>
        </p:nvGrpSpPr>
        <p:grpSpPr>
          <a:xfrm>
            <a:off x="228600" y="1700280"/>
            <a:ext cx="8664120" cy="3851280"/>
            <a:chOff x="228600" y="1700280"/>
            <a:chExt cx="8664120" cy="3851280"/>
          </a:xfrm>
        </p:grpSpPr>
        <p:sp>
          <p:nvSpPr>
            <p:cNvPr id="1628" name=""/>
            <p:cNvSpPr/>
            <p:nvPr/>
          </p:nvSpPr>
          <p:spPr>
            <a:xfrm>
              <a:off x="2243160" y="1848240"/>
              <a:ext cx="576720" cy="5043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894400" y="2144520"/>
              <a:ext cx="740520" cy="444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1931040" y="2218680"/>
              <a:ext cx="296280" cy="295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376000" y="1922400"/>
              <a:ext cx="42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 Narrow"/>
                </a:rPr>
                <a:t>k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375440" y="1996560"/>
              <a:ext cx="0" cy="35546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361040" y="3044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 Narrow"/>
                </a:rPr>
                <a:t>h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782120" y="3625560"/>
              <a:ext cx="1110600" cy="9968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155080" y="42166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227480" y="4588560"/>
              <a:ext cx="296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227480" y="2662920"/>
              <a:ext cx="296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227480" y="1996560"/>
              <a:ext cx="296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 flipV="1">
              <a:off x="1857240" y="1774440"/>
              <a:ext cx="666360" cy="15552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080080" y="1700280"/>
              <a:ext cx="962280" cy="740520"/>
            </a:xfrm>
            <a:prstGeom prst="re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317320" y="3403440"/>
              <a:ext cx="576720" cy="5043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448720" y="3477600"/>
              <a:ext cx="42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428840" y="2366640"/>
              <a:ext cx="576720" cy="5043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561320" y="2440800"/>
              <a:ext cx="42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597000" y="3625560"/>
              <a:ext cx="1110600" cy="9968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970720" y="49572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487160" y="4514400"/>
              <a:ext cx="1110600" cy="9968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858680" y="505152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8600" y="3625560"/>
              <a:ext cx="1110600" cy="9968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00120" y="41626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747000" y="2810880"/>
              <a:ext cx="740160" cy="8143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2080080" y="3847680"/>
              <a:ext cx="370080" cy="666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746440" y="3921840"/>
              <a:ext cx="444240" cy="592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227480" y="3625560"/>
              <a:ext cx="296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39200" y="3181320"/>
              <a:ext cx="2517840" cy="2369880"/>
            </a:xfrm>
            <a:prstGeom prst="triangle">
              <a:avLst>
                <a:gd name="adj" fmla="val 50000"/>
              </a:avLst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227480" y="5551560"/>
              <a:ext cx="296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464520" y="1774440"/>
              <a:ext cx="576720" cy="5043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597000" y="1848240"/>
              <a:ext cx="42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279400" y="2440800"/>
              <a:ext cx="577080" cy="5043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412240" y="2514600"/>
              <a:ext cx="42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427160" y="2440800"/>
              <a:ext cx="576720" cy="50436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60000" y="2514600"/>
              <a:ext cx="42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 Narrow"/>
                </a:rPr>
                <a:t>k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672280" y="4514400"/>
              <a:ext cx="1110600" cy="9968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043400" y="42166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116520" y="2588760"/>
              <a:ext cx="1110600" cy="9968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488760" y="31798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486400" y="3625560"/>
              <a:ext cx="1110600" cy="9968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857920" y="41626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375440" y="3625560"/>
              <a:ext cx="1110600" cy="9968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748040" y="41626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4968000" y="2885040"/>
              <a:ext cx="370080" cy="740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782680" y="2885040"/>
              <a:ext cx="296280" cy="740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7115400" y="2885040"/>
              <a:ext cx="444240" cy="740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856280" y="2885040"/>
              <a:ext cx="444240" cy="740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5782320" y="2144520"/>
              <a:ext cx="740520" cy="3700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967440" y="2144520"/>
              <a:ext cx="518040" cy="3700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931400" y="2810880"/>
              <a:ext cx="518400" cy="666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ή περιστροφή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β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679" name=""/>
          <p:cNvGrpSpPr/>
          <p:nvPr/>
        </p:nvGrpSpPr>
        <p:grpSpPr>
          <a:xfrm>
            <a:off x="250920" y="1197000"/>
            <a:ext cx="4031640" cy="3882600"/>
            <a:chOff x="250920" y="1197000"/>
            <a:chExt cx="4031640" cy="3882600"/>
          </a:xfrm>
        </p:grpSpPr>
        <p:sp>
          <p:nvSpPr>
            <p:cNvPr id="1680" name=""/>
            <p:cNvSpPr/>
            <p:nvPr/>
          </p:nvSpPr>
          <p:spPr>
            <a:xfrm>
              <a:off x="2282400" y="1346040"/>
              <a:ext cx="581400" cy="50868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938680" y="1644840"/>
              <a:ext cx="746280" cy="4478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1967760" y="1719360"/>
              <a:ext cx="298440" cy="298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415960" y="1419120"/>
              <a:ext cx="42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k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117160" y="1197000"/>
              <a:ext cx="970560" cy="746280"/>
            </a:xfrm>
            <a:prstGeom prst="re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356560" y="2914200"/>
              <a:ext cx="581760" cy="50868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490840" y="2989080"/>
              <a:ext cx="42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460520" y="1868760"/>
              <a:ext cx="581760" cy="50868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594800" y="1943280"/>
              <a:ext cx="42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015000" y="44794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519920" y="4034520"/>
              <a:ext cx="1119960" cy="100512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895040" y="457416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50920" y="3138480"/>
              <a:ext cx="1119960" cy="100512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25680" y="367992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73280" y="2316960"/>
              <a:ext cx="746640" cy="821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2116800" y="3362400"/>
              <a:ext cx="373320" cy="671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789280" y="3437280"/>
              <a:ext cx="447840" cy="597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370880" y="2690280"/>
              <a:ext cx="2538360" cy="2389320"/>
            </a:xfrm>
            <a:prstGeom prst="triangle">
              <a:avLst>
                <a:gd name="adj" fmla="val 50000"/>
              </a:avLst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714760" y="4034520"/>
              <a:ext cx="1119960" cy="100512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162600" y="2093040"/>
              <a:ext cx="1119960" cy="100476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537720" y="268704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 Narrow"/>
                </a:rPr>
                <a:t>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968120" y="2316960"/>
              <a:ext cx="522720" cy="671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702" name=""/>
          <p:cNvGrpSpPr/>
          <p:nvPr/>
        </p:nvGrpSpPr>
        <p:grpSpPr>
          <a:xfrm>
            <a:off x="3924360" y="1916280"/>
            <a:ext cx="5020560" cy="4273200"/>
            <a:chOff x="3924360" y="1916280"/>
            <a:chExt cx="5020560" cy="4273200"/>
          </a:xfrm>
        </p:grpSpPr>
        <p:sp>
          <p:nvSpPr>
            <p:cNvPr id="1703" name=""/>
            <p:cNvSpPr/>
            <p:nvPr/>
          </p:nvSpPr>
          <p:spPr>
            <a:xfrm>
              <a:off x="6843600" y="2072880"/>
              <a:ext cx="610920" cy="5346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533360" y="2386800"/>
              <a:ext cx="784080" cy="4705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6513120" y="2465280"/>
              <a:ext cx="313920" cy="313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985440" y="214956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 Narrow"/>
                </a:rPr>
                <a:t>k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670080" y="1916280"/>
              <a:ext cx="1019880" cy="784440"/>
            </a:xfrm>
            <a:prstGeom prst="re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881960" y="3956400"/>
              <a:ext cx="610920" cy="5346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024160" y="403308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980320" y="2622240"/>
              <a:ext cx="611280" cy="5346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122520" y="270072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830640" y="43470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571720" y="5133240"/>
              <a:ext cx="1176480" cy="10562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967360" y="570384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924360" y="5133240"/>
              <a:ext cx="1176480" cy="10562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319640" y="570384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5257440" y="3093120"/>
              <a:ext cx="784440" cy="862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4551840" y="4427280"/>
              <a:ext cx="392400" cy="705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513120" y="3877560"/>
              <a:ext cx="1176480" cy="10562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768440" y="2857680"/>
              <a:ext cx="1176480" cy="105552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164440" y="34840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513120" y="3093120"/>
              <a:ext cx="549000" cy="705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415120" y="4427280"/>
              <a:ext cx="705960" cy="705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24" name=""/>
          <p:cNvSpPr/>
          <p:nvPr/>
        </p:nvSpPr>
        <p:spPr>
          <a:xfrm rot="1948800">
            <a:off x="4427640" y="2491920"/>
            <a:ext cx="1008000" cy="4320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ή περιστροφή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γ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726" name=""/>
          <p:cNvGrpSpPr/>
          <p:nvPr/>
        </p:nvGrpSpPr>
        <p:grpSpPr>
          <a:xfrm>
            <a:off x="179280" y="1197000"/>
            <a:ext cx="5020560" cy="4273200"/>
            <a:chOff x="179280" y="1197000"/>
            <a:chExt cx="5020560" cy="4273200"/>
          </a:xfrm>
        </p:grpSpPr>
        <p:sp>
          <p:nvSpPr>
            <p:cNvPr id="1727" name=""/>
            <p:cNvSpPr/>
            <p:nvPr/>
          </p:nvSpPr>
          <p:spPr>
            <a:xfrm>
              <a:off x="3098520" y="1353600"/>
              <a:ext cx="610920" cy="5346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788280" y="1667520"/>
              <a:ext cx="784080" cy="4705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2768040" y="1746000"/>
              <a:ext cx="313920" cy="313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240360" y="143028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 Narrow"/>
                </a:rPr>
                <a:t>k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925000" y="1197000"/>
              <a:ext cx="1019880" cy="784440"/>
            </a:xfrm>
            <a:prstGeom prst="re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136880" y="3237120"/>
              <a:ext cx="610920" cy="5346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279080" y="33138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235240" y="1902960"/>
              <a:ext cx="611280" cy="5346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377440" y="198144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085560" y="362772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826640" y="4413960"/>
              <a:ext cx="1176480" cy="10562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222280" y="498456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79280" y="4413960"/>
              <a:ext cx="1176480" cy="10562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74560" y="498456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1512360" y="2373840"/>
              <a:ext cx="784440" cy="862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806760" y="3708000"/>
              <a:ext cx="392400" cy="705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768040" y="3158280"/>
              <a:ext cx="1176480" cy="10562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23360" y="2138400"/>
              <a:ext cx="1176480" cy="105552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419360" y="27648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 Narrow"/>
                </a:rPr>
                <a:t>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768040" y="2373840"/>
              <a:ext cx="549000" cy="705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670040" y="3708000"/>
              <a:ext cx="705960" cy="705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748" name=""/>
          <p:cNvGrpSpPr/>
          <p:nvPr/>
        </p:nvGrpSpPr>
        <p:grpSpPr>
          <a:xfrm>
            <a:off x="3708360" y="3500280"/>
            <a:ext cx="5181120" cy="2778120"/>
            <a:chOff x="3708360" y="3500280"/>
            <a:chExt cx="5181120" cy="2778120"/>
          </a:xfrm>
        </p:grpSpPr>
        <p:sp>
          <p:nvSpPr>
            <p:cNvPr id="1749" name=""/>
            <p:cNvSpPr/>
            <p:nvPr/>
          </p:nvSpPr>
          <p:spPr>
            <a:xfrm>
              <a:off x="5933880" y="3500280"/>
              <a:ext cx="593280" cy="51912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603840" y="3805200"/>
              <a:ext cx="76140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>
              <a:off x="5613120" y="3881160"/>
              <a:ext cx="30456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070320" y="3576600"/>
              <a:ext cx="43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 Narrow"/>
                </a:rPr>
                <a:t>k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095440" y="4109760"/>
              <a:ext cx="593640" cy="51912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232240" y="4186080"/>
              <a:ext cx="43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 Narrow"/>
                </a:rPr>
                <a:t>k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152840" y="4262400"/>
              <a:ext cx="593640" cy="51912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289640" y="4338360"/>
              <a:ext cx="43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 Narrow"/>
                </a:rPr>
                <a:t>k3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681600" y="570852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155920" y="5252760"/>
              <a:ext cx="1142640" cy="10256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538600" y="580536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708360" y="5252760"/>
              <a:ext cx="1142640" cy="10256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090680" y="580536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Arial Narrow"/>
                </a:rPr>
                <a:t>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4317480" y="4491000"/>
              <a:ext cx="837720" cy="761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6984720" y="4719600"/>
              <a:ext cx="304560" cy="533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375240" y="5252760"/>
              <a:ext cx="1142640" cy="1025640"/>
            </a:xfrm>
            <a:prstGeom prst="flowChartExtract">
              <a:avLst/>
            </a:prstGeom>
            <a:noFill/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746840" y="5252760"/>
              <a:ext cx="1142640" cy="1025640"/>
            </a:xfrm>
            <a:prstGeom prst="flowChartExtra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129520" y="58608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Arial Narrow"/>
                </a:rPr>
                <a:t>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536800" y="4643280"/>
              <a:ext cx="228240" cy="6094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670520" y="4719600"/>
              <a:ext cx="609120" cy="533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69" name=""/>
          <p:cNvSpPr/>
          <p:nvPr/>
        </p:nvSpPr>
        <p:spPr>
          <a:xfrm rot="1948800">
            <a:off x="4067280" y="3715920"/>
            <a:ext cx="574560" cy="432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ελεστές και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ής συνθήκ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a &gt;= b) ? a : b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ής παράθ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-1, b+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ανάθ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b+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+= x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ισοδύναμο με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a + 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αύξησης και μείω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++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--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ιμή πριν τη μεταβ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++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--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ιμή μετά τη μεταβ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ιάταξη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εριπτώσεις αναδιάταξ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ΑΑ: ένα αριστερό υποδέντρο ενός δέντρου 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AVL </a:t>
            </a: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που είναι ψηλό από αριστερά, γίνεται επίσης ψηλό από αριστερά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left of left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ΔΔ: τα αντίστοιχα για το δεξί υποδέντρο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right of right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ΔΑ: ένα υποδέντρο ενός δέντρου 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AVL </a:t>
            </a: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ψηλού από αριστερά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γίνεται ψηλό από δεξιά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right of left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ΑΔ: ένα υποδέντρο ενός δέντρου 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AVL </a:t>
            </a: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ψηλού από δεξιά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l-GR" sz="2600" spc="-1" strike="noStrike">
                <a:solidFill>
                  <a:srgbClr val="333333"/>
                </a:solidFill>
                <a:latin typeface="Times New Roman"/>
              </a:rPr>
              <a:t>γίνεται ψηλό από αριστερά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left of right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εριπτώσεις αναδιάταξης (α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773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696160" cy="4651560"/>
          </a:xfrm>
          <a:prstGeom prst="rect">
            <a:avLst/>
          </a:prstGeom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</p:pic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εριπτώσεις αναδιάταξης (β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6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713800" cy="4816440"/>
          </a:xfrm>
          <a:prstGeom prst="rect">
            <a:avLst/>
          </a:prstGeom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</p:pic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ιάταξη σε περίπτωση Α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9" name="" descr=""/>
          <p:cNvPicPr/>
          <p:nvPr/>
        </p:nvPicPr>
        <p:blipFill>
          <a:blip r:embed="rId2"/>
          <a:stretch/>
        </p:blipFill>
        <p:spPr>
          <a:xfrm>
            <a:off x="2124000" y="1268280"/>
            <a:ext cx="48196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ιάταξη σε περίπτωση ΔΔ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82" name="" descr=""/>
          <p:cNvPicPr/>
          <p:nvPr/>
        </p:nvPicPr>
        <p:blipFill>
          <a:blip r:embed="rId2"/>
          <a:stretch/>
        </p:blipFill>
        <p:spPr>
          <a:xfrm>
            <a:off x="2085840" y="1268280"/>
            <a:ext cx="49644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ιάταξη σε περίπτωση Δ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784" name="" descr=""/>
          <p:cNvPicPr/>
          <p:nvPr/>
        </p:nvPicPr>
        <p:blipFill>
          <a:blip r:embed="rId2"/>
          <a:stretch/>
        </p:blipFill>
        <p:spPr>
          <a:xfrm>
            <a:off x="2624040" y="1295280"/>
            <a:ext cx="38959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ιάταξη σε περίπτωση ΑΔ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87" name="" descr=""/>
          <p:cNvPicPr/>
          <p:nvPr/>
        </p:nvPicPr>
        <p:blipFill>
          <a:blip r:embed="rId2"/>
          <a:stretch/>
        </p:blipFill>
        <p:spPr>
          <a:xfrm>
            <a:off x="2340000" y="1268280"/>
            <a:ext cx="45212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δέντρω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 στη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α δομή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Nod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key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&lt;keyType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data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&lt;dataType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left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&lt;pointer to Node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right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&lt;pointer to Node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bal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&lt;LeftH, EvenH, Right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End Nod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ε δέντρα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εισαγωγή νέων στοιχείων γίνεται στα φύλλα, όπως στα δέντρα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πίζεται το φύλλο στο οποίο θα γίνει η εισαγωγή και δημιουργείται νέος κόμβ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ίνεται οπισθοδρόμηση μέχρι την κορυφή του δέντρου, με έλεγχο της ισχύος της συνθήκης ισορροπία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L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ε κάθε βήμα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ς τα πίσω, και επαναφορά σε ισορροπία, όπου απαιτείτα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ε δέντρα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άγραμμα κλήσης μιας αναδρομικής συνάρτησης εισαγωγ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94" name="" descr=""/>
          <p:cNvPicPr/>
          <p:nvPr/>
        </p:nvPicPr>
        <p:blipFill>
          <a:blip r:embed="rId2"/>
          <a:stretch/>
        </p:blipFill>
        <p:spPr>
          <a:xfrm>
            <a:off x="971640" y="2565360"/>
            <a:ext cx="7254720" cy="3489480"/>
          </a:xfrm>
          <a:prstGeom prst="rect">
            <a:avLst/>
          </a:prstGeom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Η ιστορία της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1969-1973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AT&amp;T Bell Labs, Dennis Ritchi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1978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“The C Programming Language”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K&amp;R: Kernighan &amp; Ritchi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83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στασ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SI Standardization Committee X3J1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89-1990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δοχ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SI/ISO Standard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ANSI 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90-1999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θεώρηση τ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andard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πό εξέλιξη — C9X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C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ενή εντολ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έκφρα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b+5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 &gt;= 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66"/>
                </a:solidFill>
                <a:latin typeface="Times New Roman"/>
              </a:rPr>
              <a:t>ΑΛΓΟΡΙΘΜΟΣ</a:t>
            </a:r>
            <a:r>
              <a:rPr b="1" lang="en-US" sz="2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AVLInsert( ref root &lt;tree pointer&gt;, </a:t>
            </a:r>
            <a:br>
              <a:rPr sz="2400"/>
            </a:b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val newPtr &lt;tree pointer&gt;, ref taller &lt;Boolean&gt;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if (root null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 = newPt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taller = tru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return roo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if (newPtr-&gt;key &lt; root-&gt;key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left = AVLInsert (root-&gt;left, newPtr, taller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if (taller)                 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Left subtree is tall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if (root left-high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 = leftBalance (root, taller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elseif (root even-high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bal = left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else                  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Was right high -- now even 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taller = fa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4  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4  els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New data &gt;= root dat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4c2b"/>
                </a:solidFill>
                <a:latin typeface="Times New Roman"/>
              </a:rPr>
              <a:t>(Συνέχεια)</a:t>
            </a:r>
            <a:r>
              <a:rPr b="1" lang="el-GR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AVLInsert( ref root &lt;tree pointer&gt;, </a:t>
            </a:r>
            <a:br>
              <a:rPr sz="2400"/>
            </a:b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val newPtr &lt;tree pointer&gt;, ref taller &lt;Boolean&gt;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4  else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// New data &gt;= root data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 right = AVLInsert (root-&gt;right , newPtr, taller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if (taller)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Right subtree is tall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if (root left-high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taller = fa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elseif (root even-high)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Was balanced -- now right 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bal = right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e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 = rightBalance (root, taller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4  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5  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6  return roo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nd AVLInser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66"/>
                </a:solidFill>
                <a:latin typeface="Times New Roman"/>
              </a:rPr>
              <a:t>ΑΛΓΟΡΙΘΜΟΣ </a:t>
            </a:r>
            <a:br>
              <a:rPr sz="2400"/>
            </a:b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leftBalance (ref root &lt;tree pointer&gt;, ref taller &lt;Boolean&gt;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leftTree = root-&gt; lef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if (leftTree left-high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Case 1: Left of left.  Single rotation righ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tateRight (root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root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leftTree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4  taller = fa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e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Case 2: Right of left.  Double rotation required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ightTree = leftTree-&gt;righ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adjust balance factor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if (rightTree-&gt;bal left-high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bal = right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leftTree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3  elseif (rightTree-&gt;bal = even-high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leftTree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4  e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4c2b"/>
                </a:solidFill>
                <a:latin typeface="Times New Roman"/>
              </a:rPr>
              <a:t>(Συνέχεια)</a:t>
            </a:r>
            <a:br>
              <a:rPr sz="2400"/>
            </a:b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leftBalance (ref root &lt;tree pointer&gt;, ref taller &lt;Boolean&gt;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4  e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// rightTree-&gt;bal is right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  root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  leftTree-&gt;bal = left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5  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6  rightTree-&gt;bal = even-hig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7  root-&gt;left = rotateLeft (leftTre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8  root = rotateRight (root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9  taller = fa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4  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5  return roo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nd leftBalan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ερισσότερα για δέντρα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V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γραφ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αβάστε αντίστοιχο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ownload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 τη σελίδα του μαθή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ιβλιοθήκη συναρτήσε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πορείτε να κατεβάσετε ένα σύνολο έτοιμων συναρτήσεων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το χειρισμό δέντρων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VL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 τη σελίδα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eb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υ μαθή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θετη εντολ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 &gt;= b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in =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in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1981080"/>
            <a:ext cx="42670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ίζει νέα εμβέλει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x &lt; y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temp 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 =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y = tem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i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 = 1, s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i &lt;= 10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410080" y="2362320"/>
            <a:ext cx="3046320" cy="2666880"/>
            <a:chOff x="5410080" y="2362320"/>
            <a:chExt cx="3046320" cy="2666880"/>
          </a:xfrm>
        </p:grpSpPr>
        <p:sp>
          <p:nvSpPr>
            <p:cNvPr id="160" name=""/>
            <p:cNvSpPr/>
            <p:nvPr/>
          </p:nvSpPr>
          <p:spPr>
            <a:xfrm>
              <a:off x="5790960" y="2895480"/>
              <a:ext cx="1828800" cy="76212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υνθήκ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19560" y="403848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εντολ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05360" y="365760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19760" y="3276720"/>
              <a:ext cx="3812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1000" y="3276720"/>
              <a:ext cx="0" cy="17524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05360" y="4572000"/>
              <a:ext cx="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410080" y="480060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410080" y="2666520"/>
              <a:ext cx="0" cy="2133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266688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05360" y="2362320"/>
              <a:ext cx="0" cy="533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0960" y="358128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αληθ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50280" y="281952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ψευδ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375920" y="1758960"/>
            <a:ext cx="2716560" cy="825480"/>
          </a:xfrm>
          <a:prstGeom prst="rect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νθήκη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ντ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do-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i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 = 1, s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i &lt;= 1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484960" y="2209680"/>
            <a:ext cx="2667960" cy="2666880"/>
            <a:chOff x="5484960" y="2209680"/>
            <a:chExt cx="2667960" cy="2666880"/>
          </a:xfrm>
        </p:grpSpPr>
        <p:sp>
          <p:nvSpPr>
            <p:cNvPr id="176" name=""/>
            <p:cNvSpPr/>
            <p:nvPr/>
          </p:nvSpPr>
          <p:spPr>
            <a:xfrm>
              <a:off x="5486400" y="3733560"/>
              <a:ext cx="1828800" cy="76212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υνθήκ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15000" y="274284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εντολ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00800" y="44956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15200" y="4114440"/>
              <a:ext cx="3808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00800" y="3276360"/>
              <a:ext cx="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84960" y="44193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ψευδ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46800" y="417492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αληθ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080" y="2438280"/>
              <a:ext cx="0" cy="1676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400800" y="243828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00800" y="2209680"/>
              <a:ext cx="0" cy="533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147320" y="1828800"/>
            <a:ext cx="2899440" cy="1191240"/>
          </a:xfrm>
          <a:prstGeom prst="rect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ντ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νθήκη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77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,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7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1, s=0; i &lt;= 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7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24000" y="1981080"/>
            <a:ext cx="3063960" cy="1557000"/>
          </a:xfrm>
          <a:prstGeom prst="rect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χικοποίηση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νθήκη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βήμα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ντ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866920" y="1295280"/>
            <a:ext cx="3053160" cy="4343400"/>
            <a:chOff x="5866920" y="1295280"/>
            <a:chExt cx="3053160" cy="4343400"/>
          </a:xfrm>
        </p:grpSpPr>
        <p:sp>
          <p:nvSpPr>
            <p:cNvPr id="191" name=""/>
            <p:cNvSpPr/>
            <p:nvPr/>
          </p:nvSpPr>
          <p:spPr>
            <a:xfrm>
              <a:off x="6251400" y="2590560"/>
              <a:ext cx="1828800" cy="76212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υνθήκ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80000" y="373356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εντολ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65800" y="33526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83440" y="2971800"/>
              <a:ext cx="3808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8461440" y="2971800"/>
              <a:ext cx="2880" cy="2666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65800" y="5029200"/>
              <a:ext cx="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870520" y="525780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5866920" y="2361960"/>
              <a:ext cx="3240" cy="28958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70520" y="236196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51400" y="32763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αληθ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13960" y="251460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ψευδ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80000" y="449568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βήμα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5800" y="4267080"/>
              <a:ext cx="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51400" y="1676160"/>
              <a:ext cx="18288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αρχικοποίησ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5800" y="22096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5800" y="12952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rea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, s=0; i &lt; 10; i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d", &amp;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Sum is: %d\n",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44600" y="4216320"/>
            <a:ext cx="2989440" cy="1146240"/>
          </a:xfrm>
          <a:custGeom>
            <a:avLst/>
            <a:gdLst/>
            <a:ahLst/>
            <a:rect l="l" t="t" r="r" b="b"/>
            <a:pathLst>
              <a:path w="1883" h="722">
                <a:moveTo>
                  <a:pt x="1361" y="32"/>
                </a:moveTo>
                <a:cubicBezTo>
                  <a:pt x="1416" y="36"/>
                  <a:pt x="1653" y="0"/>
                  <a:pt x="1693" y="56"/>
                </a:cubicBezTo>
                <a:cubicBezTo>
                  <a:pt x="1733" y="112"/>
                  <a:pt x="1883" y="257"/>
                  <a:pt x="1601" y="368"/>
                </a:cubicBezTo>
                <a:cubicBezTo>
                  <a:pt x="1319" y="479"/>
                  <a:pt x="334" y="648"/>
                  <a:pt x="0" y="72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if (x &lt; 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tin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, s=0; i &lt; 10; i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d", &amp;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Sum is: %d\n",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if (x &lt; 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continu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22360" y="4264200"/>
            <a:ext cx="3363840" cy="680760"/>
          </a:xfrm>
          <a:custGeom>
            <a:avLst/>
            <a:gdLst/>
            <a:ahLst/>
            <a:rect l="l" t="t" r="r" b="b"/>
            <a:pathLst>
              <a:path w="2119" h="429">
                <a:moveTo>
                  <a:pt x="1665" y="2"/>
                </a:moveTo>
                <a:cubicBezTo>
                  <a:pt x="1715" y="11"/>
                  <a:pt x="1943" y="0"/>
                  <a:pt x="1964" y="59"/>
                </a:cubicBezTo>
                <a:cubicBezTo>
                  <a:pt x="1985" y="118"/>
                  <a:pt x="2119" y="293"/>
                  <a:pt x="1792" y="355"/>
                </a:cubicBezTo>
                <a:cubicBezTo>
                  <a:pt x="1465" y="417"/>
                  <a:pt x="373" y="414"/>
                  <a:pt x="0" y="42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spcAft>
                <a:spcPts val="2001"/>
              </a:spcAft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tc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witch (ch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ase 'a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alpha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ase 'b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ase 'c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beta or c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fault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other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x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τικέτες και 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o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 = 1, s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i &lt; 1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oto loo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The sum is %d\n",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44600" y="2975040"/>
            <a:ext cx="2362320" cy="1285920"/>
          </a:xfrm>
          <a:custGeom>
            <a:avLst/>
            <a:gdLst/>
            <a:ahLst/>
            <a:rect l="l" t="t" r="r" b="b"/>
            <a:pathLst>
              <a:path w="1488" h="810">
                <a:moveTo>
                  <a:pt x="1259" y="810"/>
                </a:moveTo>
                <a:cubicBezTo>
                  <a:pt x="1296" y="786"/>
                  <a:pt x="1482" y="773"/>
                  <a:pt x="1479" y="665"/>
                </a:cubicBezTo>
                <a:cubicBezTo>
                  <a:pt x="1476" y="557"/>
                  <a:pt x="1488" y="275"/>
                  <a:pt x="1241" y="164"/>
                </a:cubicBezTo>
                <a:cubicBezTo>
                  <a:pt x="994" y="53"/>
                  <a:pt x="259" y="34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5562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χι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oto: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ομημένος προγραμματισμός!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ή του προγράμματο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πρόγραμμα αποτελείται από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αρτή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λικές μεταβλητ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φορές από την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ascal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ύριο πρόγραμμα, διαδικασίες και συναρτήσεις δε διαφοροποιούντα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κύριο πρόγραμμα ονομάζεται 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mai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διαδικασίες έχουν αποτέλεσμα 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voi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λες οι συναρτήσεις στο ίδιο επίπεδ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επιτρέπονται φωλιασμένες συναρτή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όνο πέρασμα κατά τιμή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all by value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αρακτηριστικά της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λώσσα προστακτικού προγραμματισμού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λώσσα μετρίου επιπέδ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κονομία στην έκφραση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λιτή και περιεκτική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χετικά χαλαρό σύστημα τύπ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Φιλοσοφία: 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ο προγραμματιστής έχει πλήρη έλεγχο και ευθύνεται για τα σφάλματά τ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int x, int 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x *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 (int x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f(x, x+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(6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(array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κολουθία μεταβλητ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το ίδιο όνομα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τον ίδιο τύπο δεδομένων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ε συνεχόμενες θέσεις μνήμης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5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1[5], d2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αρίθμηση αρχίζει από το 0 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 = 0; i &lt; 5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i]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(array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ικοποίηση πινάκ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6, 7, 42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[] = {'a', 'b', 'c', 'd', 'e'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βολοσειρ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ναι πίνακες χαρακτήρ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6] = "abcde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ρματίζονται με τον κενό χαρακτήρα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\0'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6] = {'a', 'b', 'c'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'd', 'e', '\0'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(array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5, 6, 7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b[3] = {2, 3, 1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 = 0; i &lt; 3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 times %d is %d\n"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i], b[i], a[i]*b[i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4876920"/>
            <a:ext cx="3733560" cy="108108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5 times 2 is 1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6 times 3 is 18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7 times 1 is 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διάστατοι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[5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[5][10][4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ικ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[3][3] = { {1, 0, 0}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0, 1, 0}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0, 0, 1}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][10] =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"my", "name", "is", "joe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διάστατοι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πολλαπλασιασμός πινάκ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a[3][4] = ... 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[4][5] = ... 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[3][5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, j, 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; i&lt;3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j=0; j&lt;5; j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[i][j] = 0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k=0; k&lt;4; k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[i][j] += a[i][k] * b[k][j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τις δομές δεδομέν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λγόριθμ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Πεπερασμένο σύνολο εντολών που,</a:t>
            </a:r>
            <a:br>
              <a:rPr sz="2800"/>
            </a:b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όταν εκτελεστούν,</a:t>
            </a:r>
            <a:br>
              <a:rPr sz="2800"/>
            </a:b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επιτυγχάνουν κάποιο επιθυμητό αποτέλεσμ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δομένα εισόδου και εξόδ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άθε εντολή πρέπει να είναι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λά ορισμέν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λ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εκτέλεση πρέπει να σταματ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τις δομές δεδομέν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ολυπλοκότη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Μέτρο εκτίμησης της απόδοσης αλγορίθμων</a:t>
            </a:r>
            <a:br>
              <a:rPr sz="2800"/>
            </a:b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ως συνάρτηση του μεγέθους</a:t>
            </a:r>
            <a:br>
              <a:rPr sz="2800"/>
            </a:b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του προβλήματος που επιλύου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όνος εκτέλε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ωρητικότητα μνήμης που απαιτείτα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κριβής μέτρηση πολυπλοκότητα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 = f(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άξη μεγέθους, συμβολισμοί Ο, Ω, Θ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 = O(f(n)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τις δομές δεδομέν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ισμός των κλάσεων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Ο, Ω, Θ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Άνω όρι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 = O(f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Ϋ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.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 &gt; 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  g(n) &lt; c f(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Κάτω όρι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 =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Ω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f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Ϋ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.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 &gt; 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  g(n) &gt; c f(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άξη μεγέθ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 = Θ(f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Ϋ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c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 &gt; 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f(n) &lt; g(n) &lt; c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f(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άταξη μερικών κλάσεων πολυπλοκότητα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O(1) &lt; O(log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&lt; O(</a:t>
            </a:r>
            <a:r>
              <a:rPr b="0" lang="el-GR" sz="2800" spc="-1" strike="noStrike">
                <a:solidFill>
                  <a:srgbClr val="333333"/>
                </a:solidFill>
                <a:latin typeface="Symbol"/>
                <a:ea typeface="Symbol"/>
              </a:rPr>
              <a:t>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&lt; O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&lt; O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log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&lt; O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i="1" lang="el-GR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&lt; O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i="1" lang="el-GR" sz="2800" spc="-1" strike="noStrike" baseline="30000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&lt; O(2</a:t>
            </a:r>
            <a:r>
              <a:rPr b="0" i="1" lang="el-GR" sz="2800" spc="-1" strike="noStrike" baseline="30000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&lt; O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!) &lt; O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i="1" lang="el-GR" sz="2800" spc="-1" strike="noStrike" baseline="30000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τις δομές δεδομέν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δεδομένων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ata abstraction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αχωρισμό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διοτήτω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λοποίη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διότητες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νός τύπου δεδομένων:</a:t>
            </a:r>
            <a:br>
              <a:rPr sz="2800"/>
            </a:b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ο τρόπος με τον οποίο δημιουργεί κανείς και χρησιμοποιεί δεδομένα αυτού του τύπ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λοποίηση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νός τύπου δεδομένων:</a:t>
            </a:r>
            <a:br>
              <a:rPr sz="2800"/>
            </a:b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ο τρόπος με τον οποίο αναπαρίστανται τα δεδομένα στη μνήμη του υπολογιστή και προγραμματίζονται οι διαθέσιμες πράξ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αρακτηριστικά της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Ιδιαίτερα δημοφιλής στην πράξ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χει χρησιμοποιηθεί για τον προγραμματισμό ευρέως φάσματος συστημάτων και εφαρμογ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χει χρησιμοποιηθεί ως βάση για πληθώρα άλλων γλωσσών: 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C++, Jav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τις δομές δεδομέν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 λεπτομέρειες υλοποίησης επηρεάζουν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ην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πολυπλοκότητ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των αλγορίθμ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ναι συχνή επομένως η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αλλαγή τρόπου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υλοποίηση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άποιου τύπου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αφαίρεση δεδομέν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ελαχιστοποιεί τις αλλαγές που απαιτούνται στο πρόγραμμα που χρησιμοποιεί έναν τύπο δεδομένων, όταν αλλάξει ο τρόπος υλοποίη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φηρημένοι τύποι δεδομέν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ηρημένος τύπος δεδομένων – ΑΤΔ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abstract data typ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ρίζει τι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διότητε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ου τύπου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καθορίζει την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λοποίησή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λγεβρικός ορισμός ΑΤΔ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ύνταξ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όνομα του τύπου και επικεφαλίδες των πράξ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ημασιολογί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κανόνες που περιγράφουν τη λειτουργία των πράξ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Σύνολ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ταξ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νομα τύπου: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e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νολα ακεραίων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κεφαλίδες πράξεων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const set </a:t>
            </a: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empty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set </a:t>
            </a: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 (int x, set s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member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 (int x, set s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set </a:t>
            </a: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union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 (set s1, set s2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subset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 (set s1, set s2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equal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 (set s1, set s2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spcBef>
                <a:spcPts val="1749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Σημείωση: 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θεωρούμε ότι έχει οριστεί κατάλληλα ο τύπος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lea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Σύνολ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member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ember(x, empty) = fa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ember(x, add(x, s)) = tr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ember(x, add(y, s)) = member(x, s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 != 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unio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(empty, s) = 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(add(x, s1), s2) =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add(x, union(s1, s2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Σύνολ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ubse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ubset(empty, s) = tr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ubset(add(x, s1), s2) =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band(member(x, s2), subset(s1, s2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equal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qual(s1, s2) =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band(subset(s1, s2), subset(s2, s1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γκεκριμένοι τύποι δεδομέν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γκεκριμένος τύπος δεδομένων – ΣΤΔ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concrete data typ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ρίζει τι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διότητε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ου τύπου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ρίζει επακριβώς την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λοποίησή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γλώσσα προγραμματισμού υποστηρίζει ορισμένους ΣΤΔ, π.χ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πλοί τύποι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ακέραιοι αριθμοί, πραγματικοί αριθμοί, χαρακτήρες, λογικές τιμ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ύνθετοι τύποι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πίνακε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rrays),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γγραφέ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cords),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ίκτε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inters),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νολα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t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χέση ΑΤΔ και Σ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ΑΤΔ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t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ολα ακεραί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= { 1, 3, 7, 9 }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3366"/>
                </a:solidFill>
                <a:latin typeface="Times New Roman"/>
              </a:rPr>
              <a:t>Υλοποίηση 1: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 πίνακας από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oolea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80880" y="2590920"/>
            <a:ext cx="8382240" cy="914400"/>
            <a:chOff x="380880" y="2590920"/>
            <a:chExt cx="8382240" cy="914400"/>
          </a:xfrm>
        </p:grpSpPr>
        <p:sp>
          <p:nvSpPr>
            <p:cNvPr id="259" name=""/>
            <p:cNvSpPr/>
            <p:nvPr/>
          </p:nvSpPr>
          <p:spPr>
            <a:xfrm>
              <a:off x="1905120" y="2590920"/>
              <a:ext cx="76176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al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4300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tru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77120" y="2590920"/>
              <a:ext cx="76176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al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6688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tru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1500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tru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3888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tru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088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al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2900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al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91120" y="2590920"/>
              <a:ext cx="76176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al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95288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al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0100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al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05120" y="3057480"/>
              <a:ext cx="7617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2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43000" y="305748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1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77120" y="3057480"/>
              <a:ext cx="7617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8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66880" y="305748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3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15000" y="305748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7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38880" y="305748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9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0880" y="305748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0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306720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4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91120" y="3057480"/>
              <a:ext cx="7617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5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305748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6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001000" y="305748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10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8580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3366"/>
                </a:solidFill>
                <a:latin typeface="Times New Roman"/>
              </a:rPr>
              <a:t>Υλοποίηση 2: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its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ός πίνακα από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523880" y="4495680"/>
            <a:ext cx="6400800" cy="1066680"/>
            <a:chOff x="1523880" y="4495680"/>
            <a:chExt cx="6400800" cy="1066680"/>
          </a:xfrm>
        </p:grpSpPr>
        <p:sp>
          <p:nvSpPr>
            <p:cNvPr id="283" name=""/>
            <p:cNvSpPr/>
            <p:nvPr/>
          </p:nvSpPr>
          <p:spPr>
            <a:xfrm>
              <a:off x="4724280" y="4495680"/>
              <a:ext cx="3200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23880" y="4495680"/>
              <a:ext cx="3200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0020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28800" y="510516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1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90920" y="5105160"/>
              <a:ext cx="7617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3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14800" y="512424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7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29200" y="510516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9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81080" y="4572000"/>
              <a:ext cx="38124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6232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4320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24080" y="4572000"/>
              <a:ext cx="38124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67080" y="4572000"/>
              <a:ext cx="38124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0060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81480" y="4572000"/>
              <a:ext cx="38124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6272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4360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24480" y="4572000"/>
              <a:ext cx="38124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8660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67480" y="4572000"/>
              <a:ext cx="38124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85800" y="5715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ατικό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ρόπος υλοποίησης ΣΤΔ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χέση ΑΤΔ και Σ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3366"/>
                </a:solidFill>
                <a:latin typeface="Times New Roman"/>
              </a:rPr>
              <a:t>Υλοποίηση 3: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8195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ctr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υναμικό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ρόπος υλοποίησης ΣΤΔ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ctr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3366"/>
                </a:solidFill>
                <a:latin typeface="Times New Roman"/>
              </a:rPr>
              <a:t>Υλοποίηση 4: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 συμβολοσειρά που περιέχει το μαθηματικό ορισμό του συνόλ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"{x | x=1 \/ x=3 \/ x=7 \/ x=9}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"{x | 1&lt;=x&lt;=10 /\ x%2=1 /\ x&lt;&gt;5}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ctr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ύσκολη η υλοποίηση των πράξ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ctr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ειροσύνολα: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"{x | x &gt; 100}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762120" y="2133720"/>
            <a:ext cx="7543800" cy="990360"/>
            <a:chOff x="762120" y="2133720"/>
            <a:chExt cx="7543800" cy="990360"/>
          </a:xfrm>
        </p:grpSpPr>
        <p:sp>
          <p:nvSpPr>
            <p:cNvPr id="310" name=""/>
            <p:cNvSpPr/>
            <p:nvPr/>
          </p:nvSpPr>
          <p:spPr>
            <a:xfrm>
              <a:off x="1600200" y="2133720"/>
              <a:ext cx="533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33720" y="2133720"/>
              <a:ext cx="53316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38280" y="2362320"/>
              <a:ext cx="83844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76720" y="2133720"/>
              <a:ext cx="53316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09880" y="2133720"/>
              <a:ext cx="533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4800" y="2362320"/>
              <a:ext cx="83808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52880" y="2133720"/>
              <a:ext cx="533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86400" y="2133720"/>
              <a:ext cx="533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91320" y="2362320"/>
              <a:ext cx="83808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29400" y="2133720"/>
              <a:ext cx="533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62920" y="2133720"/>
              <a:ext cx="53316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2120" y="2362320"/>
              <a:ext cx="83808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67480" y="2362320"/>
              <a:ext cx="60984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77320" y="2362320"/>
              <a:ext cx="0" cy="6094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48720" y="2971800"/>
              <a:ext cx="4572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924680" y="3048120"/>
              <a:ext cx="3049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01000" y="3124080"/>
              <a:ext cx="1522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ως Α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ή πράξη: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προσπέλαση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[i]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ήθως υλοποιούνται με κάποιο ΣΤΔ πινάκων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rray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 προσπέλασης: 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ΣΤΔ του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μονοδιάστατου πίνακ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επαρκεί για την υλοποίηση κάθε ΑΤΔ πίνακ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άρτηση  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loc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πολογίζει τη θέση ενός στοιχείου του ΑΤΔ πίνακα στο μονοδιάστατο ΣΤΔ πίνακα της υλοποίη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ως Α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ΤΔ πίνακα δύο διαστάσεων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41148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loc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 = 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– 1) +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ίθμηση κατά στήλε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loc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 = 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– 1) +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286720" y="2057400"/>
            <a:ext cx="5526360" cy="1831320"/>
            <a:chOff x="2286720" y="2057400"/>
            <a:chExt cx="5526360" cy="1831320"/>
          </a:xfrm>
        </p:grpSpPr>
        <p:sp>
          <p:nvSpPr>
            <p:cNvPr id="333" name=""/>
            <p:cNvSpPr/>
            <p:nvPr/>
          </p:nvSpPr>
          <p:spPr>
            <a:xfrm>
              <a:off x="32004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339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6708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8006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341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6728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004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339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6708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006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341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6728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004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6708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006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341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6728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6720" y="20574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02560" y="25146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304360" y="29718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96200" y="34290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j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1168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43400" y="34290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7872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8020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4540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4520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53040" y="228600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36120" y="2743200"/>
              <a:ext cx="87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m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Hello world!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Hello world!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τηρή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επικοινωνία με τον «έξω» κόσμο γίνεται μέσω της </a:t>
            </a:r>
            <a:r>
              <a:rPr b="0" lang="el-GR" sz="2800" spc="-1" strike="noStrike">
                <a:solidFill>
                  <a:srgbClr val="ff0000"/>
                </a:solidFill>
                <a:latin typeface="Times New Roman"/>
              </a:rPr>
              <a:t>βιβλιοθήκης συναρτήσ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σημείο έναρξης του προγράμματος είναι η «κύρια» συνάρτηση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ως Α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ΤΔ κάτω τριγωνικού πίνακα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49528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loc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 = 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– 1) / 2 +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μοίως για συμμετρικούς πίνακε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86720" y="2057400"/>
            <a:ext cx="4849200" cy="2745720"/>
            <a:chOff x="2286720" y="2057400"/>
            <a:chExt cx="4849200" cy="2745720"/>
          </a:xfrm>
        </p:grpSpPr>
        <p:sp>
          <p:nvSpPr>
            <p:cNvPr id="367" name=""/>
            <p:cNvSpPr/>
            <p:nvPr/>
          </p:nvSpPr>
          <p:spPr>
            <a:xfrm>
              <a:off x="32004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339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6708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006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341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004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6708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006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341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004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339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6708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006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341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720" y="20574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02560" y="25146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04360" y="29718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6200" y="43434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j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1168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43400" y="4343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7872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8020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4520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25920" y="297180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0040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33920" y="34290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6708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0060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34120" y="34290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00400" y="38862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33920" y="38862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67080" y="38862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00600" y="38862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34120" y="38862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02560" y="34290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04360" y="38862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ως Α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ΤΔ τριδιαγώνιου πίνακα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49528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loc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 =  2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– 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2286720" y="2057400"/>
            <a:ext cx="4849200" cy="2745720"/>
            <a:chOff x="2286720" y="2057400"/>
            <a:chExt cx="4849200" cy="2745720"/>
          </a:xfrm>
        </p:grpSpPr>
        <p:sp>
          <p:nvSpPr>
            <p:cNvPr id="408" name=""/>
            <p:cNvSpPr/>
            <p:nvPr/>
          </p:nvSpPr>
          <p:spPr>
            <a:xfrm>
              <a:off x="32004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339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6708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006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3341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004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339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6708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006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341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004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339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6708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006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86720" y="20574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02560" y="25146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304360" y="29718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96200" y="43434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j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1168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43400" y="4343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7872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8020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4520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25920" y="297180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0040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33920" y="34290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6708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0060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34120" y="34290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200400" y="38862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33920" y="38862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67080" y="38862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00600" y="38862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34120" y="38862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02560" y="34290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04360" y="38862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ως Α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ΤΔ αραιού πίνακα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" y="44197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λοποίηση με δυαδικό πίνακ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λοποίηση με τρεις πίνα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row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= [ 1, 2, 3, 3, 4 ]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col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= [ 1, 3, 2, 3, 5 ]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val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= [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]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2286720" y="2057400"/>
            <a:ext cx="4951080" cy="2288520"/>
            <a:chOff x="2286720" y="2057400"/>
            <a:chExt cx="4951080" cy="2288520"/>
          </a:xfrm>
        </p:grpSpPr>
        <p:sp>
          <p:nvSpPr>
            <p:cNvPr id="449" name=""/>
            <p:cNvSpPr/>
            <p:nvPr/>
          </p:nvSpPr>
          <p:spPr>
            <a:xfrm>
              <a:off x="32004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7339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26708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006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3341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004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7339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6708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006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341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004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7339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26708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3341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86720" y="20574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02560" y="25146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04360" y="29718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96200" y="38862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j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1168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43400" y="38862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7872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8020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4520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26640" y="2514600"/>
              <a:ext cx="84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n =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0040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33920" y="34290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6708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0060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34120" y="34290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02560" y="34290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27360" y="2971800"/>
              <a:ext cx="91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m =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ζήτηση σε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ειριακή αναζήτ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α στοιχεία διατρέχονται κατά σειρ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2286000" y="2895480"/>
            <a:ext cx="5671080" cy="825480"/>
            <a:chOff x="2286000" y="2895480"/>
            <a:chExt cx="5671080" cy="825480"/>
          </a:xfrm>
        </p:grpSpPr>
        <p:sp>
          <p:nvSpPr>
            <p:cNvPr id="484" name=""/>
            <p:cNvSpPr/>
            <p:nvPr/>
          </p:nvSpPr>
          <p:spPr>
            <a:xfrm>
              <a:off x="228600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819520" y="312408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268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8620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312408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5288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48640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019920" y="312408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11360" y="2895480"/>
              <a:ext cx="94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 = 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 = 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287080" y="3580920"/>
            <a:ext cx="537480" cy="688680"/>
            <a:chOff x="2287080" y="3580920"/>
            <a:chExt cx="537480" cy="688680"/>
          </a:xfrm>
        </p:grpSpPr>
        <p:sp>
          <p:nvSpPr>
            <p:cNvPr id="494" name=""/>
            <p:cNvSpPr/>
            <p:nvPr/>
          </p:nvSpPr>
          <p:spPr>
            <a:xfrm flipV="1">
              <a:off x="255888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8708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353760" y="3580920"/>
            <a:ext cx="537480" cy="688680"/>
            <a:chOff x="3353760" y="3580920"/>
            <a:chExt cx="537480" cy="688680"/>
          </a:xfrm>
        </p:grpSpPr>
        <p:sp>
          <p:nvSpPr>
            <p:cNvPr id="497" name=""/>
            <p:cNvSpPr/>
            <p:nvPr/>
          </p:nvSpPr>
          <p:spPr>
            <a:xfrm flipV="1">
              <a:off x="362556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5376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3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2820600" y="3580920"/>
            <a:ext cx="537480" cy="688680"/>
            <a:chOff x="2820600" y="3580920"/>
            <a:chExt cx="537480" cy="688680"/>
          </a:xfrm>
        </p:grpSpPr>
        <p:sp>
          <p:nvSpPr>
            <p:cNvPr id="500" name=""/>
            <p:cNvSpPr/>
            <p:nvPr/>
          </p:nvSpPr>
          <p:spPr>
            <a:xfrm flipV="1">
              <a:off x="309240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2060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87280" y="3580920"/>
            <a:ext cx="537480" cy="688680"/>
            <a:chOff x="3887280" y="3580920"/>
            <a:chExt cx="537480" cy="688680"/>
          </a:xfrm>
        </p:grpSpPr>
        <p:sp>
          <p:nvSpPr>
            <p:cNvPr id="503" name=""/>
            <p:cNvSpPr/>
            <p:nvPr/>
          </p:nvSpPr>
          <p:spPr>
            <a:xfrm flipV="1">
              <a:off x="415908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8728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4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4414320" y="3580920"/>
            <a:ext cx="537480" cy="688680"/>
            <a:chOff x="4414320" y="3580920"/>
            <a:chExt cx="537480" cy="688680"/>
          </a:xfrm>
        </p:grpSpPr>
        <p:sp>
          <p:nvSpPr>
            <p:cNvPr id="506" name=""/>
            <p:cNvSpPr/>
            <p:nvPr/>
          </p:nvSpPr>
          <p:spPr>
            <a:xfrm flipV="1">
              <a:off x="468612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41432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685800" y="44956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Βελτίωση: στοιχείο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φρουρός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” (sentinel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2286000" y="5045040"/>
            <a:ext cx="5992920" cy="825480"/>
            <a:chOff x="2286000" y="5045040"/>
            <a:chExt cx="5992920" cy="825480"/>
          </a:xfrm>
        </p:grpSpPr>
        <p:sp>
          <p:nvSpPr>
            <p:cNvPr id="510" name=""/>
            <p:cNvSpPr/>
            <p:nvPr/>
          </p:nvSpPr>
          <p:spPr>
            <a:xfrm>
              <a:off x="2286000" y="527364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19520" y="527364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52680" y="527364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6200" y="527364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19720" y="527364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952880" y="527364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86400" y="527364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19920" y="527364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68920" y="5045040"/>
              <a:ext cx="81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 = 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 = 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6553080" y="5270400"/>
            <a:ext cx="533520" cy="457200"/>
          </a:xfrm>
          <a:prstGeom prst="rect">
            <a:avLst/>
          </a:prstGeom>
          <a:solidFill>
            <a:srgbClr val="ffcccc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ζήτηση σε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σ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search (int a[], int n, int x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 = 0; i &lt; n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[i] == x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-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ζήτηση σε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σ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με φρουρό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earch_s (int a[], int n, int x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n] 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 = 0; a[i] != x; i++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(i &lt; n) ? i : -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ζήτηση σε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αδική αναζήτ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πίνακας πρέπει να είν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αξινομημέν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O(log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286000" y="2895480"/>
            <a:ext cx="5671080" cy="825480"/>
            <a:chOff x="2286000" y="2895480"/>
            <a:chExt cx="5671080" cy="825480"/>
          </a:xfrm>
        </p:grpSpPr>
        <p:sp>
          <p:nvSpPr>
            <p:cNvPr id="527" name=""/>
            <p:cNvSpPr/>
            <p:nvPr/>
          </p:nvSpPr>
          <p:spPr>
            <a:xfrm>
              <a:off x="228600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19520" y="312408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5268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8620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19720" y="312408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95288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8640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19920" y="312408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11360" y="2895480"/>
              <a:ext cx="94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 = 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 = 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918960" y="3580920"/>
            <a:ext cx="537480" cy="688680"/>
            <a:chOff x="3918960" y="3580920"/>
            <a:chExt cx="537480" cy="688680"/>
          </a:xfrm>
        </p:grpSpPr>
        <p:sp>
          <p:nvSpPr>
            <p:cNvPr id="537" name=""/>
            <p:cNvSpPr/>
            <p:nvPr/>
          </p:nvSpPr>
          <p:spPr>
            <a:xfrm flipV="1">
              <a:off x="419112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1896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452480" y="3580920"/>
            <a:ext cx="537480" cy="688680"/>
            <a:chOff x="4452480" y="3580920"/>
            <a:chExt cx="537480" cy="688680"/>
          </a:xfrm>
        </p:grpSpPr>
        <p:sp>
          <p:nvSpPr>
            <p:cNvPr id="540" name=""/>
            <p:cNvSpPr/>
            <p:nvPr/>
          </p:nvSpPr>
          <p:spPr>
            <a:xfrm flipV="1">
              <a:off x="472428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45248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3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4986000" y="3580920"/>
            <a:ext cx="537480" cy="688680"/>
            <a:chOff x="4986000" y="3580920"/>
            <a:chExt cx="537480" cy="688680"/>
          </a:xfrm>
        </p:grpSpPr>
        <p:sp>
          <p:nvSpPr>
            <p:cNvPr id="543" name=""/>
            <p:cNvSpPr/>
            <p:nvPr/>
          </p:nvSpPr>
          <p:spPr>
            <a:xfrm flipV="1">
              <a:off x="525780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98600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685800" y="44956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λλες μέθοδοι αναζήτηση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ικρότερο κόστος  </a:t>
            </a:r>
            <a:r>
              <a:rPr b="0" lang="el-GR" sz="28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ερισσότερος χώρο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ίνακε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κατακερματισμού</a:t>
            </a:r>
            <a:r>
              <a:rPr b="0" lang="el-GR" sz="2800" spc="-1" strike="noStrike">
                <a:solidFill>
                  <a:srgbClr val="004c2b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ash tabl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7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ξινόμηση επιλογής </a:t>
            </a:r>
            <a:r>
              <a:rPr b="0" lang="el-GR" sz="32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selection sort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Ιδέα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για κάθε 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 κατ’ αύξουσα σει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βρες το μικρότερο των στοιχείων μετά το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τιμετάθεσέ το με το </a:t>
            </a:r>
            <a:r>
              <a:rPr b="0" i="1" lang="el-GR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0" i="1" lang="el-GR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Βελτίωση: στοιχείο φρουρό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0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8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ξινόμηση επιλογής, υλοποίηση σ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ssort (int a[], int 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, j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i = 0; i &lt; n-1; i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min = a[i], minj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j = i+1; j &lt; n; j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a[j] &lt; mi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min = a[minj = j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[minj] = a[i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[i] = mi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ξινόμηση εισαγωγής </a:t>
            </a:r>
            <a:r>
              <a:rPr b="0" lang="el-GR" sz="32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insertion sort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ησιμοποιούμε αυτό τον τρόπο όταν ταξινομούμε τα χαρτιά μιας τράπουλα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Ιδέα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για κάθε 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 από το δεύτερο και κατ’ αύξουσα σει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οποθέτησε το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]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στη σωστή του θέση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ταξύ των στοιχείων που είναι πριν από αυτό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Βελτιώσεις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οιχείο φρουρό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υαδική εισαγωγ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0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5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3" dur="5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6" dur="5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1" dur="5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6" dur="5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9" dur="500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2" dur="500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κτέλεση προγραμμάτ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1120" y="2209680"/>
            <a:ext cx="129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Πηγαίος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κώδικας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ourc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05120"/>
            <a:ext cx="2514600" cy="99036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Times New Roman"/>
              </a:rPr>
              <a:t>Μεταγλωττιστή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 (compile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4952880"/>
            <a:ext cx="1676520" cy="99072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Times New Roman"/>
              </a:rPr>
              <a:t>Συνδέτη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linke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27280" y="4356000"/>
            <a:ext cx="170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Βιβλιοθήκη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ibrar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55640" y="1589040"/>
            <a:ext cx="193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Αρχεία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επικεφαλίδας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eader file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6280" y="3429000"/>
            <a:ext cx="106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Object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240" y="4255920"/>
            <a:ext cx="1758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Εκτελέσιμο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πρόγραμμα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ecutabl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2133720"/>
            <a:ext cx="106704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2895480"/>
            <a:ext cx="380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190760" y="4191120"/>
            <a:ext cx="53316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85640" y="55627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562720" y="1828800"/>
            <a:ext cx="761760" cy="533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28840" y="5334120"/>
            <a:ext cx="1219320" cy="1522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1523880"/>
            <a:ext cx="1295280" cy="762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hello.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3581280"/>
            <a:ext cx="1295280" cy="762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hello.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486400"/>
            <a:ext cx="1295280" cy="762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hell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952880"/>
            <a:ext cx="1295640" cy="7621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print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1295280"/>
            <a:ext cx="1295640" cy="7621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stdio.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ξινόμηση εισαγωγής, υλοποίηση σ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isort (int a[], int 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, j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i = 1; i &lt; n; i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x = a[i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j = i-1; j &gt;= 0; j--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x &lt; a[j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[j+1] = a[j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[j+1] 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ξινόμηση φυσαλίδας </a:t>
            </a:r>
            <a:r>
              <a:rPr b="0" lang="el-GR" sz="32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bubble sort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Ιδέα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για κάθε 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 κατ’ αύξουσα σει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για κάθε 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ατά φθίνουσα σει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 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-1]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]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τιμετάθεσε τα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-1]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Βελτιώσεις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αματά αν σε ένα πέρασμα δεν γίνει αντιμετάθεση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ε ποιο σημείο έγινε η τελευταία αντιμετάθεση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λλαγή κατεύθυνσης μεταξύ διαδοχικών περασμάτων </a:t>
            </a:r>
            <a:r>
              <a:rPr b="0" lang="el-GR" sz="24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shake sor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9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4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0" dur="50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6" dur="500"/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9" dur="500"/>
                                        <p:tgtEl>
                                          <p:spTgt spid="5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2" dur="500"/>
                                        <p:tgtEl>
                                          <p:spTgt spid="5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ξινόμηση φυσαλίδας, υλοποίηση σ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bsort (int a[], int 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, j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 = 0; i &lt; n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j = n-1; j &gt; i; j--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[j-1] &gt; a[j]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temp = a[j-1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j-1] = a[j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j] = tem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ξινόμηση με διαμέριση </a:t>
            </a:r>
            <a:r>
              <a:rPr b="0" lang="el-GR" sz="32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quick sort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Ιδέα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ιάλεξε ένα τυχαίο στοιχείο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ου πίνακ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ιαμέρισε τον πίνακα, μεταφέροντας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56204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–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α στοιχεία μικρότερα του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ην αρχ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56204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–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α στοιχεία μεγαλύτερα του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x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ο τέλο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αδρομικά, ταξινόμησε τα δύο μέρη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η χειρότερη περίπτωση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sz="2800" spc="-1" strike="noStrike">
                <a:solidFill>
                  <a:srgbClr val="660066"/>
                </a:solidFill>
                <a:latin typeface="Times New Roman"/>
              </a:rPr>
              <a:t>n 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log</a:t>
            </a:r>
            <a:r>
              <a:rPr b="0" i="1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ά μέσο όρ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9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4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7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3" dur="5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6" dur="5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9" dur="500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4" dur="500"/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Quick sort, υλοποίηση σ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qsort (int a[], int 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sort_auxil(a, 0, n-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qsort_auxil (int a[], int lowe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uppe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lower &lt; upper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x = a[(lower + upper) / 2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, j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i = lower, j = uppe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 &lt;= j; i++, j--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a[i] &lt; x) i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a[j] &gt; x) j--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x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Quick sort, υλοποίηση σ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i &lt;= j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temp = a[i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[i] = a[j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[j] = tem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sort_auxil(a, lower, j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sort_auxil(a, i, upper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x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λλοι τρόποι ταξινόμη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αξινόμηση του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hell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hell sort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αξινόμηση σε σωρό </a:t>
            </a:r>
            <a:r>
              <a:rPr b="0" lang="el-GR" sz="28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eap sort)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 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sz="2800" spc="-1" strike="noStrike">
                <a:solidFill>
                  <a:srgbClr val="660066"/>
                </a:solidFill>
                <a:latin typeface="Times New Roman"/>
              </a:rPr>
              <a:t>n 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log</a:t>
            </a:r>
            <a:r>
              <a:rPr b="0" i="1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αξινόμηση με συγχώνευση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rge sort)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 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sz="2800" spc="-1" strike="noStrike">
                <a:solidFill>
                  <a:srgbClr val="660066"/>
                </a:solidFill>
                <a:latin typeface="Times New Roman"/>
              </a:rPr>
              <a:t>n 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log</a:t>
            </a:r>
            <a:r>
              <a:rPr b="0" i="1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1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6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1" dur="5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6" dur="5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οί τύπ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ώνυμα απλών τύπ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double rea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al x,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ώνυμα σύνθετων τύπ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typedef double vector 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vector v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for (i = 0; i &lt; 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v[i]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αριθμήσεις (enumerations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num color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REEN, RED, BLUE, WHITE, BLAC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num color_tag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 = GREE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enum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REEN, RED, BLUE, WHITE, BLAC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colo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lor c = WHIT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έ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tructures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uc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complex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complex_tag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365760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z.re = 1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z.im = -1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complex_tag comple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zs [10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6630840" y="1447920"/>
            <a:ext cx="1979640" cy="1143000"/>
            <a:chOff x="6630840" y="1447920"/>
            <a:chExt cx="1979640" cy="1143000"/>
          </a:xfrm>
        </p:grpSpPr>
        <p:sp>
          <p:nvSpPr>
            <p:cNvPr id="574" name=""/>
            <p:cNvSpPr/>
            <p:nvPr/>
          </p:nvSpPr>
          <p:spPr>
            <a:xfrm>
              <a:off x="7086600" y="1447920"/>
              <a:ext cx="15238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162920" y="1514520"/>
              <a:ext cx="1371600" cy="459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333333"/>
                  </a:solidFill>
                  <a:latin typeface="Courier New"/>
                </a:rPr>
                <a:t>r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162920" y="2048040"/>
              <a:ext cx="1371600" cy="4597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333333"/>
                  </a:solidFill>
                  <a:latin typeface="Courier New"/>
                </a:rPr>
                <a:t>im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630840" y="1514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z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3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6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9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2" dur="50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5" dur="500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5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8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1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4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7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ύποι δεδομένων (απλοί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κέραιοι αριθμοί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θορισμός προσήμαν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gne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sign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θορισμός μεγέθ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hor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ιθμοί κινητής υποδιαστολ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έ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tructures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omplement (complex z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re = z.r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im = -z.i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έ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tructures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  firstName [3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  lastName [5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  phone 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   ag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salar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recor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cord r [100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[423].age = 3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νώσει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ons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 number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 number_tag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630840" y="1447920"/>
            <a:ext cx="1979640" cy="1143000"/>
            <a:chOff x="6630840" y="1447920"/>
            <a:chExt cx="1979640" cy="1143000"/>
          </a:xfrm>
        </p:grpSpPr>
        <p:sp>
          <p:nvSpPr>
            <p:cNvPr id="585" name=""/>
            <p:cNvSpPr/>
            <p:nvPr/>
          </p:nvSpPr>
          <p:spPr>
            <a:xfrm>
              <a:off x="7086600" y="1447920"/>
              <a:ext cx="15238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1523880"/>
              <a:ext cx="1371600" cy="9907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333333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213680" y="1565280"/>
              <a:ext cx="1143000" cy="459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333333"/>
                  </a:solidFill>
                  <a:latin typeface="Courier New"/>
                </a:rPr>
                <a:t>i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30840" y="1514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85800" y="41911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810720" indent="-28260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.d = 1.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lf\n", n.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.i = 4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n.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lf\n", n.d);   /* wrong!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4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7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0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3" dur="5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6" dur="5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9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4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9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4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9" dur="5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ε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ointers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βλη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υ δεν περιέχουν μια τιμή κάποιου απλού τύπου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λλά τη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εύθυν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ιας άλλης μεταβλητ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,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1755360" y="5003640"/>
            <a:ext cx="2511720" cy="942480"/>
            <a:chOff x="1755360" y="5003640"/>
            <a:chExt cx="2511720" cy="942480"/>
          </a:xfrm>
        </p:grpSpPr>
        <p:sp>
          <p:nvSpPr>
            <p:cNvPr id="593" name=""/>
            <p:cNvSpPr/>
            <p:nvPr/>
          </p:nvSpPr>
          <p:spPr>
            <a:xfrm>
              <a:off x="2590920" y="5410080"/>
              <a:ext cx="167616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2360" y="500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x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55360" y="54864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4651200" y="3936960"/>
            <a:ext cx="2511720" cy="942480"/>
            <a:chOff x="4651200" y="3936960"/>
            <a:chExt cx="2511720" cy="942480"/>
          </a:xfrm>
        </p:grpSpPr>
        <p:sp>
          <p:nvSpPr>
            <p:cNvPr id="597" name=""/>
            <p:cNvSpPr/>
            <p:nvPr/>
          </p:nvSpPr>
          <p:spPr>
            <a:xfrm>
              <a:off x="5486400" y="4343400"/>
              <a:ext cx="16765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487840" y="3936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651200" y="44197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24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3201840" y="5460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343400" y="4394160"/>
            <a:ext cx="2382480" cy="1219320"/>
            <a:chOff x="4343400" y="4394160"/>
            <a:chExt cx="2382480" cy="1219320"/>
          </a:xfrm>
        </p:grpSpPr>
        <p:sp>
          <p:nvSpPr>
            <p:cNvPr id="602" name=""/>
            <p:cNvSpPr/>
            <p:nvPr/>
          </p:nvSpPr>
          <p:spPr>
            <a:xfrm>
              <a:off x="5944680" y="439416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4343400" y="4699080"/>
              <a:ext cx="1599840" cy="914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ε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ointers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εικτοδότηση: &amp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διεύθυνση μιας μεταβλητ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δεικτοδότηση: *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περιεχόμενο μιας διεύθυν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", 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p = 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755360" y="5003640"/>
            <a:ext cx="2511720" cy="942480"/>
            <a:chOff x="1755360" y="5003640"/>
            <a:chExt cx="2511720" cy="942480"/>
          </a:xfrm>
        </p:grpSpPr>
        <p:sp>
          <p:nvSpPr>
            <p:cNvPr id="607" name=""/>
            <p:cNvSpPr/>
            <p:nvPr/>
          </p:nvSpPr>
          <p:spPr>
            <a:xfrm>
              <a:off x="2590920" y="5410080"/>
              <a:ext cx="167616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92360" y="500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x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55360" y="54864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4651200" y="3936960"/>
            <a:ext cx="2511720" cy="942480"/>
            <a:chOff x="4651200" y="3936960"/>
            <a:chExt cx="2511720" cy="942480"/>
          </a:xfrm>
        </p:grpSpPr>
        <p:sp>
          <p:nvSpPr>
            <p:cNvPr id="611" name=""/>
            <p:cNvSpPr/>
            <p:nvPr/>
          </p:nvSpPr>
          <p:spPr>
            <a:xfrm>
              <a:off x="5486400" y="4343400"/>
              <a:ext cx="16765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87840" y="3936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51200" y="44197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24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3201840" y="5460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4343400" y="4394160"/>
            <a:ext cx="2382480" cy="1219320"/>
            <a:chOff x="4343400" y="4394160"/>
            <a:chExt cx="2382480" cy="1219320"/>
          </a:xfrm>
        </p:grpSpPr>
        <p:sp>
          <p:nvSpPr>
            <p:cNvPr id="616" name=""/>
            <p:cNvSpPr/>
            <p:nvPr/>
          </p:nvSpPr>
          <p:spPr>
            <a:xfrm>
              <a:off x="5944680" y="439416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4343400" y="4699080"/>
              <a:ext cx="1599840" cy="914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ιθμητική δεικτ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7, 6, 42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5794200" y="1752480"/>
            <a:ext cx="2816280" cy="3609360"/>
            <a:chOff x="5794200" y="1752480"/>
            <a:chExt cx="2816280" cy="3609360"/>
          </a:xfrm>
        </p:grpSpPr>
        <p:sp>
          <p:nvSpPr>
            <p:cNvPr id="621" name=""/>
            <p:cNvSpPr/>
            <p:nvPr/>
          </p:nvSpPr>
          <p:spPr>
            <a:xfrm>
              <a:off x="6934320" y="4826160"/>
              <a:ext cx="1676160" cy="5331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935760" y="4419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98760" y="49021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24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629400" y="2158920"/>
              <a:ext cx="7621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630840" y="1752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94200" y="223524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859800" y="2209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29400" y="2666880"/>
              <a:ext cx="7621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4200" y="27432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59800" y="2717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629400" y="3200400"/>
              <a:ext cx="7621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94200" y="32767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770520" y="32511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7392960" y="2437920"/>
            <a:ext cx="781200" cy="2898720"/>
            <a:chOff x="7392960" y="2437920"/>
            <a:chExt cx="781200" cy="2898720"/>
          </a:xfrm>
        </p:grpSpPr>
        <p:sp>
          <p:nvSpPr>
            <p:cNvPr id="635" name=""/>
            <p:cNvSpPr/>
            <p:nvPr/>
          </p:nvSpPr>
          <p:spPr>
            <a:xfrm>
              <a:off x="7392960" y="487692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7467120" y="2438280"/>
              <a:ext cx="3812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7848720" y="2437920"/>
              <a:ext cx="0" cy="2514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685800" y="29718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(a[0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5800" y="44956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*(p+1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p+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3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8" dur="500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3" dur="500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3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8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3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8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Ισοδυναμία πινάκων και δεικτ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Ένας πίνακας είναι ένας δείκτης στο πρώτο στοιχείο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i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ισοδύναμο με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(a+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πίνακες όμως είναι σταθεροί δείκτες, δηλαδή δεν μπορούν να αλλάξουν τιμ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7, 6, 42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*p = &amp;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++;  /* correct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++;  /* wrong! 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αντιγραφή πινάκ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10], b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*p = a, *q = b,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* assume b initialized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; i&lt;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p++ = *q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εκτύπωση συμβολοσειρά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utchar (char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] = "Hello world!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p = s; *p != '\0'; p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tchar(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ενός δείκτης και δείκτης σε κενό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κενός δείκτης:  </a:t>
            </a:r>
            <a:r>
              <a:rPr b="1" lang="en-US" sz="3200" spc="-1" strike="noStrike">
                <a:solidFill>
                  <a:srgbClr val="660066"/>
                </a:solidFill>
                <a:latin typeface="Courier New"/>
              </a:rPr>
              <a:t>NUL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αγορεύεται να αποδεικτοδοτηθεί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*p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p = 42;         /* wrong!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μόνος δείκτης που αντιστοιχεί στην ψευδή λογική τιμή, όταν χρησιμοποιείται σε συνθήκ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315200" y="1371600"/>
            <a:ext cx="1523880" cy="1295280"/>
            <a:chOff x="7315200" y="1371600"/>
            <a:chExt cx="1523880" cy="1295280"/>
          </a:xfrm>
        </p:grpSpPr>
        <p:sp>
          <p:nvSpPr>
            <p:cNvPr id="649" name=""/>
            <p:cNvSpPr/>
            <p:nvPr/>
          </p:nvSpPr>
          <p:spPr>
            <a:xfrm>
              <a:off x="7315200" y="1371600"/>
              <a:ext cx="152388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619760" y="1904760"/>
              <a:ext cx="6098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229600" y="1904760"/>
              <a:ext cx="0" cy="304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962840" y="220968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39160" y="228564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15120" y="236196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685800" y="42670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δείκτης σε κενό:  </a:t>
            </a:r>
            <a:r>
              <a:rPr b="1" lang="en-US" sz="3200" spc="-1" strike="noStrike">
                <a:solidFill>
                  <a:srgbClr val="660066"/>
                </a:solidFill>
                <a:latin typeface="Courier New"/>
              </a:rPr>
              <a:t>void *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ενική μορφή δείκτ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αγορεύεται να αποδεικτοδοτηθεί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αγορεύεται η αριθμητική δεικτών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5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0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5" dur="5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0" dur="5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5" dur="500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5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0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5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0" dur="5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ας απλών τύπων δεδομέν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66"/>
                </a:solidFill>
                <a:latin typeface="Courier New"/>
              </a:rPr>
              <a:t>char , signed char , unsigned cha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Courier New"/>
              </a:rPr>
              <a:t>signed</a:t>
            </a:r>
            <a:r>
              <a:rPr b="1" sz="2400" spc="-1" strike="noStrike">
                <a:solidFill>
                  <a:srgbClr val="003366"/>
                </a:solidFill>
                <a:latin typeface="Courier New"/>
              </a:rPr>
              <a:t> short </a:t>
            </a:r>
            <a:r>
              <a:rPr b="1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1" sz="2400" spc="-1" strike="noStrike">
                <a:solidFill>
                  <a:srgbClr val="003366"/>
                </a:solidFill>
                <a:latin typeface="Courier New"/>
              </a:rPr>
              <a:t> , unsigned short </a:t>
            </a:r>
            <a:r>
              <a:rPr b="1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Courier New"/>
              </a:rPr>
              <a:t>signed</a:t>
            </a:r>
            <a:r>
              <a:rPr b="1" sz="2400" spc="-1" strike="noStrike">
                <a:solidFill>
                  <a:srgbClr val="003366"/>
                </a:solidFill>
                <a:latin typeface="Courier New"/>
              </a:rPr>
              <a:t> int , unsigned 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Courier New"/>
              </a:rPr>
              <a:t>signed</a:t>
            </a:r>
            <a:r>
              <a:rPr b="1" sz="2400" spc="-1" strike="noStrike">
                <a:solidFill>
                  <a:srgbClr val="003366"/>
                </a:solidFill>
                <a:latin typeface="Courier New"/>
              </a:rPr>
              <a:t> long </a:t>
            </a:r>
            <a:r>
              <a:rPr b="1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1" sz="2400" spc="-1" strike="noStrike">
                <a:solidFill>
                  <a:srgbClr val="003366"/>
                </a:solidFill>
                <a:latin typeface="Courier New"/>
              </a:rPr>
              <a:t> , unsigned long </a:t>
            </a:r>
            <a:r>
              <a:rPr b="1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66"/>
                </a:solidFill>
                <a:latin typeface="Courier New"/>
              </a:rPr>
              <a:t>flo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66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66"/>
                </a:solidFill>
                <a:latin typeface="Courier New"/>
              </a:rPr>
              <a:t>long dou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Με </a:t>
            </a:r>
            <a:r>
              <a:rPr b="0" lang="el-GR" sz="2400" spc="-1" strike="noStrike">
                <a:solidFill>
                  <a:srgbClr val="ff0000"/>
                </a:solidFill>
                <a:latin typeface="Times New Roman"/>
              </a:rPr>
              <a:t>κόκκινο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 χρώμα όσα μπορούν να παραλειφθούν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752480"/>
            <a:ext cx="7619760" cy="373392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36232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285768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38156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91508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ες αντί περάσματος με αναφορά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ώδικα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asc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ocedure inc (var x : integer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x := x+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... inc(a)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Ισοδύναμος κώδικα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inc (int * px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*px)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... inc(&amp;a)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7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0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3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6" dur="500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9" dur="500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2" dur="500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7" dur="500"/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0" dur="500"/>
                                        <p:tgtEl>
                                          <p:spTgt spid="6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3" dur="500"/>
                                        <p:tgtEl>
                                          <p:spTgt spid="6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6" dur="500"/>
                                        <p:tgtEl>
                                          <p:spTgt spid="6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9" dur="500"/>
                                        <p:tgtEl>
                                          <p:spTgt spid="6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2" dur="500"/>
                                        <p:tgtEl>
                                          <p:spTgt spid="6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ες σε εγγραφέ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τομογραφ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-&gt;x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είναι ισοδύναμο με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*p).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x,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} coordinates,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ordinates.x =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ordinates.y = 3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 = &amp;coordinate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p-&gt;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p-&gt;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Μετατροπές τύπ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μμεσες (coercion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double d = 3;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(με ανάθεση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x = 3.14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f (int x);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(με πέρασμα παραμέτρου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f(3.14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μεσες (type casting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 τύπος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έκφρα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double) 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int) 3.1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int *) NUL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Μετατροπές τύπ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Πρόβλημα: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ώς μπορώ να τυπώσω το αποτέλεσμα της πραγματικής διαίρεσης δυο ακεραίων αριθμών, χωρίς νέες μεταβλητές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x = 5,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y = 3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Λάθος λύση #1: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", x/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y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Λάθος λύση #2: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lf", x/y)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Σωστές λύσεις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lf", 1.0 * x /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lf", (double) x / (double)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lf", (double) x /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228600" y="5715000"/>
            <a:ext cx="838080" cy="609480"/>
            <a:chOff x="228600" y="5715000"/>
            <a:chExt cx="838080" cy="609480"/>
          </a:xfrm>
        </p:grpSpPr>
        <p:sp>
          <p:nvSpPr>
            <p:cNvPr id="665" name=""/>
            <p:cNvSpPr/>
            <p:nvPr/>
          </p:nvSpPr>
          <p:spPr>
            <a:xfrm>
              <a:off x="838080" y="5715000"/>
              <a:ext cx="228600" cy="6094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8600" y="5867280"/>
              <a:ext cx="457200" cy="304920"/>
            </a:xfrm>
            <a:custGeom>
              <a:avLst/>
              <a:gdLst>
                <a:gd name="textAreaLeft" fmla="*/ 56880 w 457200"/>
                <a:gd name="textAreaRight" fmla="*/ 400320 w 4572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ναμική παραχώρηση μνήμ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αρτήσεις βιβλιοθήκη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dlib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* malloc (size_t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υναμική παραχώρηση μνήμης μήκου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yte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ο αποτέλεσμα πρέπει να μετατραπεί στο σωστό τύπο.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πιστρέφεται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ULL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αν εξαντληθεί η μνήμη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free (void * 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ποδέσμευση της μνήμης στην οποία δείχνει το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ο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ρέπει να έχει δημιουργηθεί με προηγούμενη κλήση στη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lloc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όσα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ytes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ρειάζονται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of(</a:t>
            </a:r>
            <a:r>
              <a:rPr b="0" i="1" sz="2800" spc="-1" strike="noStrike">
                <a:solidFill>
                  <a:srgbClr val="333333"/>
                </a:solidFill>
                <a:latin typeface="Times New Roman"/>
              </a:rPr>
              <a:t>type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)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π.χ.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sizeof(in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of(</a:t>
            </a:r>
            <a:r>
              <a:rPr b="0" i="1" sz="2800" spc="-1" strike="noStrike">
                <a:solidFill>
                  <a:srgbClr val="333333"/>
                </a:solidFill>
                <a:latin typeface="Times New Roman"/>
              </a:rPr>
              <a:t>variable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)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π.χ.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sizeof(x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ναμική παραχώρηση μνήμ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 = (int *) malloc(sizeof(int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p = 4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 = (int *) malloc(10 * sizeof(int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i = 0; i &lt; 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[i] = 4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4114800" y="3048120"/>
            <a:ext cx="4724280" cy="3132000"/>
            <a:chOff x="4114800" y="3048120"/>
            <a:chExt cx="4724280" cy="3132000"/>
          </a:xfrm>
        </p:grpSpPr>
        <p:sp>
          <p:nvSpPr>
            <p:cNvPr id="672" name=""/>
            <p:cNvSpPr/>
            <p:nvPr/>
          </p:nvSpPr>
          <p:spPr>
            <a:xfrm>
              <a:off x="8686800" y="3048120"/>
              <a:ext cx="0" cy="2361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14800" y="5354640"/>
              <a:ext cx="4724280" cy="825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Το αποτέλεσμα της </a:t>
              </a: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malloc</a:t>
              </a: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0" lang="el-GR" sz="2400" spc="-1" strike="noStrike">
                  <a:solidFill>
                    <a:srgbClr val="660066"/>
                  </a:solidFill>
                  <a:latin typeface="Times New Roman"/>
                </a:rPr>
                <a:t>πρέπει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660066"/>
                  </a:solidFill>
                  <a:latin typeface="Times New Roman"/>
                </a:rPr>
                <a:t>να ελεγχθεί</a:t>
              </a: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 ότι δεν είναι </a:t>
              </a: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NULL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!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238880" y="3048120"/>
              <a:ext cx="1447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8153280" y="4343400"/>
              <a:ext cx="533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6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1" dur="5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6" dur="5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1" dur="50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6" dur="500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1" dur="500"/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6" dur="500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1" dur="500"/>
                                        <p:tgtEl>
                                          <p:spTgt spid="6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6" dur="500"/>
                                        <p:tgtEl>
                                          <p:spTgt spid="6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1" dur="500"/>
                                        <p:tgtEl>
                                          <p:spTgt spid="6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ναμικοί Σ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ρησιμοποιούνται για την υλοποίηση ΑΤΔ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δείγμα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δεδεμένες λίστ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έντρ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ράφο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ώς υλοποιούνται στ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κατάλληλο συνδυασμό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ομώ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εικτώ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inters),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υναμική παραχώρη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νήμ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ναμικοί Σ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λεονεκτήματα έναντι στατικών ΣΤΔ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επιβάλλουν περιορισμούς στο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έγιστο πλήθο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ων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μνήμη που χρησιμοποιείται είναι ανάλογη του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ραγματικού πλήθου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ων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άποιες πράξεις υλοποιούνται αποδοτικότερα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ιονεκτήματα έναντι στατικών ΣΤΔ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σταθερό και γνωστό πλήθος δεδομένων, χρησιμοποιούν συνήθως περισσότερη μνήμ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άποιες πράξεις υλοποιούνται λιγότερο αποδοτικ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ναμικοί Σ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Ιδέ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ασκευάζεται ένα σύνολο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κόμβ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άθε κόμβος περιέχε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ληροφορίε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υνδέσμου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ρος άλλους κόμβ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2362320" y="3422520"/>
            <a:ext cx="6019560" cy="2901960"/>
            <a:chOff x="2362320" y="3422520"/>
            <a:chExt cx="6019560" cy="2901960"/>
          </a:xfrm>
        </p:grpSpPr>
        <p:sp>
          <p:nvSpPr>
            <p:cNvPr id="683" name=""/>
            <p:cNvSpPr/>
            <p:nvPr/>
          </p:nvSpPr>
          <p:spPr>
            <a:xfrm>
              <a:off x="2362320" y="3422520"/>
              <a:ext cx="6019560" cy="2901960"/>
            </a:xfrm>
            <a:custGeom>
              <a:avLst/>
              <a:gdLst/>
              <a:ahLst/>
              <a:rect l="l" t="t" r="r" b="b"/>
              <a:pathLst>
                <a:path w="3977" h="2141">
                  <a:moveTo>
                    <a:pt x="130" y="588"/>
                  </a:moveTo>
                  <a:cubicBezTo>
                    <a:pt x="140" y="537"/>
                    <a:pt x="140" y="491"/>
                    <a:pt x="188" y="459"/>
                  </a:cubicBezTo>
                  <a:cubicBezTo>
                    <a:pt x="210" y="444"/>
                    <a:pt x="237" y="438"/>
                    <a:pt x="259" y="424"/>
                  </a:cubicBezTo>
                  <a:cubicBezTo>
                    <a:pt x="323" y="327"/>
                    <a:pt x="382" y="278"/>
                    <a:pt x="494" y="259"/>
                  </a:cubicBezTo>
                  <a:cubicBezTo>
                    <a:pt x="525" y="247"/>
                    <a:pt x="556" y="233"/>
                    <a:pt x="588" y="223"/>
                  </a:cubicBezTo>
                  <a:cubicBezTo>
                    <a:pt x="619" y="213"/>
                    <a:pt x="652" y="211"/>
                    <a:pt x="682" y="200"/>
                  </a:cubicBezTo>
                  <a:cubicBezTo>
                    <a:pt x="778" y="165"/>
                    <a:pt x="869" y="118"/>
                    <a:pt x="965" y="82"/>
                  </a:cubicBezTo>
                  <a:cubicBezTo>
                    <a:pt x="983" y="75"/>
                    <a:pt x="994" y="55"/>
                    <a:pt x="1012" y="47"/>
                  </a:cubicBezTo>
                  <a:cubicBezTo>
                    <a:pt x="1042" y="35"/>
                    <a:pt x="1075" y="32"/>
                    <a:pt x="1106" y="23"/>
                  </a:cubicBezTo>
                  <a:cubicBezTo>
                    <a:pt x="1130" y="16"/>
                    <a:pt x="1177" y="0"/>
                    <a:pt x="1177" y="0"/>
                  </a:cubicBezTo>
                  <a:cubicBezTo>
                    <a:pt x="1280" y="18"/>
                    <a:pt x="1370" y="57"/>
                    <a:pt x="1471" y="82"/>
                  </a:cubicBezTo>
                  <a:cubicBezTo>
                    <a:pt x="1537" y="127"/>
                    <a:pt x="1481" y="97"/>
                    <a:pt x="1600" y="118"/>
                  </a:cubicBezTo>
                  <a:cubicBezTo>
                    <a:pt x="1717" y="139"/>
                    <a:pt x="1823" y="185"/>
                    <a:pt x="1941" y="200"/>
                  </a:cubicBezTo>
                  <a:cubicBezTo>
                    <a:pt x="2147" y="194"/>
                    <a:pt x="2349" y="171"/>
                    <a:pt x="2553" y="188"/>
                  </a:cubicBezTo>
                  <a:cubicBezTo>
                    <a:pt x="2760" y="230"/>
                    <a:pt x="2965" y="276"/>
                    <a:pt x="3176" y="294"/>
                  </a:cubicBezTo>
                  <a:cubicBezTo>
                    <a:pt x="3304" y="320"/>
                    <a:pt x="3495" y="315"/>
                    <a:pt x="3600" y="400"/>
                  </a:cubicBezTo>
                  <a:cubicBezTo>
                    <a:pt x="3628" y="423"/>
                    <a:pt x="3673" y="468"/>
                    <a:pt x="3694" y="506"/>
                  </a:cubicBezTo>
                  <a:cubicBezTo>
                    <a:pt x="3711" y="537"/>
                    <a:pt x="3741" y="600"/>
                    <a:pt x="3741" y="600"/>
                  </a:cubicBezTo>
                  <a:cubicBezTo>
                    <a:pt x="3754" y="677"/>
                    <a:pt x="3764" y="737"/>
                    <a:pt x="3811" y="800"/>
                  </a:cubicBezTo>
                  <a:cubicBezTo>
                    <a:pt x="3828" y="850"/>
                    <a:pt x="3850" y="887"/>
                    <a:pt x="3882" y="929"/>
                  </a:cubicBezTo>
                  <a:cubicBezTo>
                    <a:pt x="3913" y="1052"/>
                    <a:pt x="3872" y="911"/>
                    <a:pt x="3917" y="1012"/>
                  </a:cubicBezTo>
                  <a:cubicBezTo>
                    <a:pt x="3927" y="1035"/>
                    <a:pt x="3941" y="1082"/>
                    <a:pt x="3941" y="1082"/>
                  </a:cubicBezTo>
                  <a:cubicBezTo>
                    <a:pt x="3977" y="1295"/>
                    <a:pt x="3964" y="1500"/>
                    <a:pt x="3953" y="1718"/>
                  </a:cubicBezTo>
                  <a:cubicBezTo>
                    <a:pt x="3948" y="1811"/>
                    <a:pt x="3882" y="1866"/>
                    <a:pt x="3800" y="1894"/>
                  </a:cubicBezTo>
                  <a:cubicBezTo>
                    <a:pt x="3741" y="1953"/>
                    <a:pt x="3656" y="1982"/>
                    <a:pt x="3576" y="2000"/>
                  </a:cubicBezTo>
                  <a:cubicBezTo>
                    <a:pt x="3407" y="2037"/>
                    <a:pt x="3242" y="2064"/>
                    <a:pt x="3070" y="2082"/>
                  </a:cubicBezTo>
                  <a:cubicBezTo>
                    <a:pt x="2962" y="2110"/>
                    <a:pt x="3039" y="2092"/>
                    <a:pt x="2835" y="2118"/>
                  </a:cubicBezTo>
                  <a:cubicBezTo>
                    <a:pt x="2718" y="2133"/>
                    <a:pt x="2482" y="2141"/>
                    <a:pt x="2482" y="2141"/>
                  </a:cubicBezTo>
                  <a:cubicBezTo>
                    <a:pt x="2167" y="2135"/>
                    <a:pt x="1954" y="2128"/>
                    <a:pt x="1671" y="2106"/>
                  </a:cubicBezTo>
                  <a:cubicBezTo>
                    <a:pt x="1608" y="2101"/>
                    <a:pt x="1545" y="2099"/>
                    <a:pt x="1482" y="2094"/>
                  </a:cubicBezTo>
                  <a:cubicBezTo>
                    <a:pt x="1408" y="2088"/>
                    <a:pt x="1259" y="2071"/>
                    <a:pt x="1259" y="2071"/>
                  </a:cubicBezTo>
                  <a:cubicBezTo>
                    <a:pt x="1158" y="2045"/>
                    <a:pt x="1064" y="1998"/>
                    <a:pt x="977" y="1941"/>
                  </a:cubicBezTo>
                  <a:cubicBezTo>
                    <a:pt x="896" y="1887"/>
                    <a:pt x="828" y="1820"/>
                    <a:pt x="741" y="1777"/>
                  </a:cubicBezTo>
                  <a:cubicBezTo>
                    <a:pt x="718" y="1754"/>
                    <a:pt x="677" y="1709"/>
                    <a:pt x="647" y="1694"/>
                  </a:cubicBezTo>
                  <a:cubicBezTo>
                    <a:pt x="534" y="1637"/>
                    <a:pt x="412" y="1622"/>
                    <a:pt x="318" y="1529"/>
                  </a:cubicBezTo>
                  <a:cubicBezTo>
                    <a:pt x="295" y="1506"/>
                    <a:pt x="241" y="1453"/>
                    <a:pt x="212" y="1424"/>
                  </a:cubicBezTo>
                  <a:cubicBezTo>
                    <a:pt x="200" y="1412"/>
                    <a:pt x="189" y="1400"/>
                    <a:pt x="177" y="1388"/>
                  </a:cubicBezTo>
                  <a:cubicBezTo>
                    <a:pt x="165" y="1376"/>
                    <a:pt x="141" y="1353"/>
                    <a:pt x="141" y="1353"/>
                  </a:cubicBezTo>
                  <a:cubicBezTo>
                    <a:pt x="114" y="1298"/>
                    <a:pt x="104" y="1240"/>
                    <a:pt x="71" y="1188"/>
                  </a:cubicBezTo>
                  <a:cubicBezTo>
                    <a:pt x="58" y="1136"/>
                    <a:pt x="41" y="1086"/>
                    <a:pt x="24" y="1035"/>
                  </a:cubicBezTo>
                  <a:cubicBezTo>
                    <a:pt x="20" y="1023"/>
                    <a:pt x="16" y="1012"/>
                    <a:pt x="12" y="1000"/>
                  </a:cubicBezTo>
                  <a:cubicBezTo>
                    <a:pt x="8" y="988"/>
                    <a:pt x="0" y="965"/>
                    <a:pt x="0" y="965"/>
                  </a:cubicBezTo>
                  <a:cubicBezTo>
                    <a:pt x="8" y="915"/>
                    <a:pt x="24" y="863"/>
                    <a:pt x="24" y="812"/>
                  </a:cubicBezTo>
                  <a:lnTo>
                    <a:pt x="36" y="659"/>
                  </a:lnTo>
                  <a:lnTo>
                    <a:pt x="130" y="588"/>
                  </a:lnTo>
                  <a:close/>
                </a:path>
              </a:pathLst>
            </a:custGeom>
            <a:solidFill>
              <a:srgbClr val="f6f9b5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4876560" y="4495680"/>
              <a:ext cx="1295280" cy="685800"/>
              <a:chOff x="4876560" y="4495680"/>
              <a:chExt cx="1295280" cy="685800"/>
            </a:xfrm>
          </p:grpSpPr>
          <p:sp>
            <p:nvSpPr>
              <p:cNvPr id="685" name=""/>
              <p:cNvSpPr/>
              <p:nvPr/>
            </p:nvSpPr>
            <p:spPr>
              <a:xfrm>
                <a:off x="4876560" y="4495680"/>
                <a:ext cx="1295280" cy="68580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333333"/>
                    </a:solidFill>
                    <a:latin typeface="Times New Roman"/>
                  </a:rPr>
                  <a:t>Π</a:t>
                </a:r>
                <a:r>
                  <a:rPr b="1" lang="en-GB" sz="2800" spc="-1" strike="noStrike">
                    <a:solidFill>
                      <a:srgbClr val="333333"/>
                    </a:solidFill>
                    <a:latin typeface="Times New Roman"/>
                  </a:rPr>
                  <a:t>	</a:t>
                </a:r>
                <a:r>
                  <a:rPr b="1" lang="en-GB" sz="2800" spc="-1" strike="noStrike">
                    <a:solidFill>
                      <a:srgbClr val="333333"/>
                    </a:solidFill>
                    <a:latin typeface="Times New Roman"/>
                  </a:rPr>
                  <a:t>Σ</a:t>
                </a:r>
                <a:endParaRPr b="0" lang="en-US" sz="2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24200" y="4495680"/>
                <a:ext cx="0" cy="6858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3124080" y="3886200"/>
              <a:ext cx="685440" cy="380880"/>
              <a:chOff x="3124080" y="3886200"/>
              <a:chExt cx="685440" cy="380880"/>
            </a:xfrm>
          </p:grpSpPr>
          <p:sp>
            <p:nvSpPr>
              <p:cNvPr id="688" name=""/>
              <p:cNvSpPr/>
              <p:nvPr/>
            </p:nvSpPr>
            <p:spPr>
              <a:xfrm>
                <a:off x="3124080" y="3886200"/>
                <a:ext cx="68544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466800" y="38862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5105160" y="5638680"/>
              <a:ext cx="685440" cy="381240"/>
              <a:chOff x="5105160" y="5638680"/>
              <a:chExt cx="685440" cy="381240"/>
            </a:xfrm>
          </p:grpSpPr>
          <p:sp>
            <p:nvSpPr>
              <p:cNvPr id="691" name=""/>
              <p:cNvSpPr/>
              <p:nvPr/>
            </p:nvSpPr>
            <p:spPr>
              <a:xfrm>
                <a:off x="5105160" y="5638680"/>
                <a:ext cx="68544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447880" y="563868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6858000" y="4114800"/>
              <a:ext cx="685440" cy="380880"/>
              <a:chOff x="6858000" y="4114800"/>
              <a:chExt cx="685440" cy="380880"/>
            </a:xfrm>
          </p:grpSpPr>
          <p:sp>
            <p:nvSpPr>
              <p:cNvPr id="694" name=""/>
              <p:cNvSpPr/>
              <p:nvPr/>
            </p:nvSpPr>
            <p:spPr>
              <a:xfrm>
                <a:off x="6858000" y="4114800"/>
                <a:ext cx="68544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200720" y="41148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7543800" y="5334120"/>
              <a:ext cx="685440" cy="380880"/>
              <a:chOff x="7543800" y="5334120"/>
              <a:chExt cx="685440" cy="380880"/>
            </a:xfrm>
          </p:grpSpPr>
          <p:sp>
            <p:nvSpPr>
              <p:cNvPr id="697" name=""/>
              <p:cNvSpPr/>
              <p:nvPr/>
            </p:nvSpPr>
            <p:spPr>
              <a:xfrm>
                <a:off x="7543800" y="5334120"/>
                <a:ext cx="68544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886520" y="53341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 flipV="1">
              <a:off x="6095880" y="4343400"/>
              <a:ext cx="76176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91160" y="4343400"/>
              <a:ext cx="38088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5715000" y="5562720"/>
              <a:ext cx="1828440" cy="304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57600" y="4114800"/>
              <a:ext cx="121860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57600" y="4038480"/>
              <a:ext cx="320004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ναι γραμμικές διατάξ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κόμβος περιέχει ένα σύνδεσμο στον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πόμενο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όμβ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ελευταίος κόμβος έχει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κενό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σύνδεσμ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295280" y="4114800"/>
            <a:ext cx="6477120" cy="1295280"/>
            <a:chOff x="1295280" y="4114800"/>
            <a:chExt cx="6477120" cy="1295280"/>
          </a:xfrm>
        </p:grpSpPr>
        <p:sp>
          <p:nvSpPr>
            <p:cNvPr id="707" name=""/>
            <p:cNvSpPr/>
            <p:nvPr/>
          </p:nvSpPr>
          <p:spPr>
            <a:xfrm>
              <a:off x="1752480" y="4114800"/>
              <a:ext cx="601992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2286000" y="4572000"/>
              <a:ext cx="685800" cy="380880"/>
              <a:chOff x="2286000" y="4572000"/>
              <a:chExt cx="685800" cy="380880"/>
            </a:xfrm>
          </p:grpSpPr>
          <p:sp>
            <p:nvSpPr>
              <p:cNvPr id="709" name=""/>
              <p:cNvSpPr/>
              <p:nvPr/>
            </p:nvSpPr>
            <p:spPr>
              <a:xfrm>
                <a:off x="228600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62908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3581280" y="4572000"/>
              <a:ext cx="685800" cy="380880"/>
              <a:chOff x="3581280" y="4572000"/>
              <a:chExt cx="685800" cy="380880"/>
            </a:xfrm>
          </p:grpSpPr>
          <p:sp>
            <p:nvSpPr>
              <p:cNvPr id="712" name=""/>
              <p:cNvSpPr/>
              <p:nvPr/>
            </p:nvSpPr>
            <p:spPr>
              <a:xfrm>
                <a:off x="358128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92436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2819520" y="476244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4876920" y="4572000"/>
              <a:ext cx="685800" cy="380880"/>
              <a:chOff x="4876920" y="4572000"/>
              <a:chExt cx="685800" cy="380880"/>
            </a:xfrm>
          </p:grpSpPr>
          <p:sp>
            <p:nvSpPr>
              <p:cNvPr id="716" name=""/>
              <p:cNvSpPr/>
              <p:nvPr/>
            </p:nvSpPr>
            <p:spPr>
              <a:xfrm>
                <a:off x="487692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22000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4114800" y="476244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6172200" y="4572000"/>
              <a:ext cx="685800" cy="380880"/>
              <a:chOff x="6172200" y="4572000"/>
              <a:chExt cx="685800" cy="380880"/>
            </a:xfrm>
          </p:grpSpPr>
          <p:sp>
            <p:nvSpPr>
              <p:cNvPr id="720" name=""/>
              <p:cNvSpPr/>
              <p:nvPr/>
            </p:nvSpPr>
            <p:spPr>
              <a:xfrm>
                <a:off x="617220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51528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5410080" y="476244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6705720" y="4800600"/>
              <a:ext cx="799920" cy="457200"/>
              <a:chOff x="6705720" y="4800600"/>
              <a:chExt cx="799920" cy="457200"/>
            </a:xfrm>
          </p:grpSpPr>
          <p:sp>
            <p:nvSpPr>
              <p:cNvPr id="724" name=""/>
              <p:cNvSpPr/>
              <p:nvPr/>
            </p:nvSpPr>
            <p:spPr>
              <a:xfrm>
                <a:off x="6705720" y="480060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238880" y="480060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972480" y="510516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048440" y="51814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24760" y="525780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1295280" y="476244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ός μεταβλητώ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x, y,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signed long ab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ικ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x =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x, y = 0, z = 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r = 1.8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signed long abc = 4200000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λίστα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node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node_tag * 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node_tag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Node, * LinkedLi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ενή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3276720" y="4876920"/>
            <a:ext cx="1981080" cy="1295280"/>
            <a:chOff x="3276720" y="4876920"/>
            <a:chExt cx="1981080" cy="1295280"/>
          </a:xfrm>
        </p:grpSpPr>
        <p:sp>
          <p:nvSpPr>
            <p:cNvPr id="733" name=""/>
            <p:cNvSpPr/>
            <p:nvPr/>
          </p:nvSpPr>
          <p:spPr>
            <a:xfrm>
              <a:off x="3733920" y="4876920"/>
              <a:ext cx="152388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276720" y="5410080"/>
              <a:ext cx="13716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648320" y="5410080"/>
              <a:ext cx="0" cy="304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381560" y="571500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457880" y="579096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34200" y="586728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7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0" dur="5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3" dur="5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6" dur="500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9" dur="500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2" dur="500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7" dur="500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σθήκ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φαση πού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θα προστεθε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ημιουργί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έ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τιγραφ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ληροφορία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νδεση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έ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3581280" y="2743200"/>
            <a:ext cx="5181480" cy="1447920"/>
            <a:chOff x="3581280" y="2743200"/>
            <a:chExt cx="5181480" cy="1447920"/>
          </a:xfrm>
        </p:grpSpPr>
        <p:sp>
          <p:nvSpPr>
            <p:cNvPr id="742" name=""/>
            <p:cNvSpPr/>
            <p:nvPr/>
          </p:nvSpPr>
          <p:spPr>
            <a:xfrm>
              <a:off x="4038480" y="2743200"/>
              <a:ext cx="472428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7200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91472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86728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21036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105160" y="339120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400800" y="339120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6256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50564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96080" y="3429000"/>
              <a:ext cx="5335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22960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962840" y="373392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039160" y="381024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11512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81280" y="339120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3581280" y="2743200"/>
            <a:ext cx="5181480" cy="2057400"/>
            <a:chOff x="3581280" y="2743200"/>
            <a:chExt cx="5181480" cy="2057400"/>
          </a:xfrm>
        </p:grpSpPr>
        <p:sp>
          <p:nvSpPr>
            <p:cNvPr id="758" name=""/>
            <p:cNvSpPr/>
            <p:nvPr/>
          </p:nvSpPr>
          <p:spPr>
            <a:xfrm>
              <a:off x="4038480" y="2743200"/>
              <a:ext cx="4724280" cy="205740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4572000" y="3200400"/>
              <a:ext cx="685800" cy="381240"/>
              <a:chOff x="4572000" y="3200400"/>
              <a:chExt cx="685800" cy="381240"/>
            </a:xfrm>
          </p:grpSpPr>
          <p:sp>
            <p:nvSpPr>
              <p:cNvPr id="760" name=""/>
              <p:cNvSpPr/>
              <p:nvPr/>
            </p:nvSpPr>
            <p:spPr>
              <a:xfrm>
                <a:off x="4572000" y="320040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915080" y="320040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5867280" y="3200400"/>
              <a:ext cx="685800" cy="381240"/>
              <a:chOff x="5867280" y="3200400"/>
              <a:chExt cx="685800" cy="381240"/>
            </a:xfrm>
          </p:grpSpPr>
          <p:sp>
            <p:nvSpPr>
              <p:cNvPr id="763" name=""/>
              <p:cNvSpPr/>
              <p:nvPr/>
            </p:nvSpPr>
            <p:spPr>
              <a:xfrm>
                <a:off x="5867280" y="320040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210360" y="320040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5105160" y="339120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00800" y="339120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7162560" y="3200400"/>
              <a:ext cx="685800" cy="381240"/>
              <a:chOff x="7162560" y="3200400"/>
              <a:chExt cx="685800" cy="381240"/>
            </a:xfrm>
          </p:grpSpPr>
          <p:sp>
            <p:nvSpPr>
              <p:cNvPr id="768" name=""/>
              <p:cNvSpPr/>
              <p:nvPr/>
            </p:nvSpPr>
            <p:spPr>
              <a:xfrm>
                <a:off x="7162560" y="320040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505640" y="320040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7696080" y="3429000"/>
              <a:ext cx="799920" cy="457200"/>
              <a:chOff x="7696080" y="3429000"/>
              <a:chExt cx="799920" cy="457200"/>
            </a:xfrm>
          </p:grpSpPr>
          <p:sp>
            <p:nvSpPr>
              <p:cNvPr id="771" name=""/>
              <p:cNvSpPr/>
              <p:nvPr/>
            </p:nvSpPr>
            <p:spPr>
              <a:xfrm>
                <a:off x="7696080" y="342900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29240" y="342900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962840" y="373356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038800" y="38098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115120" y="388620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3581280" y="339120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476760" y="4038840"/>
              <a:ext cx="685800" cy="380880"/>
              <a:chOff x="6476760" y="4038840"/>
              <a:chExt cx="685800" cy="380880"/>
            </a:xfrm>
          </p:grpSpPr>
          <p:sp>
            <p:nvSpPr>
              <p:cNvPr id="778" name=""/>
              <p:cNvSpPr/>
              <p:nvPr/>
            </p:nvSpPr>
            <p:spPr>
              <a:xfrm>
                <a:off x="6476760" y="403884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819840" y="403884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0" name=""/>
          <p:cNvSpPr/>
          <p:nvPr/>
        </p:nvSpPr>
        <p:spPr>
          <a:xfrm>
            <a:off x="6500520" y="39625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581280" y="2743200"/>
            <a:ext cx="5181480" cy="2057400"/>
            <a:chOff x="3581280" y="2743200"/>
            <a:chExt cx="5181480" cy="2057400"/>
          </a:xfrm>
        </p:grpSpPr>
        <p:sp>
          <p:nvSpPr>
            <p:cNvPr id="782" name=""/>
            <p:cNvSpPr/>
            <p:nvPr/>
          </p:nvSpPr>
          <p:spPr>
            <a:xfrm>
              <a:off x="4038480" y="2743200"/>
              <a:ext cx="4724280" cy="205740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4572000" y="3200400"/>
              <a:ext cx="685800" cy="380880"/>
              <a:chOff x="4572000" y="3200400"/>
              <a:chExt cx="685800" cy="380880"/>
            </a:xfrm>
          </p:grpSpPr>
          <p:sp>
            <p:nvSpPr>
              <p:cNvPr id="784" name=""/>
              <p:cNvSpPr/>
              <p:nvPr/>
            </p:nvSpPr>
            <p:spPr>
              <a:xfrm>
                <a:off x="4572000" y="32004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915080" y="32004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5867280" y="3200400"/>
              <a:ext cx="685800" cy="380880"/>
              <a:chOff x="5867280" y="3200400"/>
              <a:chExt cx="685800" cy="380880"/>
            </a:xfrm>
          </p:grpSpPr>
          <p:sp>
            <p:nvSpPr>
              <p:cNvPr id="787" name=""/>
              <p:cNvSpPr/>
              <p:nvPr/>
            </p:nvSpPr>
            <p:spPr>
              <a:xfrm>
                <a:off x="5867280" y="32004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210360" y="32004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>
              <a:off x="5105160" y="339084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400800" y="3390840"/>
              <a:ext cx="228600" cy="5713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7162560" y="3200400"/>
              <a:ext cx="685800" cy="380880"/>
              <a:chOff x="7162560" y="3200400"/>
              <a:chExt cx="685800" cy="380880"/>
            </a:xfrm>
          </p:grpSpPr>
          <p:sp>
            <p:nvSpPr>
              <p:cNvPr id="792" name=""/>
              <p:cNvSpPr/>
              <p:nvPr/>
            </p:nvSpPr>
            <p:spPr>
              <a:xfrm>
                <a:off x="7162560" y="32004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505640" y="32004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7696080" y="3429000"/>
              <a:ext cx="799920" cy="457200"/>
              <a:chOff x="7696080" y="3429000"/>
              <a:chExt cx="799920" cy="457200"/>
            </a:xfrm>
          </p:grpSpPr>
          <p:sp>
            <p:nvSpPr>
              <p:cNvPr id="795" name=""/>
              <p:cNvSpPr/>
              <p:nvPr/>
            </p:nvSpPr>
            <p:spPr>
              <a:xfrm>
                <a:off x="7696080" y="342900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229240" y="342900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962840" y="373356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038800" y="38098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115120" y="388620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>
              <a:off x="3581280" y="339084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6476760" y="4038480"/>
              <a:ext cx="685800" cy="380880"/>
              <a:chOff x="6476760" y="4038480"/>
              <a:chExt cx="685800" cy="380880"/>
            </a:xfrm>
          </p:grpSpPr>
          <p:sp>
            <p:nvSpPr>
              <p:cNvPr id="802" name=""/>
              <p:cNvSpPr/>
              <p:nvPr/>
            </p:nvSpPr>
            <p:spPr>
              <a:xfrm>
                <a:off x="6476760" y="403848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819840" y="403848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>
              <a:off x="6500520" y="396216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010280" y="3580920"/>
              <a:ext cx="30492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6858000" y="2057400"/>
            <a:ext cx="885240" cy="1143000"/>
            <a:chOff x="6858000" y="2057400"/>
            <a:chExt cx="885240" cy="1143000"/>
          </a:xfrm>
        </p:grpSpPr>
        <p:sp>
          <p:nvSpPr>
            <p:cNvPr id="807" name=""/>
            <p:cNvSpPr/>
            <p:nvPr/>
          </p:nvSpPr>
          <p:spPr>
            <a:xfrm flipH="1">
              <a:off x="6858000" y="2514600"/>
              <a:ext cx="304560" cy="68580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012440" y="2057400"/>
              <a:ext cx="73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333333"/>
                  </a:solidFill>
                  <a:latin typeface="Times New Roman"/>
                </a:rPr>
                <a:t>εδώ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φαση ποιο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οιχείο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θα αφαιρεθε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αστροφ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νδεση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πόλοιπων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μβ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3581280" y="2743200"/>
            <a:ext cx="5181480" cy="1447920"/>
            <a:chOff x="3581280" y="2743200"/>
            <a:chExt cx="5181480" cy="1447920"/>
          </a:xfrm>
        </p:grpSpPr>
        <p:sp>
          <p:nvSpPr>
            <p:cNvPr id="812" name=""/>
            <p:cNvSpPr/>
            <p:nvPr/>
          </p:nvSpPr>
          <p:spPr>
            <a:xfrm>
              <a:off x="4038480" y="2743200"/>
              <a:ext cx="472428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57200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1472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86728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21036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105160" y="339120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400800" y="339120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16256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50564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696080" y="3429000"/>
              <a:ext cx="5335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22960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962840" y="373392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039160" y="381024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11512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339120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3581280" y="2743200"/>
            <a:ext cx="5181840" cy="1447920"/>
            <a:chOff x="3581280" y="2743200"/>
            <a:chExt cx="5181840" cy="1447920"/>
          </a:xfrm>
        </p:grpSpPr>
        <p:sp>
          <p:nvSpPr>
            <p:cNvPr id="828" name=""/>
            <p:cNvSpPr/>
            <p:nvPr/>
          </p:nvSpPr>
          <p:spPr>
            <a:xfrm>
              <a:off x="4038480" y="2743200"/>
              <a:ext cx="472464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572000" y="3200400"/>
              <a:ext cx="685800" cy="380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915080" y="320040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105520" y="339084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162920" y="3200400"/>
              <a:ext cx="685800" cy="380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505640" y="320040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696080" y="3429000"/>
              <a:ext cx="5335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22960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62840" y="373392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039160" y="380988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11548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581280" y="339084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3581280" y="2743200"/>
            <a:ext cx="5181480" cy="1447920"/>
            <a:chOff x="3581280" y="2743200"/>
            <a:chExt cx="5181480" cy="1447920"/>
          </a:xfrm>
        </p:grpSpPr>
        <p:sp>
          <p:nvSpPr>
            <p:cNvPr id="841" name=""/>
            <p:cNvSpPr/>
            <p:nvPr/>
          </p:nvSpPr>
          <p:spPr>
            <a:xfrm>
              <a:off x="4038480" y="2743200"/>
              <a:ext cx="472428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57164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91472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86080" y="3409920"/>
              <a:ext cx="20574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16256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50564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696080" y="3429000"/>
              <a:ext cx="5331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22924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962840" y="3733920"/>
              <a:ext cx="53316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038800" y="3810240"/>
              <a:ext cx="38124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11512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581280" y="3391200"/>
              <a:ext cx="9903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324480" y="2057400"/>
            <a:ext cx="1017360" cy="1143000"/>
            <a:chOff x="6324480" y="2057400"/>
            <a:chExt cx="1017360" cy="1143000"/>
          </a:xfrm>
        </p:grpSpPr>
        <p:sp>
          <p:nvSpPr>
            <p:cNvPr id="854" name=""/>
            <p:cNvSpPr/>
            <p:nvPr/>
          </p:nvSpPr>
          <p:spPr>
            <a:xfrm flipH="1">
              <a:off x="6324480" y="2514600"/>
              <a:ext cx="304560" cy="68580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478200" y="205740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333333"/>
                  </a:solidFill>
                  <a:latin typeface="Times New Roman"/>
                </a:rPr>
                <a:t>αυτό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υ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First In First Out (FIFO)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,τι μπαίνει πρώτο, βγαίνει πρώτ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υρά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ΑΤΔ: </a:t>
            </a:r>
            <a:r>
              <a:rPr b="1" sz="2800" spc="-1" strike="noStrike">
                <a:solidFill>
                  <a:srgbClr val="660066"/>
                </a:solidFill>
                <a:latin typeface="Courier New"/>
              </a:rPr>
              <a:t>que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queue queue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queueInsert (queue * qp, int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queueRemove (queue * q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queueHead (queue q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8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3" dur="500"/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6" dur="500"/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9" dur="500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2" dur="500"/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5" dur="500"/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8" dur="5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υ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με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1295280" y="2514600"/>
            <a:ext cx="6019920" cy="2286000"/>
            <a:chOff x="1295280" y="2514600"/>
            <a:chExt cx="6019920" cy="2286000"/>
          </a:xfrm>
        </p:grpSpPr>
        <p:sp>
          <p:nvSpPr>
            <p:cNvPr id="861" name=""/>
            <p:cNvSpPr/>
            <p:nvPr/>
          </p:nvSpPr>
          <p:spPr>
            <a:xfrm>
              <a:off x="2133720" y="2514600"/>
              <a:ext cx="236196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295280" y="3505320"/>
              <a:ext cx="601992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1828800" y="3962520"/>
              <a:ext cx="685800" cy="380880"/>
              <a:chOff x="1828800" y="3962520"/>
              <a:chExt cx="685800" cy="380880"/>
            </a:xfrm>
          </p:grpSpPr>
          <p:sp>
            <p:nvSpPr>
              <p:cNvPr id="864" name=""/>
              <p:cNvSpPr/>
              <p:nvPr/>
            </p:nvSpPr>
            <p:spPr>
              <a:xfrm>
                <a:off x="18288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1718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3124080" y="3962520"/>
              <a:ext cx="685800" cy="380880"/>
              <a:chOff x="3124080" y="3962520"/>
              <a:chExt cx="685800" cy="380880"/>
            </a:xfrm>
          </p:grpSpPr>
          <p:sp>
            <p:nvSpPr>
              <p:cNvPr id="867" name=""/>
              <p:cNvSpPr/>
              <p:nvPr/>
            </p:nvSpPr>
            <p:spPr>
              <a:xfrm>
                <a:off x="312408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46716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2362320" y="41529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4419720" y="3962520"/>
              <a:ext cx="685800" cy="380880"/>
              <a:chOff x="4419720" y="3962520"/>
              <a:chExt cx="685800" cy="380880"/>
            </a:xfrm>
          </p:grpSpPr>
          <p:sp>
            <p:nvSpPr>
              <p:cNvPr id="871" name=""/>
              <p:cNvSpPr/>
              <p:nvPr/>
            </p:nvSpPr>
            <p:spPr>
              <a:xfrm>
                <a:off x="441972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76280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365760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874" name=""/>
            <p:cNvGrpSpPr/>
            <p:nvPr/>
          </p:nvGrpSpPr>
          <p:grpSpPr>
            <a:xfrm>
              <a:off x="5715000" y="3962520"/>
              <a:ext cx="685800" cy="380880"/>
              <a:chOff x="5715000" y="3962520"/>
              <a:chExt cx="685800" cy="380880"/>
            </a:xfrm>
          </p:grpSpPr>
          <p:sp>
            <p:nvSpPr>
              <p:cNvPr id="875" name=""/>
              <p:cNvSpPr/>
              <p:nvPr/>
            </p:nvSpPr>
            <p:spPr>
              <a:xfrm>
                <a:off x="57150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0580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495288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6248520" y="4191120"/>
              <a:ext cx="799920" cy="457200"/>
              <a:chOff x="6248520" y="4191120"/>
              <a:chExt cx="799920" cy="457200"/>
            </a:xfrm>
          </p:grpSpPr>
          <p:sp>
            <p:nvSpPr>
              <p:cNvPr id="879" name=""/>
              <p:cNvSpPr/>
              <p:nvPr/>
            </p:nvSpPr>
            <p:spPr>
              <a:xfrm>
                <a:off x="6248520" y="419112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781680" y="419112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515280" y="449568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591240" y="457200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667560" y="464832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 flipH="1">
              <a:off x="1980720" y="2971800"/>
              <a:ext cx="83844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2971800"/>
              <a:ext cx="190476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56480" y="2590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506400" y="259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a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με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list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list_tag * 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ListN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la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queu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2" dur="5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5" dur="500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8" dur="500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1" dur="500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4" dur="500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9" dur="500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2" dur="500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5" dur="500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8" dur="500"/>
                                        <p:tgtEl>
                                          <p:spTgt spid="8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1" dur="500"/>
                                        <p:tgtEl>
                                          <p:spTgt spid="8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ουρά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queue queueEmpty = { NULL, NULL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queueInsert (queue * q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 = (ListNode *) 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8" dur="5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1" dur="500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6" dur="500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9" dur="500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2" dur="500"/>
                                        <p:tgtEl>
                                          <p:spTgt spid="8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5" dur="500"/>
                                        <p:tgtEl>
                                          <p:spTgt spid="8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8" dur="500"/>
                                        <p:tgtEl>
                                          <p:spTgt spid="8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1" dur="500"/>
                                        <p:tgtEl>
                                          <p:spTgt spid="8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4" dur="500"/>
                                        <p:tgtEl>
                                          <p:spTgt spid="8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7" dur="500"/>
                                        <p:tgtEl>
                                          <p:spTgt spid="8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nex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qp-&gt;las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p-&gt;first = q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p-&gt;last-&gt;nex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4" dur="500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7" dur="500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0" dur="500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3" dur="500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6" dur="500"/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9" dur="500"/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2" dur="500"/>
                                        <p:tgtEl>
                                          <p:spTgt spid="8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5" dur="500"/>
                                        <p:tgtEl>
                                          <p:spTgt spid="8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8" dur="500"/>
                                        <p:tgtEl>
                                          <p:spTgt spid="8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1" dur="500"/>
                                        <p:tgtEl>
                                          <p:spTgt spid="8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queueRemove (queue * q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q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Nothing to remove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" from an empty queue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 = q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sult = qp-&gt;first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p-&gt;first = qp-&gt;first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qp-&gt;firs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p-&gt;las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3-03-30T20:52:45Z</dcterms:modified>
  <cp:revision>63</cp:revision>
  <dc:subject>Προγραμματιστικές Τεχνικές</dc:subject>
  <dc:title>Διαφάνειες παρουσίασης</dc:title>
</cp:coreProperties>
</file>