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B539F-9607-4A33-8D06-095794D5A854}" type="slidenum">
              <a:rPr b="0" lang="en-GB" sz="1400" spc="-1" strike="noStrike">
                <a:solidFill>
                  <a:srgbClr val="808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808000"/>
                </a:solidFill>
                <a:latin typeface="Times New Roman"/>
              </a:rPr>
              <a:t>Πέτρος Στεφανέας</a:t>
            </a:r>
            <a:r>
              <a:rPr b="0" lang="el-GR" sz="1400" spc="-1" strike="noStrike">
                <a:solidFill>
                  <a:srgbClr val="808000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808000"/>
                </a:solidFill>
                <a:latin typeface="Times New Roman"/>
              </a:rPr>
              <a:t>Προγραμματιστικές Τεχνικέ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80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808000"/>
                </a:solidFill>
                <a:latin typeface="Times New Roman"/>
              </a:rPr>
              <a:t>ΓΡΑΦΟΙ </a:t>
            </a: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(GRAPHS)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781280" y="457200"/>
            <a:ext cx="559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ΠΡΟΓΡΑΜΜΑΤΙΣΤΙΚΕΣ ΤΕΧΝΙΚΕ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522440"/>
            <a:ext cx="868680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00240" indent="-2100240">
              <a:tabLst>
                <a:tab algn="l" pos="0"/>
                <a:tab algn="l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Διδάσκοντες: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Γιάννης Μαΐστρος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ahoma"/>
              </a:rPr>
              <a:t>(maistros@cs.ntua.gr)</a:t>
            </a:r>
            <a:br>
              <a:rPr sz="2800"/>
            </a:b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Νίκος Παπασπύρου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ahoma"/>
              </a:rPr>
              <a:t>(nickie@softlab.ntua.gr)</a:t>
            </a:r>
            <a:br>
              <a:rPr sz="2400"/>
            </a:b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Βασίλης Βεσκούκης</a:t>
            </a:r>
            <a:r>
              <a:rPr b="0" lang="el-GR" sz="24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ahoma"/>
              </a:rPr>
              <a:t>(</a:t>
            </a:r>
            <a:r>
              <a:rPr b="0" sz="2400" spc="-1" strike="noStrike">
                <a:solidFill>
                  <a:srgbClr val="660066"/>
                </a:solidFill>
                <a:latin typeface="Tahoma"/>
              </a:rPr>
              <a:t>bxb@cs.ntua.gr</a:t>
            </a:r>
            <a:r>
              <a:rPr b="0" lang="el-GR" sz="2400" spc="-1" strike="noStrike">
                <a:solidFill>
                  <a:srgbClr val="660066"/>
                </a:solidFill>
                <a:latin typeface="Tahoma"/>
              </a:rPr>
              <a:t>)</a:t>
            </a:r>
            <a:br>
              <a:rPr sz="2400"/>
            </a:b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Πέτρος Στεφανέας</a:t>
            </a:r>
            <a:r>
              <a:rPr b="0" lang="el-GR" sz="24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ahoma"/>
              </a:rPr>
              <a:t>(</a:t>
            </a:r>
            <a:r>
              <a:rPr b="0" sz="2400" spc="-1" strike="noStrike">
                <a:solidFill>
                  <a:srgbClr val="660066"/>
                </a:solidFill>
                <a:latin typeface="Tahoma"/>
              </a:rPr>
              <a:t>petros@mail.ntua.gr</a:t>
            </a:r>
            <a:r>
              <a:rPr b="0" lang="el-GR" sz="24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20280" y="914400"/>
            <a:ext cx="791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http://www.softlab.ntua.gr/~nickie/Courses/progtech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20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808000"/>
                </a:solidFill>
                <a:latin typeface="Times New Roman"/>
              </a:rPr>
              <a:t>ΛΙΣΤΕΣ ΔΙΠΛΑΝΩΝ ΚΟΡΥΦΩΝ (1)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typedef struct node_tag {</a:t>
            </a:r>
            <a:br>
              <a:rPr sz="2400"/>
            </a:b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int vertex;</a:t>
            </a:r>
            <a:br>
              <a:rPr sz="2400"/>
            </a:b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struct node_tag * lin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} * graph[N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void join (graph * g, int node1, int node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{  /* Assume: the graph is directed */</a:t>
            </a:r>
            <a:br>
              <a:rPr sz="2400"/>
            </a:b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 struct node_tag * temp = (*g)[node1];</a:t>
            </a:r>
            <a:br>
              <a:rPr sz="2400"/>
            </a:b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 struct node_tag * new =</a:t>
            </a:r>
            <a:br>
              <a:rPr sz="2400"/>
            </a:b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   (struct node_tag *)</a:t>
            </a:r>
            <a:br>
              <a:rPr sz="2400"/>
            </a:b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      malloc(sizeof(struct node_tag)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if (new == NULL) {</a:t>
            </a:r>
            <a:br>
              <a:rPr sz="2400"/>
            </a:b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    fprintf(stderr, "Out of memory\n");</a:t>
            </a:r>
            <a:br>
              <a:rPr sz="2400"/>
            </a:b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    exit(1);</a:t>
            </a:r>
            <a:br>
              <a:rPr sz="2400"/>
            </a:b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 }</a:t>
            </a:r>
            <a:br>
              <a:rPr sz="2400"/>
            </a:b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 new-&gt;link = temp; temp = new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20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808000"/>
                </a:solidFill>
                <a:latin typeface="Times New Roman"/>
              </a:rPr>
              <a:t>ΛΙΣΤΕΣ ΔΙΠΛΑΝΩΝ ΚΟΡΥΦΩΝ (2)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ourier New"/>
              </a:rPr>
              <a:t>void remove (graph * g, int node1, int node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400"/>
            </a:br>
            <a:r>
              <a:rPr b="1" lang="el-GR" sz="2400" spc="-1" strike="noStrike">
                <a:solidFill>
                  <a:srgbClr val="000000"/>
                </a:solidFill>
                <a:latin typeface="Courier New"/>
              </a:rPr>
              <a:t> (*g)[node1][node2]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808000"/>
                </a:solidFill>
                <a:latin typeface="Times New Roman"/>
              </a:rPr>
              <a:t>ΜΕΘΟΔΟΙ ΔΙΑΣΧΙΣΗΣ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ΑΝΑΖΗΤΗΣΗ ΜΕ ΠΡΟΤΕΡΑΙΟΤΗΤΑ ΒΑΘΟΥ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ΑΝΑΖΗΤΗΣΗ ΜΕ ΠΡΟΤΕΡΑΙΟΤΗΤΑ ΠΛΑΤΟΥ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808000"/>
                </a:solidFill>
                <a:latin typeface="Times New Roman"/>
              </a:rPr>
              <a:t>ΑΝΑΖΗΤΗΣΗ ΜΕ ΠΡΟΤΕΡΑΙΟΤΗΤΑ ΒΑΘΟΥΣ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1752480"/>
            <a:ext cx="380880" cy="30492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2743200"/>
            <a:ext cx="381240" cy="30492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3200400" y="2819520"/>
            <a:ext cx="380880" cy="38088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3962520"/>
            <a:ext cx="381240" cy="30456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3962520"/>
            <a:ext cx="380880" cy="30456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962520"/>
            <a:ext cx="380880" cy="30456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4038480"/>
            <a:ext cx="380880" cy="30492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19320" y="5105520"/>
            <a:ext cx="380880" cy="30456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523520" y="205740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838080" y="3048120"/>
            <a:ext cx="53352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00200" y="2971800"/>
            <a:ext cx="53352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4267080"/>
            <a:ext cx="4572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523880" y="4267080"/>
            <a:ext cx="4572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600200" y="4343400"/>
            <a:ext cx="12952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14600" y="1981080"/>
            <a:ext cx="8380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048120" y="3200400"/>
            <a:ext cx="30456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81280" y="3124080"/>
            <a:ext cx="60984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599840" y="4267080"/>
            <a:ext cx="243828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43400" y="17524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l-G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l-G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 4 </a:t>
            </a:r>
            <a:r>
              <a:rPr b="1" lang="el-G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 8 </a:t>
            </a:r>
            <a:r>
              <a:rPr b="1" lang="el-G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 5 </a:t>
            </a:r>
            <a:r>
              <a:rPr b="1" lang="el-G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 6 </a:t>
            </a:r>
            <a:r>
              <a:rPr b="1" lang="el-G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 3 </a:t>
            </a:r>
            <a:r>
              <a:rPr b="1" lang="el-G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808000"/>
                </a:solidFill>
                <a:latin typeface="Times New Roman"/>
              </a:rPr>
              <a:t>ΑΝΑΖΗΤΗΣΗ ΜΕ ΠΡΟΤΕΡΑΙΟΤΗΤΑ ΒΑΘΟΥΣ (1)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typedef struct node_tag {</a:t>
            </a:r>
            <a:br>
              <a:rPr sz="2400"/>
            </a:b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int vertex;</a:t>
            </a:r>
            <a:br>
              <a:rPr sz="2400"/>
            </a:b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struct node_tag * lin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} * graph[N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void traverseDFS (graph 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400"/>
            </a:b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bool visited[N];</a:t>
            </a:r>
            <a:br>
              <a:rPr sz="2400"/>
            </a:b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for (i=0; i&lt;N; i++)</a:t>
            </a:r>
            <a:br>
              <a:rPr sz="2400"/>
            </a:b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  visited[i] = false;</a:t>
            </a:r>
            <a:br>
              <a:rPr sz="2400"/>
            </a:b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traverseDFS_aux(g, visited, 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808000"/>
                </a:solidFill>
                <a:latin typeface="Times New Roman"/>
              </a:rPr>
              <a:t>ΑΝΑΖΗΤΗΣΗ ΜΕ ΠΡΟΤΕΡΑΙΟΤΗΤΑ ΒΑΘΟΥΣ (2)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void traverseDFS_aux (graph g,</a:t>
            </a:r>
            <a:br>
              <a:rPr sz="2400"/>
            </a:b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                    bool visited[N],</a:t>
            </a:r>
            <a:br>
              <a:rPr sz="2400"/>
            </a:b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                    int 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400"/>
            </a:b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struct node_tag * adj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printf("Vertex %d\n", current);</a:t>
            </a:r>
            <a:br>
              <a:rPr sz="2400"/>
            </a:b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visited[current] = true;</a:t>
            </a:r>
            <a:br>
              <a:rPr sz="2400"/>
            </a:b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for (adj = g[current]; adj != NULL;</a:t>
            </a:r>
            <a:br>
              <a:rPr sz="2400"/>
            </a:b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     adj = adj-&gt;link)</a:t>
            </a:r>
            <a:br>
              <a:rPr sz="2400"/>
            </a:b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  if (!visited[adj-&gt;vertex])</a:t>
            </a:r>
            <a:br>
              <a:rPr sz="2400"/>
            </a:b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     traverseDFS_aux(g, visited,</a:t>
            </a:r>
            <a:br>
              <a:rPr sz="2400"/>
            </a:b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                     adj-&gt;verte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85800" y="60948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808000"/>
                </a:solidFill>
                <a:latin typeface="Times New Roman"/>
              </a:rPr>
              <a:t>ΑΝΑΖΗΤΗΣΗ ΜΕ ΠΡΟΤΕΡΑΙΟΤΗΤΑ ΠΛΑΤΟΥ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33720" y="1752480"/>
            <a:ext cx="380880" cy="30492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95280" y="2743200"/>
            <a:ext cx="381240" cy="30492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200400" y="2819520"/>
            <a:ext cx="380880" cy="38088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3962520"/>
            <a:ext cx="381240" cy="30456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05120" y="3962520"/>
            <a:ext cx="380880" cy="30456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3962520"/>
            <a:ext cx="380880" cy="30456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43200" y="4038480"/>
            <a:ext cx="380880" cy="30492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19320" y="5105520"/>
            <a:ext cx="380880" cy="30456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523520" y="205740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838080" y="3048120"/>
            <a:ext cx="53352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2971800"/>
            <a:ext cx="53352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4267080"/>
            <a:ext cx="4572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1523880" y="4267080"/>
            <a:ext cx="4572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1600200" y="4343400"/>
            <a:ext cx="12952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14600" y="1981080"/>
            <a:ext cx="8380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048120" y="3200400"/>
            <a:ext cx="30456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81280" y="3124080"/>
            <a:ext cx="60984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99840" y="4267080"/>
            <a:ext cx="243828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343400" y="17524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l-G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l-G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 3 </a:t>
            </a:r>
            <a:r>
              <a:rPr b="1" lang="el-G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 4 </a:t>
            </a:r>
            <a:r>
              <a:rPr b="1" lang="el-G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 5 </a:t>
            </a:r>
            <a:r>
              <a:rPr b="1" lang="el-G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 6 </a:t>
            </a:r>
            <a:r>
              <a:rPr b="1" lang="el-G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 7 </a:t>
            </a:r>
            <a:r>
              <a:rPr b="1" lang="el-G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808000"/>
                </a:solidFill>
                <a:latin typeface="Times New Roman"/>
              </a:rPr>
              <a:t>ΑΝΑΖΗΤΗΣΗ ΜΕ ΠΡΟΤΕΡΑΙΟΤΗΤΑ ΠΛΑΤΟΥΣ (1)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typedef struct node_tag {</a:t>
            </a:r>
            <a:br>
              <a:rPr sz="2400"/>
            </a:b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int vertex;</a:t>
            </a:r>
            <a:br>
              <a:rPr sz="2400"/>
            </a:b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struct node_tag * lin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} * graph[N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void traverseBFS (graph 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400"/>
            </a:b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struct node_tag * adj;</a:t>
            </a:r>
            <a:br>
              <a:rPr sz="2400"/>
            </a:b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bool visited[N];</a:t>
            </a:r>
            <a:br>
              <a:rPr sz="2400"/>
            </a:b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queue q;</a:t>
            </a:r>
            <a:br>
              <a:rPr sz="2400"/>
            </a:b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int current,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for (i=0; i&lt;N; i++)</a:t>
            </a:r>
            <a:br>
              <a:rPr sz="2400"/>
            </a:b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  visited[i]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808000"/>
                </a:solidFill>
                <a:latin typeface="Times New Roman"/>
              </a:rPr>
              <a:t>ΑΝΑΖΗΤΗΣΗ ΜΕ ΠΡΟΤΕΡΑΙΟΤΗΤΑ ΠΛΑΤΟΥΣ (2)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q = queueEmpty;</a:t>
            </a:r>
            <a:br>
              <a:rPr sz="2400"/>
            </a:b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queueInsert(&amp;q, 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while (!queueIsEmpty(q)) {</a:t>
            </a:r>
            <a:br>
              <a:rPr sz="2400"/>
            </a:b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  int current = queueRemove(&amp;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printf("Vertex %d\n", current);</a:t>
            </a:r>
            <a:br>
              <a:rPr sz="2400"/>
            </a:b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  visited[current]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for (adj = g[current]; adj != NULL;</a:t>
            </a:r>
            <a:br>
              <a:rPr sz="2400"/>
            </a:b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       adj = adj-&gt;link)</a:t>
            </a:r>
            <a:br>
              <a:rPr sz="2400"/>
            </a:b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    if (!visited[adj-&gt;vertex])</a:t>
            </a:r>
            <a:br>
              <a:rPr sz="2400"/>
            </a:b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      queueInsert(&amp;q, adj-&gt;vertex);</a:t>
            </a:r>
            <a:br>
              <a:rPr sz="2400"/>
            </a:b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808000"/>
                </a:solidFill>
                <a:latin typeface="Times New Roman"/>
              </a:rPr>
              <a:t>ΤΟ ΠΡΟΒΛΗΜΑ ΤΟΥ ΣΥΝΤΟΜΟΤΕΡΟΥ ΜΟΝΟΠΑΤΙΟΥ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23880" y="13716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1447920"/>
            <a:ext cx="83818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000000"/>
                </a:solidFill>
                <a:latin typeface="Times New Roman"/>
              </a:rPr>
              <a:t>Αν υπάρχουν πολλά μονοπάτια από την κορυφή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000000"/>
                </a:solidFill>
                <a:latin typeface="Times New Roman"/>
              </a:rPr>
              <a:t>στην κορυφή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</a:rPr>
              <a:t>ζητάμε το συντομότερο μονοπάτ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000000"/>
                </a:solidFill>
                <a:latin typeface="Times New Roman"/>
              </a:rPr>
              <a:t>ανάμεσα στις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</a:rPr>
              <a:t>κορυφές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276720"/>
            <a:ext cx="304920" cy="30456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66880" y="3276720"/>
            <a:ext cx="304920" cy="30456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19720" y="3352680"/>
            <a:ext cx="304560" cy="30492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67080" y="5257800"/>
            <a:ext cx="304920" cy="30492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90920" y="5257800"/>
            <a:ext cx="304560" cy="30492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5257800"/>
            <a:ext cx="304920" cy="30492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54100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3429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762120" y="358092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400" y="358128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2819520" y="358092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895480" y="54100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4290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819520" y="3505320"/>
            <a:ext cx="160020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819520" y="3657600"/>
            <a:ext cx="175248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914400" y="3047760"/>
            <a:ext cx="3657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29000" y="2556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62120" y="3470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0040" y="4114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52280" y="4079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78160" y="3505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11480" y="419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125880" y="4114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40280" y="4267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808000"/>
                </a:solidFill>
                <a:latin typeface="Times New Roman"/>
              </a:rPr>
              <a:t>ΟΡΙΣΜΟΙ (1)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ράφοι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 = (V,E),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όπο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σύνολο και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ιμελής σχέση πάνω στ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. Τα στοιχεία το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κορυφές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ή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κόμβοι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. Τα στοιχεία του Ε: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τόξα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ή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ακμέ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Όταν τα στοιχεία του Ε είναι διατεταγμένα ζεύγη ο γράφος ονομάζεται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κατευθυνόμενο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ύο κορυφές χ,ψ ονομάζονται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γειτονικές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εάν (χ,ψ) στοιχείο του 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βαθμός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μιας κορυφής χ είναι ίσος με τον αριθμό των γειτονικών κορυφών τη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808000"/>
                </a:solidFill>
                <a:latin typeface="Times New Roman"/>
              </a:rPr>
              <a:t>ΟΡΙΣΜΟΙ (2)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3055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ονοπάτι: ακολουθία ακμών που δεν χρησιμοποιεί την ίδια ακμή περισσότερες από μια φορέ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…,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ύκλος αν και μόνο εάν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Όταν ο γράφος δεν περιέχει κύκλο λέγεται άκυκλο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 γράφος ονομάζεται συνδεδεμένος ή συνεκτικός εάν για κάθε δύο κορυφές του υπάρχει τουλάχιστον ένα μονοπάτι ανάμεσά του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808000"/>
                </a:solidFill>
                <a:latin typeface="Times New Roman"/>
              </a:rPr>
              <a:t>ΠΑΡΑΔΕΙΓΜΑΤΑ ΓΡΑΦΩΝ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47920" y="22096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34290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33720" y="34290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46483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762120" y="2514600"/>
            <a:ext cx="76176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3809880"/>
            <a:ext cx="6858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676520" y="3809520"/>
            <a:ext cx="609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590920"/>
            <a:ext cx="5335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00200" y="25909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77120" y="21337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77120" y="35812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77120" y="51055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53080" y="2514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6781680" y="24379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705720" y="3962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19320" y="548640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77120" y="5943600"/>
            <a:ext cx="990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7120" y="60199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808000"/>
                </a:solidFill>
                <a:latin typeface="Times New Roman"/>
              </a:rPr>
              <a:t>ΛΕΙΤΟΥΡΓΙΕΣ ΓΡΑΦΩΝ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Join: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4000" spc="-1" strike="noStrike">
                <a:solidFill>
                  <a:srgbClr val="000000"/>
                </a:solidFill>
                <a:latin typeface="Times New Roman"/>
              </a:rPr>
              <a:t>σύνδεση δύο κορυφών μέσω μιας ακμή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move</a:t>
            </a:r>
            <a:r>
              <a:rPr b="1" lang="el-GR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l-GR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4000" spc="-1" strike="noStrike">
                <a:solidFill>
                  <a:srgbClr val="000000"/>
                </a:solidFill>
                <a:latin typeface="Times New Roman"/>
              </a:rPr>
              <a:t>αποσύνδεση δύο κορυφώ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djacent</a:t>
            </a:r>
            <a:r>
              <a:rPr b="1" lang="el-GR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l-GR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4000" spc="-1" strike="noStrike">
                <a:solidFill>
                  <a:srgbClr val="000000"/>
                </a:solidFill>
                <a:latin typeface="Times New Roman"/>
              </a:rPr>
              <a:t>έλεγχος εάν δύο κορυφές είναι διπλανέ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808000"/>
                </a:solidFill>
                <a:latin typeface="Times New Roman"/>
              </a:rPr>
              <a:t>ΑΝΑΠΑΡΑΣΤΑΣΕΙΣ ΓΡΑΦΩΝ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ΠΙΝΑΚΑΣ ΔΙΠΛΑΝΩΝ ΚΟΡΥΦΩΝ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(ADJACENCY MATRIX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ΛΙΣΤΑ ΔΙΠΛΑΝΩΝ ΚΟΡΥΦΩ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808000"/>
                </a:solidFill>
                <a:latin typeface="Times New Roman"/>
              </a:rPr>
              <a:t>ΠΙΝΑΚΑΣ ΔΙΠΛΑΝΩΝ ΚΟΡΥΦΩΝ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Σε κάθε γράφο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 = (V, E)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αντιστοιχεί ένα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πίνακας (διπλανών κορυφών) 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G) = [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ω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εξής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= 1 αν και μόνο εάν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ανήκε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στο Ε και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= 0, διαφορετικά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808000"/>
                </a:solidFill>
                <a:latin typeface="Times New Roman"/>
              </a:rPr>
              <a:t>ΠΙΝΑΚΕΣ ΔΙΠΛΑΝΩΝ ΚΟΡΥΦΩΝ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95280" y="2743200"/>
            <a:ext cx="2057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0   1   1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1   0   1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1   1   0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1   1   1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28195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8195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556272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510552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62720" y="30481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91320" y="3124080"/>
            <a:ext cx="16761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 1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 0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 0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934320" y="30481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51814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808000"/>
                </a:solidFill>
                <a:latin typeface="Times New Roman"/>
              </a:rPr>
              <a:t>ΠΙΝΑΚΑΣ ΔΙΠΛΑΝΩΝ ΚΟΡΥΦΩΝ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019240"/>
            <a:ext cx="7848720" cy="40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typedef bool graph[N][N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void join (graph * g,</a:t>
            </a:r>
            <a:br>
              <a:rPr sz="2400"/>
            </a:b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           int node1, int node2)</a:t>
            </a:r>
            <a:br>
              <a:rPr sz="2400"/>
            </a:b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400"/>
            </a:b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   (*g)[node1][node2] = true;</a:t>
            </a:r>
            <a:br>
              <a:rPr sz="2400"/>
            </a:b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void remove (graph * g,</a:t>
            </a:r>
            <a:br>
              <a:rPr sz="2400"/>
            </a:b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             int node1, int node2)</a:t>
            </a:r>
            <a:br>
              <a:rPr sz="2400"/>
            </a:b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400"/>
            </a:b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   (*g)[node1][node2] = false;</a:t>
            </a:r>
            <a:br>
              <a:rPr sz="2400"/>
            </a:b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9T06:21:28Z</dcterms:created>
  <dc:creator>Math</dc:creator>
  <dc:description/>
  <dc:language>en-US</dc:language>
  <cp:lastModifiedBy>Nikolaos S. Papaspyrou</cp:lastModifiedBy>
  <dcterms:modified xsi:type="dcterms:W3CDTF">2003-06-16T14:48:08Z</dcterms:modified>
  <cp:revision>63</cp:revision>
  <dc:subject/>
  <dc:title>ΓΡΑΦΟΙ (GRAPHS)</dc:title>
</cp:coreProperties>
</file>