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50F1-7C09-423E-8631-0327FB293FD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DB30-0619-43AE-96D5-F897056E4EB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8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ένδρα γενικής μορφή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άσχιση δυαδικών δένδρ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ριθμητικές εκφρ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 αναζήτησ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ι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μετά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οτίμ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24 2 / * 9 3 -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49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arch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ά δένδρα με τι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κάτω ιδιότητε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ια κάθε κόμβο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αριστερ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ικρό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δεξι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γαλύ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638680" y="1905120"/>
            <a:ext cx="3124440" cy="4419360"/>
            <a:chOff x="5638680" y="1905120"/>
            <a:chExt cx="3124440" cy="4419360"/>
          </a:xfrm>
        </p:grpSpPr>
        <p:sp>
          <p:nvSpPr>
            <p:cNvPr id="275" name=""/>
            <p:cNvSpPr/>
            <p:nvPr/>
          </p:nvSpPr>
          <p:spPr>
            <a:xfrm>
              <a:off x="5638680" y="2262240"/>
              <a:ext cx="3124440" cy="406224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277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324480" y="3900600"/>
              <a:ext cx="381240" cy="285480"/>
              <a:chOff x="6324480" y="3900600"/>
              <a:chExt cx="381240" cy="28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5149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244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788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335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867280" y="3900600"/>
              <a:ext cx="381240" cy="285480"/>
              <a:chOff x="5867280" y="3900600"/>
              <a:chExt cx="381240" cy="285480"/>
            </a:xfrm>
          </p:grpSpPr>
          <p:sp>
            <p:nvSpPr>
              <p:cNvPr id="286" name=""/>
              <p:cNvSpPr/>
              <p:nvPr/>
            </p:nvSpPr>
            <p:spPr>
              <a:xfrm>
                <a:off x="60577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72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9216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763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848720" y="5326200"/>
              <a:ext cx="685440" cy="571320"/>
              <a:chOff x="7848720" y="5326200"/>
              <a:chExt cx="685440" cy="571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7905600" y="5268960"/>
                <a:ext cx="57132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7848720" y="561204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91440" y="5612040"/>
                <a:ext cx="0" cy="285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8229600" y="5826240"/>
              <a:ext cx="380880" cy="284040"/>
              <a:chOff x="8229600" y="5826240"/>
              <a:chExt cx="380880" cy="284040"/>
            </a:xfrm>
          </p:grpSpPr>
          <p:sp>
            <p:nvSpPr>
              <p:cNvPr id="295" name=""/>
              <p:cNvSpPr/>
              <p:nvPr/>
            </p:nvSpPr>
            <p:spPr>
              <a:xfrm>
                <a:off x="84200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296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7772400" y="5826240"/>
              <a:ext cx="380880" cy="284040"/>
              <a:chOff x="7772400" y="5826240"/>
              <a:chExt cx="380880" cy="284040"/>
            </a:xfrm>
          </p:grpSpPr>
          <p:sp>
            <p:nvSpPr>
              <p:cNvPr id="300" name=""/>
              <p:cNvSpPr/>
              <p:nvPr/>
            </p:nvSpPr>
            <p:spPr>
              <a:xfrm>
                <a:off x="79628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724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477120" y="4400640"/>
              <a:ext cx="685440" cy="569880"/>
              <a:chOff x="6477120" y="4400640"/>
              <a:chExt cx="685440" cy="569880"/>
            </a:xfrm>
          </p:grpSpPr>
          <p:sp>
            <p:nvSpPr>
              <p:cNvPr id="305" name=""/>
              <p:cNvSpPr/>
              <p:nvPr/>
            </p:nvSpPr>
            <p:spPr>
              <a:xfrm rot="5400000">
                <a:off x="653472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47712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1984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858000" y="4898880"/>
              <a:ext cx="380880" cy="285840"/>
              <a:chOff x="6858000" y="4898880"/>
              <a:chExt cx="380880" cy="285840"/>
            </a:xfrm>
          </p:grpSpPr>
          <p:sp>
            <p:nvSpPr>
              <p:cNvPr id="309" name=""/>
              <p:cNvSpPr/>
              <p:nvPr/>
            </p:nvSpPr>
            <p:spPr>
              <a:xfrm>
                <a:off x="70484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80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123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667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400800" y="4898880"/>
              <a:ext cx="380880" cy="285840"/>
              <a:chOff x="6400800" y="4898880"/>
              <a:chExt cx="380880" cy="285840"/>
            </a:xfrm>
          </p:grpSpPr>
          <p:sp>
            <p:nvSpPr>
              <p:cNvPr id="314" name=""/>
              <p:cNvSpPr/>
              <p:nvPr/>
            </p:nvSpPr>
            <p:spPr>
              <a:xfrm>
                <a:off x="65912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008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551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5095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543800" y="4400640"/>
              <a:ext cx="685440" cy="569880"/>
              <a:chOff x="7543800" y="4400640"/>
              <a:chExt cx="685440" cy="569880"/>
            </a:xfrm>
          </p:grpSpPr>
          <p:sp>
            <p:nvSpPr>
              <p:cNvPr id="319" name=""/>
              <p:cNvSpPr/>
              <p:nvPr/>
            </p:nvSpPr>
            <p:spPr>
              <a:xfrm rot="5400000">
                <a:off x="760140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754380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8652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467480" y="4898880"/>
              <a:ext cx="381240" cy="285840"/>
              <a:chOff x="7467480" y="4898880"/>
              <a:chExt cx="381240" cy="285840"/>
            </a:xfrm>
          </p:grpSpPr>
          <p:sp>
            <p:nvSpPr>
              <p:cNvPr id="323" name=""/>
              <p:cNvSpPr/>
              <p:nvPr/>
            </p:nvSpPr>
            <p:spPr>
              <a:xfrm>
                <a:off x="765792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467480" y="508932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21840" y="513684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57656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328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477120" y="2475000"/>
              <a:ext cx="685440" cy="569880"/>
              <a:chOff x="6477120" y="2475000"/>
              <a:chExt cx="685440" cy="569880"/>
            </a:xfrm>
          </p:grpSpPr>
          <p:sp>
            <p:nvSpPr>
              <p:cNvPr id="332" name=""/>
              <p:cNvSpPr/>
              <p:nvPr/>
            </p:nvSpPr>
            <p:spPr>
              <a:xfrm rot="5400000">
                <a:off x="653472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47712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1984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H="1">
              <a:off x="6248520" y="2975040"/>
              <a:ext cx="38088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10280" y="2975040"/>
              <a:ext cx="30492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85764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4380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77320" y="4898880"/>
              <a:ext cx="152280" cy="427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54880" y="2387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16760" y="331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136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416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1680" y="5232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8008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 δυαδικά δένδρα αναζήτηση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ευκολύνουν την αναζήτη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δρομι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η τιμή που ζητείται είναι στη ρίζα, βρέθηκ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ικρό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αριστερό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εγαλύ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δεξί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όστος αναζήτησης: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(log </a:t>
            </a:r>
            <a:r>
              <a:rPr b="0" i="1" lang="en-US" sz="32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 την προϋπόθεση το δένδρο να είναι ισοζυγισμέ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Node * treeSearch (tree t, int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NULL;     /* not foun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-&gt;data ==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t;        /* foun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-&gt;data &gt;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treeSearch(t-&gt;lef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treeSearch(t-&gt;righ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ένδρα γενικής μορφή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γόνους,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που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1" lang="el-GR" sz="3200" spc="-1" strike="noStrike">
                <a:solidFill>
                  <a:srgbClr val="003366"/>
                </a:solidFill>
                <a:latin typeface="Times New Roman"/>
              </a:rPr>
              <a:t>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71640" y="2841480"/>
            <a:ext cx="4084560" cy="2171880"/>
            <a:chOff x="971640" y="2841480"/>
            <a:chExt cx="4084560" cy="2171880"/>
          </a:xfrm>
        </p:grpSpPr>
        <p:sp>
          <p:nvSpPr>
            <p:cNvPr id="90" name=""/>
            <p:cNvSpPr/>
            <p:nvPr/>
          </p:nvSpPr>
          <p:spPr>
            <a:xfrm flipH="1">
              <a:off x="1957680" y="3273480"/>
              <a:ext cx="107928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36960" y="32734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36960" y="3273480"/>
              <a:ext cx="108108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403640" y="4136760"/>
              <a:ext cx="50472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8360" y="4136760"/>
              <a:ext cx="50472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5320" y="28414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46600" y="28749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5680" y="37051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5520" y="3738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05320" y="37051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720" y="3738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7680" y="37051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00760" y="3738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08440" y="456876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9720" y="4602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71640" y="456876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11480" y="4602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13440" y="4138560"/>
              <a:ext cx="431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13440" y="45702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52920" y="46036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4360" y="511164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5516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ωδικοποίηση με δυαδικά δένδρ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076720" y="1844640"/>
            <a:ext cx="3598920" cy="3661920"/>
            <a:chOff x="5076720" y="1844640"/>
            <a:chExt cx="3598920" cy="3661920"/>
          </a:xfrm>
        </p:grpSpPr>
        <p:sp>
          <p:nvSpPr>
            <p:cNvPr id="113" name=""/>
            <p:cNvSpPr/>
            <p:nvPr/>
          </p:nvSpPr>
          <p:spPr>
            <a:xfrm flipH="1">
              <a:off x="7040520" y="2265480"/>
              <a:ext cx="50472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762680" y="4702320"/>
              <a:ext cx="50292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80080" y="3921120"/>
              <a:ext cx="5320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88160" y="3921120"/>
              <a:ext cx="5763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537240" y="3129120"/>
              <a:ext cx="5032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40520" y="3129120"/>
              <a:ext cx="5763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12160" y="184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53440" y="18781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08880" y="27082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48360" y="27417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6520" y="348948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77280" y="3522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32880" y="42814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67680" y="43210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6120" y="348948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67400" y="35226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9600" y="506268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88160" y="5140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80160" y="428148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21440" y="43210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6720" y="3429000"/>
              <a:ext cx="647640" cy="358920"/>
            </a:xfrm>
            <a:prstGeom prst="rightArrow">
              <a:avLst>
                <a:gd name="adj1" fmla="val 50000"/>
                <a:gd name="adj2" fmla="val 45110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ιρά με την οποία διασχίζονται οι κόμβ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p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άτ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bread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81360" y="2219400"/>
            <a:ext cx="4381560" cy="3316320"/>
            <a:chOff x="4581360" y="2219400"/>
            <a:chExt cx="4381560" cy="3316320"/>
          </a:xfrm>
        </p:grpSpPr>
        <p:sp>
          <p:nvSpPr>
            <p:cNvPr id="137" name=""/>
            <p:cNvSpPr/>
            <p:nvPr/>
          </p:nvSpPr>
          <p:spPr>
            <a:xfrm>
              <a:off x="6351480" y="2219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8880" y="2252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72120" y="31701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808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32640" y="31701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8860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1360" y="418464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02120" y="42181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2016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7900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32640" y="50925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6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8860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51480" y="5092560"/>
              <a:ext cx="84312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088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72120" y="50925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280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992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92600" y="266220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51680" y="3613320"/>
              <a:ext cx="5922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3640" y="3613320"/>
              <a:ext cx="1179720" cy="57132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92600" y="4627440"/>
              <a:ext cx="117972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951320" y="4627440"/>
              <a:ext cx="59220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85800" y="30481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7, 14, 12, 30, 50, 55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πλάτ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50, 7, 14, 55, 12, 30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β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ύ απλά, με χρήση αναδρο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treePrintD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 ", t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PrintDF(t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PrintDF(t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η βοήθε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υρά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για την αποθήκευση δεικτών προς τους κόμβους που δεν έχουμε επισκεφ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treePrintB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 q =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Insert(&amp;q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, υλοποίηση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!queueIsEmpty(q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Node * n = queueRemove(&amp;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 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-&gt;lef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Insert(&amp;q, n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-&gt;righ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ueueInsert(&amp;q, n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* (24 / 2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σταση σε μορφή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ού δένδ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θμοί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φύλλ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ελεστ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ου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170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σχιση 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ν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ανάμεσα σ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φορούμενη: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υνήθης μορ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τον άνθρωπ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3 * (24 / 2)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197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πριν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άγνω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 * 3 / 24 2 - 9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23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5-20T06:21:11Z</dcterms:modified>
  <cp:revision>61</cp:revision>
  <dc:subject>Προγραμματιστικές Τεχνικές</dc:subject>
  <dc:title>Διαφάνειες παρουσίασης</dc:title>
</cp:coreProperties>
</file>