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EF96-D88E-45DF-B935-8D70B88A3E79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81280" y="457200"/>
            <a:ext cx="55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ΠΡΟΓΡΑΜΜΑΤΙΣΤΙΚΕΣ ΤΕΧΝΙΚΕ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440"/>
            <a:ext cx="86868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00240" indent="-2100240">
              <a:tabLst>
                <a:tab algn="l" pos="0"/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ιδάσκοντες: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Γιάννης Μαΐστρ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maistros@cs.ntua.gr)</a:t>
            </a:r>
            <a:br>
              <a:rPr sz="28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τάθης Ζάχ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zachos@cs.ntua.gr)</a:t>
            </a:r>
            <a:br>
              <a:rPr sz="32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nickie@softlab.ntua.g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0280" y="914400"/>
            <a:ext cx="79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Tahoma"/>
              </a:rPr>
              <a:t>http://www.softlab.ntua.gr/~nickie/Courses/progtech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7969-2D59-48AB-9724-8664798023B6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8 (α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υαδικά δένδρ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Ισοζυγισμένα δυαδικά δένδρ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αδικά δένδρ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Binary tre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υο σύνδεσμοι σε κάθε κόμβ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αριστερό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κα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εξί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παιδ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638680" y="1905120"/>
            <a:ext cx="3124080" cy="4419000"/>
            <a:chOff x="5638680" y="1905120"/>
            <a:chExt cx="3124080" cy="4419000"/>
          </a:xfrm>
        </p:grpSpPr>
        <p:sp>
          <p:nvSpPr>
            <p:cNvPr id="90" name=""/>
            <p:cNvSpPr/>
            <p:nvPr/>
          </p:nvSpPr>
          <p:spPr>
            <a:xfrm>
              <a:off x="5638680" y="2261160"/>
              <a:ext cx="3124080" cy="406296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5943600" y="3402000"/>
              <a:ext cx="685440" cy="569880"/>
              <a:chOff x="5943600" y="3402000"/>
              <a:chExt cx="685440" cy="569880"/>
            </a:xfrm>
          </p:grpSpPr>
          <p:sp>
            <p:nvSpPr>
              <p:cNvPr id="92" name=""/>
              <p:cNvSpPr/>
              <p:nvPr/>
            </p:nvSpPr>
            <p:spPr>
              <a:xfrm rot="5400000">
                <a:off x="6001200" y="334404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5943600" y="368712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286320" y="368712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6324480" y="3900600"/>
              <a:ext cx="380880" cy="285120"/>
              <a:chOff x="6324480" y="3900600"/>
              <a:chExt cx="380880" cy="285120"/>
            </a:xfrm>
          </p:grpSpPr>
          <p:sp>
            <p:nvSpPr>
              <p:cNvPr id="96" name=""/>
              <p:cNvSpPr/>
              <p:nvPr/>
            </p:nvSpPr>
            <p:spPr>
              <a:xfrm>
                <a:off x="6514920" y="3900600"/>
                <a:ext cx="0" cy="189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324480" y="409032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378840" y="413820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433200" y="418572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5867280" y="3900600"/>
              <a:ext cx="380880" cy="285120"/>
              <a:chOff x="5867280" y="3900600"/>
              <a:chExt cx="380880" cy="285120"/>
            </a:xfrm>
          </p:grpSpPr>
          <p:sp>
            <p:nvSpPr>
              <p:cNvPr id="101" name=""/>
              <p:cNvSpPr/>
              <p:nvPr/>
            </p:nvSpPr>
            <p:spPr>
              <a:xfrm>
                <a:off x="6057720" y="3900600"/>
                <a:ext cx="0" cy="189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867280" y="409032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921640" y="413820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976000" y="418572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7848360" y="5326560"/>
              <a:ext cx="685440" cy="569880"/>
              <a:chOff x="7848360" y="5326560"/>
              <a:chExt cx="685440" cy="569880"/>
            </a:xfrm>
          </p:grpSpPr>
          <p:sp>
            <p:nvSpPr>
              <p:cNvPr id="106" name=""/>
              <p:cNvSpPr/>
              <p:nvPr/>
            </p:nvSpPr>
            <p:spPr>
              <a:xfrm rot="5400000">
                <a:off x="7905960" y="526860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7848360" y="561168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191080" y="561168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8229600" y="5825160"/>
              <a:ext cx="380880" cy="285120"/>
              <a:chOff x="8229600" y="5825160"/>
              <a:chExt cx="380880" cy="285120"/>
            </a:xfrm>
          </p:grpSpPr>
          <p:sp>
            <p:nvSpPr>
              <p:cNvPr id="110" name=""/>
              <p:cNvSpPr/>
              <p:nvPr/>
            </p:nvSpPr>
            <p:spPr>
              <a:xfrm>
                <a:off x="8420040" y="5825160"/>
                <a:ext cx="0" cy="189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229600" y="601488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283960" y="606276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338320" y="611028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7772400" y="5825160"/>
              <a:ext cx="380880" cy="285120"/>
              <a:chOff x="7772400" y="5825160"/>
              <a:chExt cx="380880" cy="285120"/>
            </a:xfrm>
          </p:grpSpPr>
          <p:sp>
            <p:nvSpPr>
              <p:cNvPr id="115" name=""/>
              <p:cNvSpPr/>
              <p:nvPr/>
            </p:nvSpPr>
            <p:spPr>
              <a:xfrm>
                <a:off x="7962840" y="5825160"/>
                <a:ext cx="0" cy="189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772400" y="601488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826760" y="606276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881120" y="611028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6476760" y="4399560"/>
              <a:ext cx="685440" cy="569880"/>
              <a:chOff x="6476760" y="4399560"/>
              <a:chExt cx="685440" cy="569880"/>
            </a:xfrm>
          </p:grpSpPr>
          <p:sp>
            <p:nvSpPr>
              <p:cNvPr id="120" name=""/>
              <p:cNvSpPr/>
              <p:nvPr/>
            </p:nvSpPr>
            <p:spPr>
              <a:xfrm rot="5400000">
                <a:off x="6534360" y="434160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6476760" y="468468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819480" y="468468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6858000" y="4898880"/>
              <a:ext cx="380880" cy="284760"/>
              <a:chOff x="6858000" y="4898880"/>
              <a:chExt cx="380880" cy="284760"/>
            </a:xfrm>
          </p:grpSpPr>
          <p:sp>
            <p:nvSpPr>
              <p:cNvPr id="124" name=""/>
              <p:cNvSpPr/>
              <p:nvPr/>
            </p:nvSpPr>
            <p:spPr>
              <a:xfrm>
                <a:off x="7048440" y="4898880"/>
                <a:ext cx="0" cy="189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858000" y="508860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912360" y="513612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966720" y="518364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6400800" y="4898880"/>
              <a:ext cx="380880" cy="284760"/>
              <a:chOff x="6400800" y="4898880"/>
              <a:chExt cx="380880" cy="2847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91240" y="4898880"/>
                <a:ext cx="0" cy="189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00800" y="508860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455160" y="513612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509520" y="518364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7543800" y="4399560"/>
              <a:ext cx="685440" cy="569880"/>
              <a:chOff x="7543800" y="4399560"/>
              <a:chExt cx="685440" cy="569880"/>
            </a:xfrm>
          </p:grpSpPr>
          <p:sp>
            <p:nvSpPr>
              <p:cNvPr id="134" name=""/>
              <p:cNvSpPr/>
              <p:nvPr/>
            </p:nvSpPr>
            <p:spPr>
              <a:xfrm rot="5400000">
                <a:off x="7601400" y="434160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7543800" y="468468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886520" y="468468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7467480" y="4898880"/>
              <a:ext cx="380880" cy="284760"/>
              <a:chOff x="7467480" y="4898880"/>
              <a:chExt cx="380880" cy="284760"/>
            </a:xfrm>
          </p:grpSpPr>
          <p:sp>
            <p:nvSpPr>
              <p:cNvPr id="138" name=""/>
              <p:cNvSpPr/>
              <p:nvPr/>
            </p:nvSpPr>
            <p:spPr>
              <a:xfrm>
                <a:off x="7657920" y="4898880"/>
                <a:ext cx="0" cy="189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467480" y="508860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521840" y="513612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576200" y="518364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7010280" y="3402000"/>
              <a:ext cx="685440" cy="569880"/>
              <a:chOff x="7010280" y="3402000"/>
              <a:chExt cx="685440" cy="569880"/>
            </a:xfrm>
          </p:grpSpPr>
          <p:sp>
            <p:nvSpPr>
              <p:cNvPr id="143" name=""/>
              <p:cNvSpPr/>
              <p:nvPr/>
            </p:nvSpPr>
            <p:spPr>
              <a:xfrm rot="5400000">
                <a:off x="7067880" y="334404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7010280" y="368712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353000" y="368712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6476760" y="2475000"/>
              <a:ext cx="685440" cy="569880"/>
              <a:chOff x="6476760" y="2475000"/>
              <a:chExt cx="685440" cy="569880"/>
            </a:xfrm>
          </p:grpSpPr>
          <p:sp>
            <p:nvSpPr>
              <p:cNvPr id="147" name=""/>
              <p:cNvSpPr/>
              <p:nvPr/>
            </p:nvSpPr>
            <p:spPr>
              <a:xfrm rot="5400000">
                <a:off x="6534360" y="241704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6476760" y="276012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819480" y="276012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 flipH="1">
              <a:off x="6247800" y="2974320"/>
              <a:ext cx="381240" cy="4276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10280" y="2974320"/>
              <a:ext cx="304920" cy="4276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858000" y="3900600"/>
              <a:ext cx="304560" cy="498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43800" y="3900600"/>
              <a:ext cx="304560" cy="498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076960" y="4898880"/>
              <a:ext cx="152640" cy="4276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81680" y="1905120"/>
              <a:ext cx="0" cy="569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85800" y="2666880"/>
            <a:ext cx="4724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άθε κόμβος έχει</a:t>
            </a:r>
            <a:br>
              <a:rPr sz="3200"/>
            </a:b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0, 1 ή 2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παιδιά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Ρίζα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: ο αρχικός κόμβος του δένδ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Φύλλα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: κόμβοι χωρίς παιδιά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Βάθος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κόμβου: αριθμός συνδέσμων από τη ρίζα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αδικά δένδρ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κόμβου </a:t>
            </a:r>
            <a:r>
              <a:rPr b="0" sz="3200" spc="-1" strike="noStrike">
                <a:solidFill>
                  <a:srgbClr val="003366"/>
                </a:solidFill>
                <a:latin typeface="Times New Roman"/>
              </a:rPr>
              <a:t>TreeNod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ypedef struct TreeNode_tag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truct TreeNode_tag * lef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truct TreeNode_tag * righ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 TreeNod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re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ypedef TreeNode * tre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ενό δένδρ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onst tree treeEmpty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αδικά δένδρ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ε δένδρ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θοριστική απόφαση: σε ποιο σημείο του δένδρου θα εισαχθεί ο νέος κόμβ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Ισοζυγισμένα δένδρα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alanced trees):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ο βάθος δυο φύλλων διαφέρει το πολύ κατά 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νάρτηση μέγιστου βάθου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treeDepth (tree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t == NULL) 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1 + max(treeDepth(t-&gt;left)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reeDepth(t-&gt;right));  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αδικά δένδρ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ε ισοζυγισμένα δένδρ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treeBalancedInsert (tree * t, int d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*t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*t = (TreeNode *)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malloc(sizeof(TreeNode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*t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Out of memory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(*t)-&gt;data = d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(*t)-&gt;left = (*t)-&gt;right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αδικά δένδρ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ε ισοζυγισμένα δένδρα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lse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d1 = treeDepth((*t)-&gt;lef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d2 = treeDepth((*t)-&gt;righ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d1 &lt;= d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reeBalancedInsert(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&amp;((*t)-&gt;left), 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reeBalancedInsert(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&amp;((*t)-&gt;right), 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14T22:10:23Z</cp:lastPrinted>
  <dcterms:modified xsi:type="dcterms:W3CDTF">2002-05-17T08:07:09Z</dcterms:modified>
  <cp:revision>55</cp:revision>
  <dc:subject>Προγραμματιστικές Τεχνικές</dc:subject>
  <dc:title>Διαφάνειες παρουσίασης</dc:title>
</cp:coreProperties>
</file>