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B9CC-A31D-4BEB-B278-7D27F34F05E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EAB3-FF86-4DF9-A164-2A378008F04F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αρτήσεις βιβλιοθήκης τη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ροεπεξεργαστής τη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 και έξοδ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io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έχει όλες τις συναρτήσεις εισόδου-εξόδ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οκαθορισμένα αρχε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di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είσοδο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dou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έξοδο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der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έξοδος σφαλμάτω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σοδυναμί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...) </a:t>
            </a:r>
            <a:r>
              <a:rPr b="1" sz="2400" spc="-1" strike="noStrike">
                <a:solidFill>
                  <a:srgbClr val="333333"/>
                </a:solidFill>
                <a:latin typeface="Symbol"/>
                <a:ea typeface="Symbol"/>
              </a:rPr>
              <a:t>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fprintf(stdout, ...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canf(...)  </a:t>
            </a:r>
            <a:r>
              <a:rPr b="1" sz="2400" spc="-1" strike="noStrike">
                <a:solidFill>
                  <a:srgbClr val="333333"/>
                </a:solidFill>
                <a:latin typeface="Symbol"/>
                <a:ea typeface="Symbol"/>
              </a:rPr>
              <a:t>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fscanf(stdin, ...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.λπ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αρτήσεις διαχείρισης αρχείων με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υχαία πρόσβα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andom acces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χείριση συμβολοσειρώ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ring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strlen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έτρηση αριθμού χαρακτήρων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* strcpy (char * s1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τιγραφ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ην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* strcat (char * s1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ροσθήκη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 τέλος τη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rcmp (const char * s1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ύγκριση των συμβολοσειρών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τροπή συμβολοσειρώ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lib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atoi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ong int atol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ong in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ouble atof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δυνατή υλοποίηση της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strcm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rcmp (const char * s1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char * s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*s1 == *s2 &amp;&amp; *s1 != '\0'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 s1++; s2++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(*s1)-(*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πόθεση: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 οι τιμές του τύπου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r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ναι στο διάστημα 0-255 (όχι αρνητικές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25120" y="3805200"/>
            <a:ext cx="613188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*s1 &amp;&amp; *s1++ == *s2++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επεξεργαστή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eprocessor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nclu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include "myheader.h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de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define MAX_CHARS 1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MAX_CHARS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define INC(x) ((x)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C(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C(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επεξεργαστή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eprocessor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έ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fdef,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fndef, #else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endi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define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debugging is on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debugging is off\n"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ifndef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ptimizations allowed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5-12T10:26:03Z</dcterms:modified>
  <cp:revision>56</cp:revision>
  <dc:subject>Προγραμματιστικές Τεχνικές</dc:subject>
  <dc:title>Διαφάνειες παρουσίασης</dc:title>
</cp:coreProperties>
</file>