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FCB4-364E-4C7E-A900-5AF93E15B02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655C-6482-4C68-9C21-156EBABDBB2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ομη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μετροι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εισόδου-εξόδ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διαχείρισης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list slist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”%d was not found\n”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Program %s called wit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%d parameters:\n", argv[0]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rgc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br>
              <a:rPr sz="28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21T20:47:05Z</dcterms:modified>
  <cp:revision>57</cp:revision>
  <dc:subject>Προγραμματιστικές Τεχνικές</dc:subject>
  <dc:title>Διαφάνειες παρουσίασης</dc:title>
</cp:coreProperties>
</file>