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867E-CE79-4373-959E-32C45462C3F0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7595-C294-4A4C-A6B1-E254C52ECF98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6 (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υρές (επανάληψη και συνέχεια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τοίβ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ιπλά συνδεδεμένες λίσ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υκλικές λίσ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οίβ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Last In First Out (LIFO)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ό,τι μπαίνει τελευταίο, βγαίνει πρώτ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τοίβα ακερα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ΑΤΔ: </a:t>
            </a:r>
            <a:r>
              <a:rPr b="1" sz="2800" spc="-1" strike="noStrike">
                <a:solidFill>
                  <a:srgbClr val="660066"/>
                </a:solidFill>
                <a:latin typeface="Courier New"/>
              </a:rPr>
              <a:t>stac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stack stack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stackPush (stack * sp, int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tackPop (stack * s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tackTop (stack s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οίβ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με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295280" y="2514600"/>
            <a:ext cx="6019920" cy="2286000"/>
            <a:chOff x="1295280" y="2514600"/>
            <a:chExt cx="6019920" cy="2286000"/>
          </a:xfrm>
        </p:grpSpPr>
        <p:sp>
          <p:nvSpPr>
            <p:cNvPr id="136" name=""/>
            <p:cNvSpPr/>
            <p:nvPr/>
          </p:nvSpPr>
          <p:spPr>
            <a:xfrm>
              <a:off x="2133720" y="2514600"/>
              <a:ext cx="137160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95280" y="3505320"/>
              <a:ext cx="601992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828800" y="3962520"/>
              <a:ext cx="685800" cy="380880"/>
              <a:chOff x="1828800" y="3962520"/>
              <a:chExt cx="685800" cy="380880"/>
            </a:xfrm>
          </p:grpSpPr>
          <p:sp>
            <p:nvSpPr>
              <p:cNvPr id="139" name=""/>
              <p:cNvSpPr/>
              <p:nvPr/>
            </p:nvSpPr>
            <p:spPr>
              <a:xfrm>
                <a:off x="18288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1718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124080" y="3962520"/>
              <a:ext cx="685800" cy="380880"/>
              <a:chOff x="3124080" y="3962520"/>
              <a:chExt cx="685800" cy="380880"/>
            </a:xfrm>
          </p:grpSpPr>
          <p:sp>
            <p:nvSpPr>
              <p:cNvPr id="142" name=""/>
              <p:cNvSpPr/>
              <p:nvPr/>
            </p:nvSpPr>
            <p:spPr>
              <a:xfrm>
                <a:off x="312408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46716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362320" y="415296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4419720" y="3962520"/>
              <a:ext cx="685800" cy="380880"/>
              <a:chOff x="4419720" y="3962520"/>
              <a:chExt cx="685800" cy="380880"/>
            </a:xfrm>
          </p:grpSpPr>
          <p:sp>
            <p:nvSpPr>
              <p:cNvPr id="146" name=""/>
              <p:cNvSpPr/>
              <p:nvPr/>
            </p:nvSpPr>
            <p:spPr>
              <a:xfrm>
                <a:off x="441972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76280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65760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715000" y="3962520"/>
              <a:ext cx="685800" cy="380880"/>
              <a:chOff x="5715000" y="3962520"/>
              <a:chExt cx="685800" cy="380880"/>
            </a:xfrm>
          </p:grpSpPr>
          <p:sp>
            <p:nvSpPr>
              <p:cNvPr id="150" name=""/>
              <p:cNvSpPr/>
              <p:nvPr/>
            </p:nvSpPr>
            <p:spPr>
              <a:xfrm>
                <a:off x="57150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0580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5288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6248520" y="4191120"/>
              <a:ext cx="799920" cy="457200"/>
              <a:chOff x="6248520" y="4191120"/>
              <a:chExt cx="799920" cy="457200"/>
            </a:xfrm>
          </p:grpSpPr>
          <p:sp>
            <p:nvSpPr>
              <p:cNvPr id="154" name=""/>
              <p:cNvSpPr/>
              <p:nvPr/>
            </p:nvSpPr>
            <p:spPr>
              <a:xfrm>
                <a:off x="6248520" y="419112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781680" y="419112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515280" y="449568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591240" y="457200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667560" y="464832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 flipH="1">
              <a:off x="1980720" y="2971800"/>
              <a:ext cx="83844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55760" y="2590920"/>
              <a:ext cx="117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to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ac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ListNode * stac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στοίβ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stack stackEmpty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stackPush (stack * s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 = (ListNode *)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next = *s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sp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tackPop (stack * s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*sp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Nothing to remove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" from an empty stack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 = *s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sult = (*sp)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*sp = (*sp)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στοίβα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ξέτα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tackTop (stack 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s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Nothing to see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" in an empty stack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s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752480" y="3581280"/>
            <a:ext cx="6019920" cy="2666880"/>
            <a:chOff x="1752480" y="3581280"/>
            <a:chExt cx="6019920" cy="2666880"/>
          </a:xfrm>
        </p:grpSpPr>
        <p:sp>
          <p:nvSpPr>
            <p:cNvPr id="171" name=""/>
            <p:cNvSpPr/>
            <p:nvPr/>
          </p:nvSpPr>
          <p:spPr>
            <a:xfrm>
              <a:off x="2590560" y="3581280"/>
              <a:ext cx="236232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52480" y="4571640"/>
              <a:ext cx="6019920" cy="167652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286000" y="5028840"/>
              <a:ext cx="685800" cy="381240"/>
              <a:chOff x="2286000" y="5028840"/>
              <a:chExt cx="685800" cy="381240"/>
            </a:xfrm>
          </p:grpSpPr>
          <p:sp>
            <p:nvSpPr>
              <p:cNvPr id="174" name=""/>
              <p:cNvSpPr/>
              <p:nvPr/>
            </p:nvSpPr>
            <p:spPr>
              <a:xfrm>
                <a:off x="2286000" y="502884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629080" y="502884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581280" y="5028840"/>
              <a:ext cx="685800" cy="381240"/>
              <a:chOff x="3581280" y="5028840"/>
              <a:chExt cx="685800" cy="381240"/>
            </a:xfrm>
          </p:grpSpPr>
          <p:sp>
            <p:nvSpPr>
              <p:cNvPr id="177" name=""/>
              <p:cNvSpPr/>
              <p:nvPr/>
            </p:nvSpPr>
            <p:spPr>
              <a:xfrm>
                <a:off x="3581280" y="502884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24360" y="502884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2819160" y="513072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4876560" y="5028840"/>
              <a:ext cx="685800" cy="381240"/>
              <a:chOff x="4876560" y="5028840"/>
              <a:chExt cx="685800" cy="381240"/>
            </a:xfrm>
          </p:grpSpPr>
          <p:sp>
            <p:nvSpPr>
              <p:cNvPr id="181" name=""/>
              <p:cNvSpPr/>
              <p:nvPr/>
            </p:nvSpPr>
            <p:spPr>
              <a:xfrm>
                <a:off x="4876560" y="502884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219640" y="502884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4114800" y="513072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6172200" y="5028840"/>
              <a:ext cx="685800" cy="381240"/>
              <a:chOff x="6172200" y="5028840"/>
              <a:chExt cx="685800" cy="381240"/>
            </a:xfrm>
          </p:grpSpPr>
          <p:sp>
            <p:nvSpPr>
              <p:cNvPr id="185" name=""/>
              <p:cNvSpPr/>
              <p:nvPr/>
            </p:nvSpPr>
            <p:spPr>
              <a:xfrm>
                <a:off x="6172200" y="5028840"/>
                <a:ext cx="685800" cy="38124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15280" y="5028840"/>
                <a:ext cx="0" cy="3812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5410080" y="513072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05360" y="5130720"/>
              <a:ext cx="799920" cy="457200"/>
              <a:chOff x="6705360" y="5130720"/>
              <a:chExt cx="799920" cy="457200"/>
            </a:xfrm>
          </p:grpSpPr>
          <p:sp>
            <p:nvSpPr>
              <p:cNvPr id="189" name=""/>
              <p:cNvSpPr/>
              <p:nvPr/>
            </p:nvSpPr>
            <p:spPr>
              <a:xfrm>
                <a:off x="6705360" y="513072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38520" y="513072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972120" y="543528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048080" y="551160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124400" y="558792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 flipH="1">
              <a:off x="2438280" y="4038480"/>
              <a:ext cx="838080" cy="990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360" y="4038480"/>
              <a:ext cx="1905120" cy="9903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3680" y="36572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ir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63240" y="36572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la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54280" y="5219640"/>
              <a:ext cx="3045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49560" y="5219640"/>
              <a:ext cx="3049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44840" y="5219640"/>
              <a:ext cx="3049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40480" y="5219640"/>
              <a:ext cx="3045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2514600" y="5333760"/>
              <a:ext cx="533160" cy="457200"/>
              <a:chOff x="2514600" y="5333760"/>
              <a:chExt cx="533160" cy="457200"/>
            </a:xfrm>
          </p:grpSpPr>
          <p:sp>
            <p:nvSpPr>
              <p:cNvPr id="203" name=""/>
              <p:cNvSpPr/>
              <p:nvPr/>
            </p:nvSpPr>
            <p:spPr>
              <a:xfrm>
                <a:off x="2781000" y="533376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14600" y="563832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90560" y="5714640"/>
                <a:ext cx="38052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666880" y="5790960"/>
                <a:ext cx="228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5562000" y="5333400"/>
              <a:ext cx="1143360" cy="305280"/>
              <a:chOff x="5562000" y="5333400"/>
              <a:chExt cx="1143360" cy="305280"/>
            </a:xfrm>
          </p:grpSpPr>
          <p:sp>
            <p:nvSpPr>
              <p:cNvPr id="208" name=""/>
              <p:cNvSpPr/>
              <p:nvPr/>
            </p:nvSpPr>
            <p:spPr>
              <a:xfrm>
                <a:off x="6705360" y="533376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5943600" y="5638680"/>
                <a:ext cx="7617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5943600" y="533340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5562000" y="5333760"/>
                <a:ext cx="3812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4266720" y="5333400"/>
              <a:ext cx="1143360" cy="305280"/>
              <a:chOff x="4266720" y="5333400"/>
              <a:chExt cx="1143360" cy="305280"/>
            </a:xfrm>
          </p:grpSpPr>
          <p:sp>
            <p:nvSpPr>
              <p:cNvPr id="213" name=""/>
              <p:cNvSpPr/>
              <p:nvPr/>
            </p:nvSpPr>
            <p:spPr>
              <a:xfrm>
                <a:off x="5410080" y="533376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4648320" y="5638680"/>
                <a:ext cx="7617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4648320" y="533340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4266720" y="5333760"/>
                <a:ext cx="3812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971440" y="5333400"/>
              <a:ext cx="1143360" cy="305280"/>
              <a:chOff x="2971440" y="5333400"/>
              <a:chExt cx="1143360" cy="305280"/>
            </a:xfrm>
          </p:grpSpPr>
          <p:sp>
            <p:nvSpPr>
              <p:cNvPr id="218" name=""/>
              <p:cNvSpPr/>
              <p:nvPr/>
            </p:nvSpPr>
            <p:spPr>
              <a:xfrm>
                <a:off x="4114800" y="533376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3353040" y="5638680"/>
                <a:ext cx="7617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3353040" y="5333400"/>
                <a:ext cx="0" cy="30492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971440" y="5333760"/>
                <a:ext cx="3812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πίσης γραμμικές διατάξ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ο σύνδεσμοι σε κάθε κόμβο, προς τον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επόμενο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αι προς τον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προηγούμεν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ενική μορφή, π.χ. για υλοποίηση ουράς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κόμβου </a:t>
            </a:r>
            <a:r>
              <a:rPr b="0" sz="3200" spc="-1" strike="noStrike">
                <a:solidFill>
                  <a:srgbClr val="003366"/>
                </a:solidFill>
                <a:latin typeface="Times New Roman"/>
              </a:rPr>
              <a:t>DListNod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DListNode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DListNode_tag * 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DListNode_tag * prev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DListN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sz="3200" spc="-1" strike="noStrike">
                <a:solidFill>
                  <a:srgbClr val="003366"/>
                </a:solidFill>
                <a:latin typeface="Times New Roman"/>
              </a:rPr>
              <a:t>dli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ListNode * 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ListNode * la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dli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dlist dlistEmpty = { NULL, NULL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στην αρχ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dlistInsert (d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DListNode * n = (DListNode *)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malloc(sizeof(D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printf(stderr,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πλά συνδεδεμένε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στην αρχή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l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prev = n-&gt;nex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first = l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prev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next = l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first-&gt;prev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fir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υ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First In First Out (FIFO)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ό,τι μπαίνει πρώτο, βγαίνει πρώτο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υρά ακερα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ΑΤΔ: </a:t>
            </a:r>
            <a:r>
              <a:rPr b="1" sz="2800" spc="-1" strike="noStrike">
                <a:solidFill>
                  <a:srgbClr val="660066"/>
                </a:solidFill>
                <a:latin typeface="Courier New"/>
              </a:rPr>
              <a:t>queu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queue queueEmpt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queueInsert (queue * qp, int 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queueRemove (queue * q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queueHead (queue q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sz="3200" spc="-1" strike="noStrike">
                <a:solidFill>
                  <a:srgbClr val="003366"/>
                </a:solidFill>
                <a:latin typeface="Times New Roman"/>
              </a:rPr>
              <a:t>clis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la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cli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clist clistEmpty = { NULL, NULL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676520" y="1371600"/>
            <a:ext cx="6019560" cy="1905120"/>
            <a:chOff x="1676520" y="1371600"/>
            <a:chExt cx="6019560" cy="1905120"/>
          </a:xfrm>
        </p:grpSpPr>
        <p:sp>
          <p:nvSpPr>
            <p:cNvPr id="232" name=""/>
            <p:cNvSpPr/>
            <p:nvPr/>
          </p:nvSpPr>
          <p:spPr>
            <a:xfrm>
              <a:off x="1676520" y="2133720"/>
              <a:ext cx="6019560" cy="114300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209680" y="2362320"/>
              <a:ext cx="685800" cy="380880"/>
              <a:chOff x="2209680" y="2362320"/>
              <a:chExt cx="685800" cy="380880"/>
            </a:xfrm>
          </p:grpSpPr>
          <p:sp>
            <p:nvSpPr>
              <p:cNvPr id="234" name=""/>
              <p:cNvSpPr/>
              <p:nvPr/>
            </p:nvSpPr>
            <p:spPr>
              <a:xfrm>
                <a:off x="220968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55276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3505320" y="2362320"/>
              <a:ext cx="685800" cy="380880"/>
              <a:chOff x="3505320" y="2362320"/>
              <a:chExt cx="685800" cy="380880"/>
            </a:xfrm>
          </p:grpSpPr>
          <p:sp>
            <p:nvSpPr>
              <p:cNvPr id="237" name=""/>
              <p:cNvSpPr/>
              <p:nvPr/>
            </p:nvSpPr>
            <p:spPr>
              <a:xfrm>
                <a:off x="350532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4840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743200" y="25527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4800600" y="2362320"/>
              <a:ext cx="685800" cy="380880"/>
              <a:chOff x="4800600" y="2362320"/>
              <a:chExt cx="685800" cy="380880"/>
            </a:xfrm>
          </p:grpSpPr>
          <p:sp>
            <p:nvSpPr>
              <p:cNvPr id="241" name=""/>
              <p:cNvSpPr/>
              <p:nvPr/>
            </p:nvSpPr>
            <p:spPr>
              <a:xfrm>
                <a:off x="480060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4368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4038480" y="25527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6095880" y="2362320"/>
              <a:ext cx="685800" cy="380880"/>
              <a:chOff x="6095880" y="2362320"/>
              <a:chExt cx="685800" cy="380880"/>
            </a:xfrm>
          </p:grpSpPr>
          <p:sp>
            <p:nvSpPr>
              <p:cNvPr id="245" name=""/>
              <p:cNvSpPr/>
              <p:nvPr/>
            </p:nvSpPr>
            <p:spPr>
              <a:xfrm>
                <a:off x="6095880" y="23623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438960" y="23623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334120" y="255276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362320" y="274284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62320" y="3048120"/>
              <a:ext cx="46479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29400" y="2590920"/>
              <a:ext cx="3808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10280" y="2590920"/>
              <a:ext cx="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52680" y="1371600"/>
              <a:ext cx="236232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590920" y="1828800"/>
              <a:ext cx="121896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34120" y="1828800"/>
              <a:ext cx="114300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75800" y="1447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ir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25360" y="1447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la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clistInsert (clist * l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 = (ListNode *)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printf(stderr, 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l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first = l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nex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next = l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last-&gt;nex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clistRemove (clist * l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l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printf(stderr, "Nothing to remove"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" from empty list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sult = lp-&gt;first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lp-&gt;first == lp-&gt;last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lp-&gt;firs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first = lp-&gt;las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first = lp-&gt;first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lp-&gt;last-&gt;next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p-&gt;last-&gt;next = l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Κυκλικές λίσ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κτύπωση στοιχεί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clistPrint (clist 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n = l.first; n != NULL;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n = n-&gt;next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%d\n", n-&gt;data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-&gt;next == l.firs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υ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με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295280" y="2514600"/>
            <a:ext cx="6019920" cy="2286000"/>
            <a:chOff x="1295280" y="2514600"/>
            <a:chExt cx="6019920" cy="2286000"/>
          </a:xfrm>
        </p:grpSpPr>
        <p:sp>
          <p:nvSpPr>
            <p:cNvPr id="92" name=""/>
            <p:cNvSpPr/>
            <p:nvPr/>
          </p:nvSpPr>
          <p:spPr>
            <a:xfrm>
              <a:off x="2133720" y="2514600"/>
              <a:ext cx="2361960" cy="60948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95280" y="3505320"/>
              <a:ext cx="6019920" cy="1295280"/>
            </a:xfrm>
            <a:prstGeom prst="rect">
              <a:avLst/>
            </a:prstGeom>
            <a:solidFill>
              <a:srgbClr val="f6f9b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1828800" y="3962520"/>
              <a:ext cx="685800" cy="380880"/>
              <a:chOff x="1828800" y="3962520"/>
              <a:chExt cx="685800" cy="380880"/>
            </a:xfrm>
          </p:grpSpPr>
          <p:sp>
            <p:nvSpPr>
              <p:cNvPr id="95" name=""/>
              <p:cNvSpPr/>
              <p:nvPr/>
            </p:nvSpPr>
            <p:spPr>
              <a:xfrm>
                <a:off x="18288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1718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3124080" y="3962520"/>
              <a:ext cx="685800" cy="380880"/>
              <a:chOff x="3124080" y="3962520"/>
              <a:chExt cx="685800" cy="380880"/>
            </a:xfrm>
          </p:grpSpPr>
          <p:sp>
            <p:nvSpPr>
              <p:cNvPr id="98" name=""/>
              <p:cNvSpPr/>
              <p:nvPr/>
            </p:nvSpPr>
            <p:spPr>
              <a:xfrm>
                <a:off x="312408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6716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2362320" y="4152960"/>
              <a:ext cx="76176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419720" y="3962520"/>
              <a:ext cx="685800" cy="380880"/>
              <a:chOff x="4419720" y="3962520"/>
              <a:chExt cx="685800" cy="380880"/>
            </a:xfrm>
          </p:grpSpPr>
          <p:sp>
            <p:nvSpPr>
              <p:cNvPr id="102" name=""/>
              <p:cNvSpPr/>
              <p:nvPr/>
            </p:nvSpPr>
            <p:spPr>
              <a:xfrm>
                <a:off x="441972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76280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365760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715000" y="3962520"/>
              <a:ext cx="685800" cy="380880"/>
              <a:chOff x="5715000" y="3962520"/>
              <a:chExt cx="685800" cy="380880"/>
            </a:xfrm>
          </p:grpSpPr>
          <p:sp>
            <p:nvSpPr>
              <p:cNvPr id="106" name=""/>
              <p:cNvSpPr/>
              <p:nvPr/>
            </p:nvSpPr>
            <p:spPr>
              <a:xfrm>
                <a:off x="5715000" y="3962520"/>
                <a:ext cx="685800" cy="38088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87200"/>
                    <a:tab algn="r" pos="9525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058080" y="3962520"/>
                <a:ext cx="0" cy="38088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4952880" y="4152960"/>
              <a:ext cx="76212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6248520" y="4191120"/>
              <a:ext cx="799920" cy="457200"/>
              <a:chOff x="6248520" y="4191120"/>
              <a:chExt cx="799920" cy="457200"/>
            </a:xfrm>
          </p:grpSpPr>
          <p:sp>
            <p:nvSpPr>
              <p:cNvPr id="110" name=""/>
              <p:cNvSpPr/>
              <p:nvPr/>
            </p:nvSpPr>
            <p:spPr>
              <a:xfrm>
                <a:off x="6248520" y="4191120"/>
                <a:ext cx="5331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781680" y="4191120"/>
                <a:ext cx="0" cy="3045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515280" y="4495680"/>
                <a:ext cx="53316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1240" y="4572000"/>
                <a:ext cx="3812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667560" y="4648320"/>
                <a:ext cx="22860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H="1">
              <a:off x="1980720" y="2971800"/>
              <a:ext cx="83844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62520" y="2971800"/>
              <a:ext cx="1904760" cy="990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56480" y="25909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fir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6400" y="259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la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με απλά συνδεδεμένη λίστ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list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truct list_tag * 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ListNod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u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la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 queu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δεια ουρά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const queue queueEmpty = { NULL, NULL 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queueInsert (queue * qp, int 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 = (ListNode *) 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malloc(sizeof(ListNode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n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Out of memory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 σε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σαγωγή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data = 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-&gt;nex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qp-&gt;las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p-&gt;first = q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p-&gt;last-&gt;nex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p-&gt;last =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queueRemove (queue * q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ListNode *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qp-&gt;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printf("Nothing to remove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" from an empty queue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φαίρεση στοιχείου 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n = qp-&gt;firs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sult = qp-&gt;first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p-&gt;first = qp-&gt;first-&gt;nex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ree(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qp-&gt;first == NUL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p-&gt;last = NUL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Υλοποίηση ουρά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ξέταση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queueHead (queue q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q.first == NULL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printf(stderr, "Nothing to see"</a:t>
            </a:r>
            <a:br>
              <a:rPr sz="2400"/>
            </a:b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" in an empty queue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xit(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return q.first-&gt;dat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4-15T20:23:34Z</dcterms:modified>
  <cp:revision>63</cp:revision>
  <dc:subject>Προγραμματιστικές Τεχνικές</dc:subject>
  <dc:title>Διαφάνειες παρουσίασης</dc:title>
</cp:coreProperties>
</file>