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2590-EAFF-4E8C-B021-F14A3202E50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42B-984C-43AA-8C22-5EC18B8A1AB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5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 και ε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αντιγραφή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10], b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a, *q = b,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assume b initialize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++ = *q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εκτύπωση συμβολοσειρά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utchar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 =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p = s; *p != '\0';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6576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re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im = -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complex_tag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s [1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630840" y="1447920"/>
            <a:ext cx="1979640" cy="1143000"/>
            <a:chOff x="6630840" y="1447920"/>
            <a:chExt cx="1979640" cy="1143000"/>
          </a:xfrm>
        </p:grpSpPr>
        <p:sp>
          <p:nvSpPr>
            <p:cNvPr id="91" name=""/>
            <p:cNvSpPr/>
            <p:nvPr/>
          </p:nvSpPr>
          <p:spPr>
            <a:xfrm>
              <a:off x="7086600" y="1447920"/>
              <a:ext cx="15238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920" y="1514520"/>
              <a:ext cx="13716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r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048040"/>
              <a:ext cx="1371600" cy="459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i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15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z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ment (complex 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z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-z.i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firstName [3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lastName 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phone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ag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alar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recor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r 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[423].age = 3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νώσει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630840" y="1447920"/>
            <a:ext cx="1979640" cy="1143000"/>
            <a:chOff x="6630840" y="1447920"/>
            <a:chExt cx="1979640" cy="1143000"/>
          </a:xfrm>
        </p:grpSpPr>
        <p:sp>
          <p:nvSpPr>
            <p:cNvPr id="102" name=""/>
            <p:cNvSpPr/>
            <p:nvPr/>
          </p:nvSpPr>
          <p:spPr>
            <a:xfrm>
              <a:off x="7086600" y="1447920"/>
              <a:ext cx="15238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1523880"/>
              <a:ext cx="1371600" cy="990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13680" y="1565280"/>
              <a:ext cx="11430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30840" y="15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580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810720" indent="-2826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d = 1.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i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.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υ δεν περιέχουν μια τιμή κάποιου απλού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ά τ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εύθυν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ιας άλλη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10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14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19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ικτοδότηση: 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διεύθυνση μια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εικτοδότηση: *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εριεχόμενο μιας διεύθυν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24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28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33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ή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4200" y="1752480"/>
            <a:ext cx="2816280" cy="3609360"/>
            <a:chOff x="5794200" y="1752480"/>
            <a:chExt cx="2816280" cy="3609360"/>
          </a:xfrm>
        </p:grpSpPr>
        <p:sp>
          <p:nvSpPr>
            <p:cNvPr id="138" name=""/>
            <p:cNvSpPr/>
            <p:nvPr/>
          </p:nvSpPr>
          <p:spPr>
            <a:xfrm>
              <a:off x="6934320" y="4826160"/>
              <a:ext cx="167616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57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8760" y="4902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9400" y="215892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30840" y="175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4200" y="2235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9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266688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4200" y="274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980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320040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4200" y="3276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70520" y="325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392960" y="2437920"/>
            <a:ext cx="781200" cy="2898720"/>
            <a:chOff x="7392960" y="2437920"/>
            <a:chExt cx="781200" cy="2898720"/>
          </a:xfrm>
        </p:grpSpPr>
        <p:sp>
          <p:nvSpPr>
            <p:cNvPr id="152" name=""/>
            <p:cNvSpPr/>
            <p:nvPr/>
          </p:nvSpPr>
          <p:spPr>
            <a:xfrm>
              <a:off x="7392960" y="4876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467120" y="2438280"/>
              <a:ext cx="381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848720" y="2437920"/>
              <a:ext cx="0" cy="2514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a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(p+1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p+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υναμία πινάκων και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πίνακας είναι ένας δείκτης στο πρώτο στοιχείο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ισοδύναμο με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(a+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πίνακες όμως είναι σταθεροί δείκτες, δηλαδή δεν μπορούν να αλλάξουν τι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++;  /* correc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  /* wrong!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1T08:32:56Z</dcterms:modified>
  <cp:revision>51</cp:revision>
  <dc:subject>Προγραμματιστικές Τεχνικές</dc:subject>
  <dc:title>Διαφάνειες παρουσίασης</dc:title>
</cp:coreProperties>
</file>