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6095-DF09-44C3-AFCA-78263D67D16E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7FEF-55A7-4286-A2BF-06C86EBF4C7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4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ως ΑΤΔ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ναζήτηση σε πίνακ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αξινόμηση πινάκ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τύπ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αριθμή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υαδι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 πίνακας πρέπει να είναι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ταξινομημέν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log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287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918960" y="3580920"/>
            <a:ext cx="537480" cy="688680"/>
            <a:chOff x="3918960" y="3580920"/>
            <a:chExt cx="537480" cy="688680"/>
          </a:xfrm>
        </p:grpSpPr>
        <p:sp>
          <p:nvSpPr>
            <p:cNvPr id="297" name=""/>
            <p:cNvSpPr/>
            <p:nvPr/>
          </p:nvSpPr>
          <p:spPr>
            <a:xfrm flipV="1">
              <a:off x="4191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189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452480" y="3580920"/>
            <a:ext cx="537480" cy="688680"/>
            <a:chOff x="4452480" y="3580920"/>
            <a:chExt cx="537480" cy="688680"/>
          </a:xfrm>
        </p:grpSpPr>
        <p:sp>
          <p:nvSpPr>
            <p:cNvPr id="300" name=""/>
            <p:cNvSpPr/>
            <p:nvPr/>
          </p:nvSpPr>
          <p:spPr>
            <a:xfrm flipV="1">
              <a:off x="47242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4524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986000" y="3580920"/>
            <a:ext cx="537480" cy="688680"/>
            <a:chOff x="4986000" y="3580920"/>
            <a:chExt cx="537480" cy="688680"/>
          </a:xfrm>
        </p:grpSpPr>
        <p:sp>
          <p:nvSpPr>
            <p:cNvPr id="303" name=""/>
            <p:cNvSpPr/>
            <p:nvPr/>
          </p:nvSpPr>
          <p:spPr>
            <a:xfrm flipV="1">
              <a:off x="52578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860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68580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ες μέθοδοι αναζήτηση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ικρότερο κόστος  </a:t>
            </a:r>
            <a:r>
              <a:rPr b="0" lang="el-GR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περισσότερος χώρος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ίνακες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κατακερματισμού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ash tabl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selec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βρες το μικρότερο των στοιχείων μετά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έ το με το 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l-GR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φρουρό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πιλο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s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0; i &lt; n-1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min = a[i], minj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+1; j &lt; n; j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a[j] &lt; mi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min = a[minj = 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minj]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mi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insertion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ρησιμοποιούμε αυτό τον τρόπο όταν ταξινομούμε τα χαρτιά μιας τράπουλα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από το δεύτερο και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ποθέτησε τ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στη σωστή του θέση</a:t>
            </a:r>
            <a:br>
              <a:rPr sz="2400"/>
            </a:b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μεταξύ των στοιχείων που είναι πριν από αυτό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ιχείο φρουρό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υαδική εισαγωγ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εισαγωγή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i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1; i &lt; n; i++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j = i-1; j &gt;= 0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x &lt; a[j]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+1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bubble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 κατ’ αύξ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για κάθε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κατά φθίνουσα σει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 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τιμετάθεσε τα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1]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 και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ιώσεις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αματά αν σε ένα πέρασμα δεν γίνει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ε ποιο σημείο έγινε η τελευταία αντιμετάθεσ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λλαγή κατεύθυνσης μεταξύ διαδοχικών περασμάτων </a:t>
            </a:r>
            <a:r>
              <a:rPr b="0" lang="el-GR" sz="24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hake sor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φυσαλίδας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b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j = n-1; j &gt; i; j--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j-1] &gt; a[j]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a[j-1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-1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αξινόμηση με διαμέριση </a:t>
            </a:r>
            <a:r>
              <a:rPr b="0" lang="el-GR" sz="32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quick sort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Ιδέα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λεξε ένα τυχαίο στοιχείο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ου πίνακ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αμέρισε τον πίνακα, μεταφέροντας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ικρό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ην αρχ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204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–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α στοιχεία μεγαλύτερα του </a:t>
            </a: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το τέλο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ναδρομικά, ταξινόμησε τα δύο μέρη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100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τη χειρότερη περίπτωση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r>
              <a:rPr b="0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ατά μέσο όρο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 (int a[], int 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0, n-1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void qsort_auxil (int a[], int lowe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   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upp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lower &lt; upper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x = a[(lower + upper) / 2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, j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for (i = lower, j = uppe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 &lt;= j; i++, j--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i] &lt; x)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while (a[j] &gt; x) j--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Quick sort, 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συνέχεια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f (i &lt;= j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temp = a[i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i] = a[j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a[j]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lower, j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qsort_auxil(a, i, upper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Βασική πράξη: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προσπέλαση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στοιχεί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[i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ήθως υλοποιούνται με κάποιο ΣΤΔ πινάκων (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rray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 προσπέλαση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ΣΤΔ του </a:t>
            </a:r>
            <a:r>
              <a:rPr b="0" lang="el-GR" sz="3200" spc="-1" strike="noStrike">
                <a:solidFill>
                  <a:srgbClr val="660066"/>
                </a:solidFill>
                <a:latin typeface="Times New Roman"/>
              </a:rPr>
              <a:t>μονοδιάστατου πίνακα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επαρκεί για την υλοποίηση κάθε ΑΤΔ πίνακ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Συνάρτηση  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loc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πολογίζει τη θέση ενός στοιχείου του ΑΤΔ πίνακα στο μονοδιάστατο ΣΤΔ πίνακα της υλοποίη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αξινόμηση πινάκων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x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Άλλοι τρόποι ταξινόμη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του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hell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hell sort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6600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σε σωρό </a:t>
            </a:r>
            <a:r>
              <a:rPr b="0" lang="el-GR" sz="28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heap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ξινόμηση με συγχώνευση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rge sort),</a:t>
            </a:r>
            <a:br>
              <a:rPr sz="2800"/>
            </a:b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Ο(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 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log</a:t>
            </a:r>
            <a:r>
              <a:rPr b="0" i="1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οί τύπ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απλώ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double re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al x,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νώνυμα σύνθετων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typedef double vector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ector v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for (i = 0; i &lt; 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333333"/>
                </a:solidFill>
                <a:latin typeface="Courier New"/>
              </a:rPr>
              <a:t>v[i] 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παριθμήσεις (enumerat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num color_tag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 = GREE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enum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GREEN, RED, BLUE, WHITE, BL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colo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lor c = WHIT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πίνακα δύο διαστάσεων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11480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ίθμηση κατά στήλ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720" y="2057400"/>
            <a:ext cx="5526360" cy="1831320"/>
            <a:chOff x="2286720" y="2057400"/>
            <a:chExt cx="5526360" cy="1831320"/>
          </a:xfrm>
        </p:grpSpPr>
        <p:sp>
          <p:nvSpPr>
            <p:cNvPr id="93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672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9620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116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43400" y="34290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72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80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454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4520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53040" y="22860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6120" y="2743200"/>
              <a:ext cx="8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κάτω τριγωνικ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– 1) / 2 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μοίως για συμμετρικούς πίνακε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127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τριδιαγώνιου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4952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660066"/>
                </a:solidFill>
                <a:latin typeface="Times New Roman"/>
              </a:rPr>
              <a:t>loc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)  =  2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i="1" lang="el-GR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720" y="2057400"/>
            <a:ext cx="4849200" cy="2745720"/>
            <a:chOff x="2286720" y="2057400"/>
            <a:chExt cx="4849200" cy="2745720"/>
          </a:xfrm>
        </p:grpSpPr>
        <p:sp>
          <p:nvSpPr>
            <p:cNvPr id="168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96200" y="4343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1168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43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7872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80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520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5920" y="29718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4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39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00600" y="38862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34120" y="38862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0436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ως ΑΤΔ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v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ΤΔ αραιού πίνακα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44197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δυαδικό πίνακα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Υλοποίηση με τρεις πίνα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row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2, 3, 3, 4 ]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co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1, 3, 2, 3, 5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val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[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]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286720" y="2057400"/>
            <a:ext cx="4951080" cy="2288520"/>
            <a:chOff x="2286720" y="2057400"/>
            <a:chExt cx="4951080" cy="2288520"/>
          </a:xfrm>
        </p:grpSpPr>
        <p:sp>
          <p:nvSpPr>
            <p:cNvPr id="209" name=""/>
            <p:cNvSpPr/>
            <p:nvPr/>
          </p:nvSpPr>
          <p:spPr>
            <a:xfrm>
              <a:off x="32004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39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6708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20574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34120" y="20574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04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339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708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0600" y="25146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34120" y="25146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004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39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29718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4120" y="29718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720" y="20574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02560" y="25146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04360" y="29718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6200" y="38862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j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1168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43400" y="3886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872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80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5200" y="3886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26640" y="2514600"/>
              <a:ext cx="8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39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00600" y="342900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342900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33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2560" y="3429000"/>
              <a:ext cx="7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i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= 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7360" y="2971800"/>
              <a:ext cx="9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m = 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ειριακή αναζήτ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α στοιχεία διατρέχονται κατά σειρά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Κόστος: 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O(</a:t>
            </a:r>
            <a:r>
              <a:rPr b="0" i="1" lang="en-US" sz="28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286000" y="2895480"/>
            <a:ext cx="5671080" cy="825480"/>
            <a:chOff x="2286000" y="2895480"/>
            <a:chExt cx="5671080" cy="825480"/>
          </a:xfrm>
        </p:grpSpPr>
        <p:sp>
          <p:nvSpPr>
            <p:cNvPr id="244" name=""/>
            <p:cNvSpPr/>
            <p:nvPr/>
          </p:nvSpPr>
          <p:spPr>
            <a:xfrm>
              <a:off x="22860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526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862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197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288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6400" y="312408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19920" y="312408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11360" y="2895480"/>
              <a:ext cx="94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287080" y="3580920"/>
            <a:ext cx="537480" cy="688680"/>
            <a:chOff x="2287080" y="3580920"/>
            <a:chExt cx="537480" cy="688680"/>
          </a:xfrm>
        </p:grpSpPr>
        <p:sp>
          <p:nvSpPr>
            <p:cNvPr id="254" name=""/>
            <p:cNvSpPr/>
            <p:nvPr/>
          </p:nvSpPr>
          <p:spPr>
            <a:xfrm flipV="1">
              <a:off x="25588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70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1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353760" y="3580920"/>
            <a:ext cx="537480" cy="688680"/>
            <a:chOff x="3353760" y="3580920"/>
            <a:chExt cx="537480" cy="688680"/>
          </a:xfrm>
        </p:grpSpPr>
        <p:sp>
          <p:nvSpPr>
            <p:cNvPr id="257" name=""/>
            <p:cNvSpPr/>
            <p:nvPr/>
          </p:nvSpPr>
          <p:spPr>
            <a:xfrm flipV="1">
              <a:off x="362556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376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3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820600" y="3580920"/>
            <a:ext cx="537480" cy="688680"/>
            <a:chOff x="2820600" y="3580920"/>
            <a:chExt cx="537480" cy="688680"/>
          </a:xfrm>
        </p:grpSpPr>
        <p:sp>
          <p:nvSpPr>
            <p:cNvPr id="260" name=""/>
            <p:cNvSpPr/>
            <p:nvPr/>
          </p:nvSpPr>
          <p:spPr>
            <a:xfrm flipV="1">
              <a:off x="309240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2060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2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87280" y="3580920"/>
            <a:ext cx="537480" cy="688680"/>
            <a:chOff x="3887280" y="3580920"/>
            <a:chExt cx="537480" cy="688680"/>
          </a:xfrm>
        </p:grpSpPr>
        <p:sp>
          <p:nvSpPr>
            <p:cNvPr id="263" name=""/>
            <p:cNvSpPr/>
            <p:nvPr/>
          </p:nvSpPr>
          <p:spPr>
            <a:xfrm flipV="1">
              <a:off x="415908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728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4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414320" y="3580920"/>
            <a:ext cx="537480" cy="688680"/>
            <a:chOff x="4414320" y="3580920"/>
            <a:chExt cx="537480" cy="688680"/>
          </a:xfrm>
        </p:grpSpPr>
        <p:sp>
          <p:nvSpPr>
            <p:cNvPr id="266" name=""/>
            <p:cNvSpPr/>
            <p:nvPr/>
          </p:nvSpPr>
          <p:spPr>
            <a:xfrm flipV="1">
              <a:off x="4686120" y="3580920"/>
              <a:ext cx="0" cy="3049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4320" y="3809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(5)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685800" y="44956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Βελτίωση: στοιχείο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φρουρός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” (sentine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286000" y="5045040"/>
            <a:ext cx="5992920" cy="825480"/>
            <a:chOff x="2286000" y="5045040"/>
            <a:chExt cx="5992920" cy="825480"/>
          </a:xfrm>
        </p:grpSpPr>
        <p:sp>
          <p:nvSpPr>
            <p:cNvPr id="270" name=""/>
            <p:cNvSpPr/>
            <p:nvPr/>
          </p:nvSpPr>
          <p:spPr>
            <a:xfrm>
              <a:off x="22860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26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862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197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99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486400" y="5273640"/>
              <a:ext cx="53352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5273640"/>
              <a:ext cx="533160" cy="457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68920" y="5045040"/>
              <a:ext cx="81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8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660066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660066"/>
                  </a:solidFill>
                  <a:latin typeface="Times New Roman"/>
                </a:rPr>
                <a:t> = 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6553080" y="5270400"/>
            <a:ext cx="533520" cy="457200"/>
          </a:xfrm>
          <a:prstGeom prst="rect">
            <a:avLst/>
          </a:prstGeom>
          <a:solidFill>
            <a:srgbClr val="ffcccc"/>
          </a:solidFill>
          <a:ln w="190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ssearch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i &lt; n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[i] ==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Αναζήτηση σε πίνακ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λοποίηση σε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με φρουρό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search_s (int a[], int n, int x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n]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 = 0; a[i] != x; i++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(i &lt; n) ? i : -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29T18:39:58Z</dcterms:modified>
  <cp:revision>45</cp:revision>
  <dc:subject>Προγραμματιστικές Τεχνικές</dc:subject>
  <dc:title>Διαφάνειες παρουσίασης</dc:title>
</cp:coreProperties>
</file>